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  <p:sldId id="337" r:id="rId99"/>
    <p:sldId id="338" r:id="rId100"/>
    <p:sldId id="339" r:id="rId101"/>
    <p:sldId id="340" r:id="rId102"/>
    <p:sldId id="341" r:id="rId103"/>
    <p:sldId id="342" r:id="rId104"/>
    <p:sldId id="343" r:id="rId105"/>
    <p:sldId id="344" r:id="rId106"/>
    <p:sldId id="345" r:id="rId107"/>
    <p:sldId id="346" r:id="rId108"/>
    <p:sldId id="347" r:id="rId109"/>
    <p:sldId id="348" r:id="rId110"/>
    <p:sldId id="349" r:id="rId111"/>
    <p:sldId id="350" r:id="rId112"/>
    <p:sldId id="351" r:id="rId113"/>
    <p:sldId id="352" r:id="rId114"/>
    <p:sldId id="353" r:id="rId115"/>
    <p:sldId id="354" r:id="rId116"/>
    <p:sldId id="355" r:id="rId117"/>
    <p:sldId id="356" r:id="rId118"/>
    <p:sldId id="357" r:id="rId119"/>
    <p:sldId id="358" r:id="rId120"/>
    <p:sldId id="359" r:id="rId121"/>
    <p:sldId id="360" r:id="rId122"/>
    <p:sldId id="361" r:id="rId123"/>
    <p:sldId id="362" r:id="rId124"/>
    <p:sldId id="363" r:id="rId125"/>
    <p:sldId id="364" r:id="rId1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slide" Target="slides/slide82.xml"/><Relationship Id="rId100" Type="http://schemas.openxmlformats.org/officeDocument/2006/relationships/slide" Target="slides/slide83.xml"/><Relationship Id="rId101" Type="http://schemas.openxmlformats.org/officeDocument/2006/relationships/slide" Target="slides/slide84.xml"/><Relationship Id="rId102" Type="http://schemas.openxmlformats.org/officeDocument/2006/relationships/slide" Target="slides/slide85.xml"/><Relationship Id="rId103" Type="http://schemas.openxmlformats.org/officeDocument/2006/relationships/slide" Target="slides/slide86.xml"/><Relationship Id="rId104" Type="http://schemas.openxmlformats.org/officeDocument/2006/relationships/slide" Target="slides/slide87.xml"/><Relationship Id="rId105" Type="http://schemas.openxmlformats.org/officeDocument/2006/relationships/slide" Target="slides/slide88.xml"/><Relationship Id="rId106" Type="http://schemas.openxmlformats.org/officeDocument/2006/relationships/slide" Target="slides/slide89.xml"/><Relationship Id="rId107" Type="http://schemas.openxmlformats.org/officeDocument/2006/relationships/slide" Target="slides/slide90.xml"/><Relationship Id="rId108" Type="http://schemas.openxmlformats.org/officeDocument/2006/relationships/slide" Target="slides/slide91.xml"/><Relationship Id="rId109" Type="http://schemas.openxmlformats.org/officeDocument/2006/relationships/slide" Target="slides/slide92.xml"/><Relationship Id="rId110" Type="http://schemas.openxmlformats.org/officeDocument/2006/relationships/slide" Target="slides/slide93.xml"/><Relationship Id="rId111" Type="http://schemas.openxmlformats.org/officeDocument/2006/relationships/slide" Target="slides/slide94.xml"/><Relationship Id="rId112" Type="http://schemas.openxmlformats.org/officeDocument/2006/relationships/slide" Target="slides/slide95.xml"/><Relationship Id="rId113" Type="http://schemas.openxmlformats.org/officeDocument/2006/relationships/slide" Target="slides/slide96.xml"/><Relationship Id="rId114" Type="http://schemas.openxmlformats.org/officeDocument/2006/relationships/slide" Target="slides/slide97.xml"/><Relationship Id="rId115" Type="http://schemas.openxmlformats.org/officeDocument/2006/relationships/slide" Target="slides/slide98.xml"/><Relationship Id="rId116" Type="http://schemas.openxmlformats.org/officeDocument/2006/relationships/slide" Target="slides/slide99.xml"/><Relationship Id="rId117" Type="http://schemas.openxmlformats.org/officeDocument/2006/relationships/slide" Target="slides/slide100.xml"/><Relationship Id="rId118" Type="http://schemas.openxmlformats.org/officeDocument/2006/relationships/slide" Target="slides/slide101.xml"/><Relationship Id="rId119" Type="http://schemas.openxmlformats.org/officeDocument/2006/relationships/slide" Target="slides/slide102.xml"/><Relationship Id="rId120" Type="http://schemas.openxmlformats.org/officeDocument/2006/relationships/slide" Target="slides/slide103.xml"/><Relationship Id="rId121" Type="http://schemas.openxmlformats.org/officeDocument/2006/relationships/slide" Target="slides/slide104.xml"/><Relationship Id="rId122" Type="http://schemas.openxmlformats.org/officeDocument/2006/relationships/slide" Target="slides/slide105.xml"/><Relationship Id="rId123" Type="http://schemas.openxmlformats.org/officeDocument/2006/relationships/slide" Target="slides/slide106.xml"/><Relationship Id="rId124" Type="http://schemas.openxmlformats.org/officeDocument/2006/relationships/slide" Target="slides/slide107.xml"/><Relationship Id="rId125" Type="http://schemas.openxmlformats.org/officeDocument/2006/relationships/slide" Target="slides/slide108.xml"/><Relationship Id="rId126" Type="http://schemas.openxmlformats.org/officeDocument/2006/relationships/slide" Target="slides/slide10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DF28B-A0E1-473B-ABFE-9B43F42A8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7B99A-AFDE-45D5-857C-ACD1F7BB7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59062-74F4-4474-87DF-6B1C9FBDF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5B105-C2CB-4D64-8989-306E10005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AA6A5-C8F2-4209-9B9F-F79FB1575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D35EF-3818-46EC-B187-B48952FC8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A644B-92AB-48D5-945D-CCC6C71DD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E08C1-C156-4D14-BC0B-6820DABF1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22BAE-96EB-46DB-8E85-A6FE3C376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C3D1F-CD2F-424E-9259-42FC4CF67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E27BA-0D98-4825-AD38-8F649493D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31250-7FAD-416D-ABF3-2BCDA8A8F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08336-F6E0-4774-9471-D69BF91DD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045B3-8E59-496D-A9EE-E7B6E3222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BAC28-C704-4EF0-9286-3EEF8AEE7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34970-6CBB-46E0-BD95-3503393989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34AE6-91EE-4FA3-ABAC-5F4420AB1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B4675-82DB-4A21-AEE0-FA48257CA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A702D-4DBC-4680-AD9F-9DA61D09A3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B36EC-1AAC-4D23-A74D-9DBF32FC6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5D8C4-6F8A-4D69-B229-CFB0B263E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60BD2-3E3B-4EE1-AEDA-C7D00D8C0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CD8E7-E445-4CD8-8C9E-45472D641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A2B30-0B2E-45E4-BE65-976B36D0C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0FEB5-DA55-47A6-A769-968724048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A1605-31CC-4322-A103-83B5D8E41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3A7C5-8DA7-46E0-A6F8-0748000B6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956D0-F232-4F60-BED6-5E103F032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34B03-BC31-49F7-A598-542A13828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85FA6-60E8-4EF7-BCEE-C98AE31D6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6E18C-962A-4819-8DB0-EE00BA285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CB60-DFBE-4B69-9CC2-21BF6DC2E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5BFB8-667C-4DA6-A08B-48583ADAC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F40E0-901C-481A-9AFF-7E4F68C2D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C08B-899B-4398-897C-F6C6675F6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3F20-D802-4326-A046-6BD98650F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22C3B-4AAC-4C4C-B7CC-1E2E9B7A6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CF06A-0231-4BC8-BD49-2B330021B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ABF0D-1AF7-454B-AF8B-959300754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72BD3-D5A5-47A3-8B4D-A9B46281B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C449B-98BE-421C-8674-60D7B30BC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40C02-690A-4CBF-A362-D61828B30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D70A1-5715-49F3-B2BC-1D5BF72A7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64FE1-CC3E-4718-8BA3-0911FAD4F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65F85-CDBB-4EFF-8612-B4C3EF2BE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B9C2D-07E2-43A1-98AB-70B9613B2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0936E-CD9B-49A4-800A-CB8851747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25D34-EE82-4EC1-8FF1-ADAC05578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6E769-D329-4852-8718-5F2D7037B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E0A4-18D7-4F79-957A-CC55173D2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DCC80-A3C9-4D0C-A2DB-1B24EC0EB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D4884-A5A0-443A-BB01-21ECA24D5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E79F0-FFAF-4AEA-8B18-B56E1CAB4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1947-94C3-430C-A3B6-52B668836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76ECF-5AA5-425D-AC4A-43A365C99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587E-24F6-445E-BB19-CD97F7F35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758D-7F05-43E1-8474-B465E6494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BC46D-7C0E-4AB5-BA71-868FE6E0A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08321-DA88-4E82-8DB1-3DA3D629A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C8D5F-2D3C-40B3-9A79-40A713E02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F2B1-B5F1-4AEA-B16F-3F1292BF2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3AF95-14D5-4536-A4A6-05725F275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E550A-86CF-44D6-A0AE-9BA015D4B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1C381-1A91-4BAA-A8C2-BE462A90B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5F483-409A-4623-A9CC-29F52849C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726E7-B1E6-4F45-A4DC-22DEB45C2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584CB-935A-4C57-9E00-7498A4EE9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91100-1176-46C9-A818-A092EDC1B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E511A-5217-45F2-9B5C-0AD290213C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163BD-494E-41D7-81ED-FB463FE95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F19E-1850-4C17-B6CA-E17C21E69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905FD-3C27-4EB9-BD4E-F1AC211D1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CEE33-8892-43FC-8F8C-F2B172583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62A99-7FBE-4040-B756-7605B1046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9F350-0099-4911-BD41-2FDDB2F87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1BD4-727E-458E-A9D0-A519AEAA4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5B41C-F95C-4460-B63F-6DFA180A8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FD5DD-0F01-420F-B03D-DC0EE0925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4AAAC-B0A7-45A6-9FFD-054ED4EC9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ED992-6FC3-4BC0-AB03-920859B04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093C8-7655-4081-B652-E76AF36E5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3229F-9C7A-477D-9EF9-87E58D8D3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C85F0-8B11-481F-A8D2-402E5F2C2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ABB5B-3C92-47AD-8BA7-B6DE4C0C3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34EBE-1EE3-47A9-9BC5-D1192861D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D8431-5376-4D6C-90AD-0FEDE4CAF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DEF54-2BAE-43F4-B58C-E2029E003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A8A28-4C4E-48F1-AE83-180121375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060D-EB7D-4CC0-AD82-5730EE0A4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A6958-567B-40C0-84AF-9CC9B106A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12D-A0F6-471B-B1DB-57090583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23-EF2D-400D-83C9-6A19CE0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F6144-CB3F-4189-8768-F860ADE6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480BF-E2A7-4F2B-BAAC-8672E81B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6E151-7ADB-407F-A174-81B0D796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5AD19-C2DF-4EAA-9635-C3656DC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B739-A551-4E14-8389-B94E62A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3193-6BC0-4D75-94E4-31FFB9D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E3643-C9D6-49C6-83E3-529DB36E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05C9-0EA8-4CC5-A5EF-932985CA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6FA86-657A-4C42-BDCA-E1A6F3FA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FF1B4-B9F4-4C4E-891B-4A3172AF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798-F2A8-4D94-B6EC-F4C5C49F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1E573-9033-4221-B45A-4141B43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965E-5452-4155-8FEE-8B5F8592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0E3D4-984A-4278-9ED3-074B1334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EFC31-A30F-4857-A7CF-EE13BF03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E34A-861E-4FD5-9CF6-2DD003F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516F2-CD15-4212-A17D-4ACB0DA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F897E-D79A-4584-819F-4078354F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D25D9-94DE-485C-AE78-DA5D9B4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33C33-8FF7-4BBD-A007-C688807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DDA36-531F-4F26-B887-71F58548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2BE-030A-498B-B294-68DFBD52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BE692-E4EC-4FD7-84F0-43F9296B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5621-9119-4740-BA3F-7A1060E8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47E9D-C91C-408D-90B8-A528EFBC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26C9F-B4A3-4D7B-BA34-5A403ECC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E7FC-298B-4534-A4C5-C7E05ECE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B88B-9806-4AAE-B7A1-8654AB37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3B88-DC1C-42B0-8A37-223B04E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99AB1-3085-4599-B877-CC32C25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274A-7417-4CD0-9761-2B46347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85093-B80B-4383-81DE-7496D3E6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43FE-77CA-4435-A747-C748643C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F9E26-B4E6-4CEF-AF88-56B6382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DE93-26C3-419F-8CDE-F95F38BC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77972-B113-4B7D-90B7-16AE1D7D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16657-3C91-48CC-8F69-00072EDA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38B7F-7329-4F95-92DB-DDE06582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8F8AD-93DD-41A4-B4D0-1ADA4D4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DE104-76BA-4009-AED3-9BA676E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B5B19-3BD0-49C5-9951-17DA606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C88E5-1A58-4F78-BF03-347F85D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02300-5DAF-454B-9BA3-4802327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3B9-61C8-41D6-8980-416A10BB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6E70C-7A00-408F-A793-5D49B859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4F8EF-88DC-41D2-A646-0A402AD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D7C12-EC80-4071-8405-E943734F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CE2EB-2E73-434D-AFD8-8664AA8F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FE681-584A-4F83-90E3-9A0A8507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06F6E-CADA-4DE0-80AD-10450D93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2E8B4-8A7C-418A-B317-3586CCA2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2ADDF-C5C5-4F4C-9411-74C334DE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794A4-3BCE-42BB-BB92-8BC42AE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03368-D07D-4CA5-AB56-1E100B4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B46C-B474-40F2-A4DF-905E9BD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9B132-9363-42E1-83C6-5D6721EE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82C25-72E3-4D32-961D-287AF31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4796A-13EB-40B3-A07A-ED106C62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787CE-0070-45DF-B9DA-EFB73CF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3292B-44C4-435F-8B2F-85328058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CB834-C422-4952-A3DA-C28761B2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6898A-772D-4BE0-8477-F4E127F9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AF73E-253E-4004-A634-DFDC7767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73B90-D029-4A4D-8808-0F53D3CB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BCE01-7275-4607-95BE-7468AEC5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D54-77C8-43E7-B6B4-5DFC71ED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B5C64-3495-46AC-8870-0B25CBEB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FE679-5A89-47B0-B615-05C4B205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76E7F-692E-4401-8E3A-F757A5D9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FF829-0646-423C-96D9-1AF2520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C8457-0927-4DFC-A67B-E35E31E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06ACB-9B7A-4F69-BE98-5E8EC62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71971-527B-476A-AB71-E24564A6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7AD1E-89A9-4F85-8B8E-6BAD8394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0F2483-671D-445D-9E18-6769056D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1A07D-827E-4CC7-9427-D22D461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972A-3539-4B37-910F-3A57A89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3E81A-CAC7-4A30-90DE-C33B2C26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AD7AF1-81CD-439A-8686-CB83EC2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210C7-B2B4-440E-8049-DA873C77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C9B1C-79BE-445D-B455-74D2490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E28FF-51CC-4732-8A97-F64E234C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5800F-D615-4A59-9BC6-7168630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8A4BC-9D9E-4871-BD40-B9BACA2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D9671-6E50-4C9B-99C8-886B837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3A3FC-F8FF-4360-84D0-1F5BD65E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44C1F-7154-45B8-9F9B-0D04FC23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DEE1-3091-4538-A30C-10DA21B8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39359-31AB-4F48-A364-B5D5F2DD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CC3E-FA8B-4044-90BE-EA3BE7F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9EF-EB19-488E-A471-792E6A3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90B7-D93C-4D9E-8EBC-9FB79203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8C4-30AE-4D2B-99EC-7634C6B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37E4-9835-46B9-A915-9202A4A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B6B5-2529-4EB3-B8AE-42887F70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2737-A5D6-424D-99CB-8A51C644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C078-31C1-4942-9C4C-F5CB4384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7655-9344-49F4-8278-656F22FC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8463-99C3-4D14-A93C-BB9E32D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A48D-D121-4D48-8ABE-869BE2F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AB7A-8CCC-43A6-AC19-61D9208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758-1C31-43B0-9676-6A19E644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FC46-F853-4AD1-A30E-22EC864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7242-047F-4E4C-AE77-8B80C118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638B-DE4E-47A5-959F-B5D325D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F904-3CB6-41FF-A5EA-CDA9363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81A8-15F0-4AA9-BD97-7D8A0EE9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3308-6CBC-4384-8318-7FF255A3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7978-98BC-4735-B663-1F4272F5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FFD0-9EF0-4FEF-9466-952C482B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3347-CC00-40A3-A920-B286D3BF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8332-37CC-4008-A926-B66711E5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61E-F748-4F60-8130-BD882A6A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ACAC-92A7-48AA-A12F-935B6B3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8535-FD82-4637-9D3E-94518D5B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1190E-12B5-4ED0-94F2-A1126F23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00F4-0F0D-4A0B-AFDC-4EBD01D8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12FB-D74E-4358-B220-0EB61E8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3777-19BA-44F2-BB73-FACCF635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8025-5386-451F-9504-E33D2DEA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5681D-F6DC-4A89-86AE-517D8609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70E2-5A12-4979-A110-57675705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AAABD-0ADE-4CDE-B1DA-5CB1D0EB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267-BD63-4882-B1A3-4FA4F969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3F3D-12DB-4522-9560-BF66AA12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DB5E-562F-4206-A84A-3D4F08EC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7D94-3E96-465B-B803-9E60BA3E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184F-31E6-4AF5-ABC3-F1C26DE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9F97-D244-4299-9DB4-F27E884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02E64-546A-46A8-9854-3CA4329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EC95-64BF-4A6B-880B-45075AB3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BD15D-4C1A-4B04-A5B1-23A8ECF8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3E80-24F9-4C8E-B415-833A345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C0C3-D01E-41B2-98DC-808C096A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5F9-DA32-4E5B-9C3A-AD3EFC38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7E053-627A-468B-83EE-A8D5160E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4081F-2CD7-499F-8ABF-93BB2068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96927-5CE8-4454-9E60-118D2721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4782C-E23E-41D5-949F-35BD8E62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CA63B-6734-4778-965D-9BF1DFFE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A825-E018-4330-8854-C537A569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3B1D-68EB-40D4-9B19-13F36984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9BCCB-C429-48E7-9EEA-F6D56CD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E224-996A-4CA8-BEF3-3C47E8C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7CDC2-F32E-4AF6-861D-586D9299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F11-E674-4F32-9E2D-3C9325E0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DAF5A-37DC-4E53-A190-94F396D5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74BD-C306-4177-8B2B-9E6DDFC8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7DBE-2A3D-47FD-80D4-E5CA7423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202D-63AA-4922-90F4-E6CB97DF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7078-1593-4107-B314-9F2328D6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2A5C3-887F-4806-822B-B657E36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E853-1112-47C7-BD33-A4EF310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E80E0-4FEF-4F44-9AD6-D22F21F9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D38A-2939-4C4F-9D50-B1DAF1D1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E3B6-8A84-4951-94C8-6997F5D4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9E4-D3F4-4D0F-A8AE-B7545BE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C5C9-2BC7-4E5F-924D-3AFE276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E655-300D-4C81-898A-8B0537E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8AC9-3E39-464B-AE99-A5B7F4B3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9CD8-0C96-4013-865E-34CC3934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208D-636A-4CA5-B77D-FE902511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EABF1-8C2C-4D61-BF0D-814A17BF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0C9BE-4E56-42FC-B120-1CB5C933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02A21-BC4A-4FF4-8EEF-5338F28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9A858-A159-4A52-87E0-BBB85944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34CBA-F7CD-48BD-BCB5-DB45D590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AC4-4B68-49D7-AC94-95FB0A1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BE5E-8CEE-4789-B080-B0F8B59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B073-D2B9-48AA-8627-C6437A0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670A-88E0-4DBC-9C71-39309A1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42A67-9670-4AF0-A0BB-93D254DE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306C7-A6A5-4ED9-ACA8-BB72A50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ADBA-1C3F-40AB-9431-1FE2CC1A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5AA8-0161-495D-8223-9CB24F38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78FEF-96EB-4EB3-9137-70C3FBA6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80CE3-D24D-4E8C-A3A7-BB6F6F3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E6E84-03B3-400E-B068-3A88239E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F97-1A0B-41BE-93CF-BC6BEFACDE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3B068B-E0F0-47A7-B7F3-FCF3222626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343-2541-44E8-8ABF-61BE10B6D091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E1F53CEA-E55B-485F-BFF5-FE6542D2AC1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F0C-FBC7-4640-A6A1-4273B5BE4EE7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780285DF-3D2F-40F1-A38B-2D5188D4F5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6A33-60E3-45BD-B9AF-127702651AB6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1B525D69-6A5C-4FDD-8E67-34DF19FFAD7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B96-BC63-4062-8A25-924A80414C6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D6C5476C-61EF-40CC-AAB7-3BFA6EA2891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8DC-A373-45EE-BB4D-23E70516166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-</a:t>
            </a:r>
            <a:fld id="{3F6649DD-E6C0-4880-84FD-F18FB79B9F3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5DF2-1ACE-4D78-914C-2BB32798BE55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fld id="{A9D89DE2-556E-47ED-842A-87D42E4F962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AE4-4219-492D-A3A7-01B441B054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F9DAA3-25ED-497C-988B-BBD9E43368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AB6-3BD7-4554-85F5-549A5290CCA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8E324BB8-9DBF-449C-BC58-F8207FFE7AA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9C1F-F966-4521-AC37-52DD18DE272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C05DBEA-0C27-448F-8137-EBC9E41C2A7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9465-568B-4910-9B03-089B262208FD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8DF669F-3895-46B7-81AB-5E917DBF034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B8A8-A85F-4A99-A35E-F970287AE76A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983D86EC-76C9-4F1F-B8DC-34F7CC37791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283F-0B5F-47DC-BF71-C347EF00BBC0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13B0465D-1C47-445D-AE4C-2D47195ECD2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ED5-F4B4-4073-9F72-0AFD697EB80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159C33BA-AAB8-485E-B65E-B68CE9E2DD1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7D0-0D58-4482-9058-965462EEEFB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744B4565-F00E-4486-91C4-71AD1C49B0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8.png"/><Relationship Id="rId24" Type="http://schemas.openxmlformats.org/officeDocument/2006/relationships/image" Target="../media/image17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E2BC113A-C66C-427F-9C4F-61C026C32A76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6184800" y="3078000"/>
            <a:ext cx="2881440" cy="28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Gill Sans MT"/>
                <a:ea typeface="Arial"/>
              </a:rPr>
              <a:t>Computer Networking: A Top Down Approach </a:t>
            </a:r>
            <a:br>
              <a:rPr sz="28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6</a:t>
            </a:r>
            <a:r>
              <a:rPr b="0" lang="en-US" sz="2000" spc="-1" strike="noStrike" baseline="30000">
                <a:solidFill>
                  <a:srgbClr val="008000"/>
                </a:solidFill>
                <a:latin typeface="Gill Sans MT"/>
                <a:ea typeface="Arial"/>
              </a:rPr>
              <a:t>th</a:t>
            </a: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 edition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Jim Kurose, Keith Ross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Addison-Wesley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Gill Sans MT"/>
                <a:ea typeface="Arial"/>
              </a:rPr>
              <a:t>March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369720" y="3268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ote on the use of these pp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making these slides freely available to all (faculty, students, readers). The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372960" y="4267080"/>
            <a:ext cx="537840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material copyright 1996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" descr="6e_cover.jpg"/>
          <p:cNvPicPr/>
          <p:nvPr/>
        </p:nvPicPr>
        <p:blipFill>
          <a:blip r:embed="rId3"/>
          <a:stretch/>
        </p:blipFill>
        <p:spPr>
          <a:xfrm>
            <a:off x="6232680" y="511200"/>
            <a:ext cx="23065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0B51D7-5682-4E5A-87C4-9890762D09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5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5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26"/>
          <p:cNvSpPr/>
          <p:nvPr/>
        </p:nvSpPr>
        <p:spPr>
          <a:xfrm>
            <a:off x="1974960" y="3814920"/>
            <a:ext cx="1317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7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26"/>
          <p:cNvSpPr/>
          <p:nvPr/>
        </p:nvSpPr>
        <p:spPr>
          <a:xfrm>
            <a:off x="5637240" y="3786120"/>
            <a:ext cx="131760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9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90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90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1FF8480-8CA8-44D2-AC3E-48A2F919F1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TextBox 1"/>
          <p:cNvSpPr/>
          <p:nvPr/>
        </p:nvSpPr>
        <p:spPr>
          <a:xfrm>
            <a:off x="2735640" y="1650960"/>
            <a:ext cx="610596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socket.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et.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,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645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645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645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646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Straight Connector 39"/>
            <p:cNvSpPr/>
            <p:nvPr/>
          </p:nvSpPr>
          <p:spPr>
            <a:xfrm>
              <a:off x="2069640" y="4444200"/>
              <a:ext cx="6656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2" name="Group 55"/>
          <p:cNvGrpSpPr/>
          <p:nvPr/>
        </p:nvGrpSpPr>
        <p:grpSpPr>
          <a:xfrm>
            <a:off x="214200" y="5472000"/>
            <a:ext cx="2511360" cy="520200"/>
            <a:chOff x="214200" y="5472000"/>
            <a:chExt cx="2511360" cy="520200"/>
          </a:xfrm>
        </p:grpSpPr>
        <p:sp>
          <p:nvSpPr>
            <p:cNvPr id="6463" name="TextBox 61"/>
            <p:cNvSpPr/>
            <p:nvPr/>
          </p:nvSpPr>
          <p:spPr>
            <a:xfrm>
              <a:off x="214200" y="547200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Straight Connector 62"/>
            <p:cNvSpPr/>
            <p:nvPr/>
          </p:nvSpPr>
          <p:spPr>
            <a:xfrm>
              <a:off x="2229840" y="565776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5" name="Group 54"/>
          <p:cNvGrpSpPr/>
          <p:nvPr/>
        </p:nvGrpSpPr>
        <p:grpSpPr>
          <a:xfrm>
            <a:off x="-157320" y="4530600"/>
            <a:ext cx="2900520" cy="676440"/>
            <a:chOff x="-157320" y="4530600"/>
            <a:chExt cx="2900520" cy="676440"/>
          </a:xfrm>
        </p:grpSpPr>
        <p:sp>
          <p:nvSpPr>
            <p:cNvPr id="6466" name="TextBox 56"/>
            <p:cNvSpPr/>
            <p:nvPr/>
          </p:nvSpPr>
          <p:spPr>
            <a:xfrm>
              <a:off x="192600" y="464256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Straight Connector 59"/>
            <p:cNvSpPr/>
            <p:nvPr/>
          </p:nvSpPr>
          <p:spPr>
            <a:xfrm flipV="1">
              <a:off x="2415960" y="483048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TextBox 53"/>
            <p:cNvSpPr/>
            <p:nvPr/>
          </p:nvSpPr>
          <p:spPr>
            <a:xfrm>
              <a:off x="-157320" y="453060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6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6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6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6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536178-18D1-4268-AC72-D6BDE149F2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TextBox 1"/>
          <p:cNvSpPr/>
          <p:nvPr/>
        </p:nvSpPr>
        <p:spPr>
          <a:xfrm>
            <a:off x="2757960" y="1650960"/>
            <a:ext cx="6063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, 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647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647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648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648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648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9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6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6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6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7" dur="500"/>
                                        <p:tgtEl>
                                          <p:spTgt spid="6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" dur="500"/>
                                        <p:tgtEl>
                                          <p:spTgt spid="6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C26918-8373-4CF9-AB49-BF61957D1E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3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494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95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6" name="PlaceHolder 3"/>
          <p:cNvSpPr>
            <a:spLocks noGrp="1"/>
          </p:cNvSpPr>
          <p:nvPr>
            <p:ph/>
          </p:nvPr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7" name="Text Box 6"/>
          <p:cNvSpPr/>
          <p:nvPr/>
        </p:nvSpPr>
        <p:spPr>
          <a:xfrm>
            <a:off x="3830760" y="4964040"/>
            <a:ext cx="58500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8" name="Group 8"/>
          <p:cNvGrpSpPr/>
          <p:nvPr/>
        </p:nvGrpSpPr>
        <p:grpSpPr>
          <a:xfrm>
            <a:off x="3934440" y="4520160"/>
            <a:ext cx="4204080" cy="461520"/>
            <a:chOff x="3934440" y="4520160"/>
            <a:chExt cx="4204080" cy="461520"/>
          </a:xfrm>
        </p:grpSpPr>
        <p:sp>
          <p:nvSpPr>
            <p:cNvPr id="649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Text Box 10"/>
            <p:cNvSpPr/>
            <p:nvPr/>
          </p:nvSpPr>
          <p:spPr>
            <a:xfrm>
              <a:off x="3934440" y="4520160"/>
              <a:ext cx="42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AB8BDD8-24E6-4AFF-A771-77A108FF9F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50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650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650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650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2" name="Group 11"/>
          <p:cNvGrpSpPr/>
          <p:nvPr/>
        </p:nvGrpSpPr>
        <p:grpSpPr>
          <a:xfrm>
            <a:off x="5131800" y="3023280"/>
            <a:ext cx="2360880" cy="729360"/>
            <a:chOff x="5131800" y="3023280"/>
            <a:chExt cx="2360880" cy="729360"/>
          </a:xfrm>
        </p:grpSpPr>
        <p:sp>
          <p:nvSpPr>
            <p:cNvPr id="6513" name="Text Box 12"/>
            <p:cNvSpPr/>
            <p:nvPr/>
          </p:nvSpPr>
          <p:spPr>
            <a:xfrm>
              <a:off x="5131800" y="302328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5" name="Text Box 22"/>
          <p:cNvSpPr/>
          <p:nvPr/>
        </p:nvSpPr>
        <p:spPr>
          <a:xfrm>
            <a:off x="137160" y="1139040"/>
            <a:ext cx="47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Text Box 23"/>
          <p:cNvSpPr/>
          <p:nvPr/>
        </p:nvSpPr>
        <p:spPr>
          <a:xfrm>
            <a:off x="5162400" y="1134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7" name="Group 24"/>
          <p:cNvGrpSpPr/>
          <p:nvPr/>
        </p:nvGrpSpPr>
        <p:grpSpPr>
          <a:xfrm>
            <a:off x="2978280" y="3808440"/>
            <a:ext cx="4046760" cy="1371600"/>
            <a:chOff x="2978280" y="3808440"/>
            <a:chExt cx="4046760" cy="1371600"/>
          </a:xfrm>
        </p:grpSpPr>
        <p:sp>
          <p:nvSpPr>
            <p:cNvPr id="6518" name="Line 25"/>
            <p:cNvSpPr/>
            <p:nvPr/>
          </p:nvSpPr>
          <p:spPr>
            <a:xfrm flipH="1">
              <a:off x="6064560" y="4503600"/>
              <a:ext cx="936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9" name="Group 26"/>
            <p:cNvGrpSpPr/>
            <p:nvPr/>
          </p:nvGrpSpPr>
          <p:grpSpPr>
            <a:xfrm>
              <a:off x="2978280" y="3808440"/>
              <a:ext cx="4046760" cy="819000"/>
              <a:chOff x="2978280" y="3808440"/>
              <a:chExt cx="4046760" cy="819000"/>
            </a:xfrm>
          </p:grpSpPr>
          <p:sp>
            <p:nvSpPr>
              <p:cNvPr id="6520" name="Text Box 27"/>
              <p:cNvSpPr/>
              <p:nvPr/>
            </p:nvSpPr>
            <p:spPr>
              <a:xfrm>
                <a:off x="5334120" y="404388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1" name="Line 28"/>
              <p:cNvSpPr/>
              <p:nvPr/>
            </p:nvSpPr>
            <p:spPr>
              <a:xfrm>
                <a:off x="606456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2" name="Line 29"/>
              <p:cNvSpPr/>
              <p:nvPr/>
            </p:nvSpPr>
            <p:spPr>
              <a:xfrm flipH="1">
                <a:off x="2978280" y="4227480"/>
                <a:ext cx="240984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3" name="Group 30"/>
          <p:cNvGrpSpPr/>
          <p:nvPr/>
        </p:nvGrpSpPr>
        <p:grpSpPr>
          <a:xfrm>
            <a:off x="1343880" y="3903840"/>
            <a:ext cx="4100760" cy="1488600"/>
            <a:chOff x="1343880" y="3903840"/>
            <a:chExt cx="4100760" cy="1488600"/>
          </a:xfrm>
        </p:grpSpPr>
        <p:sp>
          <p:nvSpPr>
            <p:cNvPr id="6524" name="Text Box 31"/>
            <p:cNvSpPr/>
            <p:nvPr/>
          </p:nvSpPr>
          <p:spPr>
            <a:xfrm>
              <a:off x="134388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Text Box 32"/>
            <p:cNvSpPr/>
            <p:nvPr/>
          </p:nvSpPr>
          <p:spPr>
            <a:xfrm>
              <a:off x="139140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2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53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653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5" name="Group 53"/>
          <p:cNvGrpSpPr/>
          <p:nvPr/>
        </p:nvGrpSpPr>
        <p:grpSpPr>
          <a:xfrm>
            <a:off x="1298520" y="4251240"/>
            <a:ext cx="5443920" cy="1952280"/>
            <a:chOff x="1298520" y="4251240"/>
            <a:chExt cx="5443920" cy="1952280"/>
          </a:xfrm>
        </p:grpSpPr>
        <p:sp>
          <p:nvSpPr>
            <p:cNvPr id="6536" name="Text Box 15"/>
            <p:cNvSpPr/>
            <p:nvPr/>
          </p:nvSpPr>
          <p:spPr>
            <a:xfrm>
              <a:off x="135036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9" name="Group 18"/>
            <p:cNvGrpSpPr/>
            <p:nvPr/>
          </p:nvGrpSpPr>
          <p:grpSpPr>
            <a:xfrm>
              <a:off x="5360760" y="5102280"/>
              <a:ext cx="1381680" cy="1101240"/>
              <a:chOff x="5360760" y="5102280"/>
              <a:chExt cx="1381680" cy="1101240"/>
            </a:xfrm>
          </p:grpSpPr>
          <p:sp>
            <p:nvSpPr>
              <p:cNvPr id="6540" name="Text Box 19"/>
              <p:cNvSpPr/>
              <p:nvPr/>
            </p:nvSpPr>
            <p:spPr>
              <a:xfrm>
                <a:off x="536076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Text Box 20"/>
              <p:cNvSpPr/>
              <p:nvPr/>
            </p:nvSpPr>
            <p:spPr>
              <a:xfrm>
                <a:off x="540000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5" dur="500"/>
                                        <p:tgtEl>
                                          <p:spTgt spid="6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6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6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B1B61FD-7B72-436A-AEF1-D9E291EACE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From Server:’, modified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654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655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655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6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6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6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E0524CC-3C45-47F4-AB7F-FA1E0B0B1B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TextBox 1"/>
          <p:cNvSpPr/>
          <p:nvPr/>
        </p:nvSpPr>
        <p:spPr>
          <a:xfrm>
            <a:off x="2734200" y="1650960"/>
            <a:ext cx="59644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TextBox 2"/>
          <p:cNvSpPr/>
          <p:nvPr/>
        </p:nvSpPr>
        <p:spPr>
          <a:xfrm>
            <a:off x="2771280" y="116856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1" name="Group 13"/>
          <p:cNvGrpSpPr/>
          <p:nvPr/>
        </p:nvGrpSpPr>
        <p:grpSpPr>
          <a:xfrm>
            <a:off x="152280" y="2173320"/>
            <a:ext cx="2559240" cy="564480"/>
            <a:chOff x="152280" y="2173320"/>
            <a:chExt cx="2559240" cy="564480"/>
          </a:xfrm>
        </p:grpSpPr>
        <p:sp>
          <p:nvSpPr>
            <p:cNvPr id="6562" name="TextBox 31"/>
            <p:cNvSpPr/>
            <p:nvPr/>
          </p:nvSpPr>
          <p:spPr>
            <a:xfrm>
              <a:off x="152280" y="217332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Straight Connector 32"/>
            <p:cNvSpPr/>
            <p:nvPr/>
          </p:nvSpPr>
          <p:spPr>
            <a:xfrm>
              <a:off x="1695960" y="259560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4" name="Group 14"/>
          <p:cNvGrpSpPr/>
          <p:nvPr/>
        </p:nvGrpSpPr>
        <p:grpSpPr>
          <a:xfrm>
            <a:off x="131760" y="3036960"/>
            <a:ext cx="2540160" cy="520200"/>
            <a:chOff x="131760" y="3036960"/>
            <a:chExt cx="2540160" cy="520200"/>
          </a:xfrm>
        </p:grpSpPr>
        <p:sp>
          <p:nvSpPr>
            <p:cNvPr id="6565" name="TextBox 26"/>
            <p:cNvSpPr/>
            <p:nvPr/>
          </p:nvSpPr>
          <p:spPr>
            <a:xfrm>
              <a:off x="131760" y="303696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Straight Connector 30"/>
            <p:cNvSpPr/>
            <p:nvPr/>
          </p:nvSpPr>
          <p:spPr>
            <a:xfrm>
              <a:off x="1944720" y="332172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7" name="Group 15"/>
          <p:cNvGrpSpPr/>
          <p:nvPr/>
        </p:nvGrpSpPr>
        <p:grpSpPr>
          <a:xfrm>
            <a:off x="528480" y="3816360"/>
            <a:ext cx="2156040" cy="297000"/>
            <a:chOff x="528480" y="3816360"/>
            <a:chExt cx="2156040" cy="297000"/>
          </a:xfrm>
        </p:grpSpPr>
        <p:sp>
          <p:nvSpPr>
            <p:cNvPr id="6568" name="TextBox 34"/>
            <p:cNvSpPr/>
            <p:nvPr/>
          </p:nvSpPr>
          <p:spPr>
            <a:xfrm>
              <a:off x="528480" y="381636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Straight Connector 35"/>
            <p:cNvSpPr/>
            <p:nvPr/>
          </p:nvSpPr>
          <p:spPr>
            <a:xfrm flipV="1">
              <a:off x="1240560" y="406584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0" name="Group 17"/>
          <p:cNvGrpSpPr/>
          <p:nvPr/>
        </p:nvGrpSpPr>
        <p:grpSpPr>
          <a:xfrm>
            <a:off x="198360" y="4176720"/>
            <a:ext cx="2813040" cy="747360"/>
            <a:chOff x="198360" y="4176720"/>
            <a:chExt cx="2813040" cy="747360"/>
          </a:xfrm>
        </p:grpSpPr>
        <p:sp>
          <p:nvSpPr>
            <p:cNvPr id="6571" name="TextBox 36"/>
            <p:cNvSpPr/>
            <p:nvPr/>
          </p:nvSpPr>
          <p:spPr>
            <a:xfrm>
              <a:off x="198360" y="417672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Straight Connector 39"/>
            <p:cNvSpPr/>
            <p:nvPr/>
          </p:nvSpPr>
          <p:spPr>
            <a:xfrm flipV="1">
              <a:off x="2375280" y="444024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3" name="Group 18"/>
          <p:cNvGrpSpPr/>
          <p:nvPr/>
        </p:nvGrpSpPr>
        <p:grpSpPr>
          <a:xfrm>
            <a:off x="258840" y="5149800"/>
            <a:ext cx="2860560" cy="520200"/>
            <a:chOff x="258840" y="5149800"/>
            <a:chExt cx="2860560" cy="520200"/>
          </a:xfrm>
        </p:grpSpPr>
        <p:sp>
          <p:nvSpPr>
            <p:cNvPr id="6574" name="TextBox 61"/>
            <p:cNvSpPr/>
            <p:nvPr/>
          </p:nvSpPr>
          <p:spPr>
            <a:xfrm>
              <a:off x="258840" y="514980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Straight Connector 62"/>
            <p:cNvSpPr/>
            <p:nvPr/>
          </p:nvSpPr>
          <p:spPr>
            <a:xfrm>
              <a:off x="1818360" y="516996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6" name="Group 28"/>
          <p:cNvGrpSpPr/>
          <p:nvPr/>
        </p:nvGrpSpPr>
        <p:grpSpPr>
          <a:xfrm>
            <a:off x="127080" y="5759280"/>
            <a:ext cx="2878200" cy="733320"/>
            <a:chOff x="127080" y="5759280"/>
            <a:chExt cx="2878200" cy="733320"/>
          </a:xfrm>
        </p:grpSpPr>
        <p:sp>
          <p:nvSpPr>
            <p:cNvPr id="6577" name="TextBox 29"/>
            <p:cNvSpPr/>
            <p:nvPr/>
          </p:nvSpPr>
          <p:spPr>
            <a:xfrm>
              <a:off x="127080" y="575928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Straight Connector 33"/>
            <p:cNvSpPr/>
            <p:nvPr/>
          </p:nvSpPr>
          <p:spPr>
            <a:xfrm>
              <a:off x="2149200" y="591624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7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6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"/>
                                        <p:tgtEl>
                                          <p:spTgt spid="6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3" dur="500"/>
                                        <p:tgtEl>
                                          <p:spTgt spid="6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6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6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6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6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6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6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A4B482-528F-4963-8EB2-874548313D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2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583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84" name="PlaceHolder 2"/>
          <p:cNvSpPr>
            <a:spLocks noGrp="1"/>
          </p:cNvSpPr>
          <p:nvPr>
            <p:ph/>
          </p:nvPr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9240" indent="-222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9240" indent="-222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9240" indent="-222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9240" indent="-222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9240" indent="-222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5" name="PlaceHolder 3"/>
          <p:cNvSpPr>
            <a:spLocks noGrp="1"/>
          </p:cNvSpPr>
          <p:nvPr>
            <p:ph/>
          </p:nvPr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, D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6E33069-0A8C-4426-8090-122A3722C1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PlaceHolder 1"/>
          <p:cNvSpPr>
            <a:spLocks noGrp="1"/>
          </p:cNvSpPr>
          <p:nvPr>
            <p:ph/>
          </p:nvPr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s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: info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data m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sg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659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4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EC911DE-0FB8-4FC5-A8B1-820B318D88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Rectangle 3"/>
          <p:cNvSpPr/>
          <p:nvPr/>
        </p:nvSpPr>
        <p:spPr>
          <a:xfrm>
            <a:off x="2149560" y="147780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1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dditional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7" name="Group 62"/>
          <p:cNvGrpSpPr/>
          <p:nvPr/>
        </p:nvGrpSpPr>
        <p:grpSpPr>
          <a:xfrm>
            <a:off x="1270080" y="798480"/>
            <a:ext cx="5643360" cy="4216320"/>
            <a:chOff x="1270080" y="798480"/>
            <a:chExt cx="5643360" cy="4216320"/>
          </a:xfrm>
        </p:grpSpPr>
        <p:sp>
          <p:nvSpPr>
            <p:cNvPr id="6598" name="Freeform 61"/>
            <p:cNvSpPr/>
            <p:nvPr/>
          </p:nvSpPr>
          <p:spPr>
            <a:xfrm>
              <a:off x="1270080" y="811080"/>
              <a:ext cx="431640" cy="4203720"/>
            </a:xfrm>
            <a:custGeom>
              <a:avLst/>
              <a:gdLst/>
              <a:ahLst/>
              <a:rect l="l" t="t" r="r" b="b"/>
              <a:pathLst>
                <a:path w="432078" h="4203185">
                  <a:moveTo>
                    <a:pt x="0" y="4203185"/>
                  </a:moveTo>
                  <a:lnTo>
                    <a:pt x="418984" y="3430637"/>
                  </a:lnTo>
                  <a:cubicBezTo>
                    <a:pt x="423349" y="2287091"/>
                    <a:pt x="427713" y="1143546"/>
                    <a:pt x="432078" y="0"/>
                  </a:cubicBezTo>
                  <a:lnTo>
                    <a:pt x="13093" y="4203185"/>
                  </a:lnTo>
                  <a:lnTo>
                    <a:pt x="0" y="4203185"/>
                  </a:ln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Rectangle 58"/>
            <p:cNvSpPr/>
            <p:nvPr/>
          </p:nvSpPr>
          <p:spPr>
            <a:xfrm>
              <a:off x="1689120" y="798480"/>
              <a:ext cx="5224320" cy="34308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0" name="Picture 12" descr="segment.png"/>
          <p:cNvPicPr/>
          <p:nvPr/>
        </p:nvPicPr>
        <p:blipFill>
          <a:blip r:embed="rId1"/>
          <a:stretch/>
        </p:blipFill>
        <p:spPr>
          <a:xfrm>
            <a:off x="2335320" y="5173560"/>
            <a:ext cx="3959280" cy="100080"/>
          </a:xfrm>
          <a:prstGeom prst="rect">
            <a:avLst/>
          </a:prstGeom>
          <a:ln w="0">
            <a:noFill/>
          </a:ln>
        </p:spPr>
      </p:pic>
      <p:grpSp>
        <p:nvGrpSpPr>
          <p:cNvPr id="6601" name="Group 48"/>
          <p:cNvGrpSpPr/>
          <p:nvPr/>
        </p:nvGrpSpPr>
        <p:grpSpPr>
          <a:xfrm>
            <a:off x="-104760" y="3981600"/>
            <a:ext cx="1561680" cy="1511280"/>
            <a:chOff x="-104760" y="3981600"/>
            <a:chExt cx="1561680" cy="1511280"/>
          </a:xfrm>
        </p:grpSpPr>
        <p:pic>
          <p:nvPicPr>
            <p:cNvPr id="6602" name="Picture 4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104760" y="3981600"/>
              <a:ext cx="15616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3" name="Freeform 50"/>
            <p:cNvSpPr/>
            <p:nvPr/>
          </p:nvSpPr>
          <p:spPr>
            <a:xfrm flipH="1">
              <a:off x="560520" y="4126320"/>
              <a:ext cx="759600" cy="691920"/>
            </a:xfrm>
            <a:custGeom>
              <a:avLst/>
              <a:gdLst>
                <a:gd name="textAreaLeft" fmla="*/ 360 w 759600"/>
                <a:gd name="textAreaRight" fmla="*/ 760320 w 75960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4" name="Picture 120" descr="access_point_stylized_small"/>
          <p:cNvPicPr/>
          <p:nvPr/>
        </p:nvPicPr>
        <p:blipFill>
          <a:blip r:embed="rId3"/>
          <a:stretch/>
        </p:blipFill>
        <p:spPr>
          <a:xfrm>
            <a:off x="6824520" y="4221000"/>
            <a:ext cx="1389240" cy="1270080"/>
          </a:xfrm>
          <a:prstGeom prst="rect">
            <a:avLst/>
          </a:prstGeom>
          <a:ln w="0">
            <a:noFill/>
          </a:ln>
        </p:spPr>
      </p:pic>
      <p:pic>
        <p:nvPicPr>
          <p:cNvPr id="6605" name="Picture 10" descr="ethernet.png"/>
          <p:cNvPicPr/>
          <p:nvPr/>
        </p:nvPicPr>
        <p:blipFill>
          <a:blip r:embed="rId4"/>
          <a:stretch/>
        </p:blipFill>
        <p:spPr>
          <a:xfrm flipH="1">
            <a:off x="1114560" y="456732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6606" name="Picture 11" descr="ethernet.png"/>
          <p:cNvPicPr/>
          <p:nvPr/>
        </p:nvPicPr>
        <p:blipFill>
          <a:blip r:embed="rId5"/>
          <a:stretch/>
        </p:blipFill>
        <p:spPr>
          <a:xfrm>
            <a:off x="6060960" y="457056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6607" name="Picture 20" descr="ethernet.png"/>
          <p:cNvPicPr/>
          <p:nvPr/>
        </p:nvPicPr>
        <p:blipFill>
          <a:blip r:embed="rId6"/>
          <a:stretch/>
        </p:blipFill>
        <p:spPr>
          <a:xfrm flipH="1">
            <a:off x="7807320" y="4589640"/>
            <a:ext cx="1231920" cy="1231560"/>
          </a:xfrm>
          <a:prstGeom prst="rect">
            <a:avLst/>
          </a:prstGeom>
          <a:ln w="0">
            <a:noFill/>
          </a:ln>
        </p:spPr>
      </p:pic>
      <p:grpSp>
        <p:nvGrpSpPr>
          <p:cNvPr id="6608" name="Group 66"/>
          <p:cNvGrpSpPr/>
          <p:nvPr/>
        </p:nvGrpSpPr>
        <p:grpSpPr>
          <a:xfrm>
            <a:off x="4556160" y="1162080"/>
            <a:ext cx="2322720" cy="3171960"/>
            <a:chOff x="4556160" y="1162080"/>
            <a:chExt cx="2322720" cy="3171960"/>
          </a:xfrm>
        </p:grpSpPr>
        <p:sp>
          <p:nvSpPr>
            <p:cNvPr id="6609" name="Straight Connector 46"/>
            <p:cNvSpPr/>
            <p:nvPr/>
          </p:nvSpPr>
          <p:spPr>
            <a:xfrm>
              <a:off x="5630400" y="2252160"/>
              <a:ext cx="0" cy="2081880"/>
            </a:xfrm>
            <a:prstGeom prst="line">
              <a:avLst/>
            </a:prstGeom>
            <a:ln w="25560">
              <a:solidFill>
                <a:srgbClr val="00009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0" name="Group 31"/>
            <p:cNvGrpSpPr/>
            <p:nvPr/>
          </p:nvGrpSpPr>
          <p:grpSpPr>
            <a:xfrm>
              <a:off x="4634640" y="2856600"/>
              <a:ext cx="2191680" cy="1350720"/>
              <a:chOff x="4634640" y="2856600"/>
              <a:chExt cx="2191680" cy="1350720"/>
            </a:xfrm>
          </p:grpSpPr>
          <p:sp>
            <p:nvSpPr>
              <p:cNvPr id="6611" name="Rectangle 25"/>
              <p:cNvSpPr/>
              <p:nvPr/>
            </p:nvSpPr>
            <p:spPr>
              <a:xfrm>
                <a:off x="4643280" y="2906640"/>
                <a:ext cx="2166120" cy="115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0"/>
                </a:solidFill>
                <a:round/>
              </a:ln>
              <a:effectLst>
                <a:outerShdw dist="38183" dir="2700000" blurRad="0" rotWithShape="0">
                  <a:srgbClr val="00009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2" name="TextBox 26"/>
              <p:cNvSpPr/>
              <p:nvPr/>
            </p:nvSpPr>
            <p:spPr>
              <a:xfrm>
                <a:off x="4689000" y="2856600"/>
                <a:ext cx="1997280" cy="13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(TCP/UDP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22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(IP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22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in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(Etherne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22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3" name="Straight Connector 28"/>
              <p:cNvSpPr/>
              <p:nvPr/>
            </p:nvSpPr>
            <p:spPr>
              <a:xfrm>
                <a:off x="4634640" y="3220920"/>
                <a:ext cx="217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4" name="Straight Connector 29"/>
              <p:cNvSpPr/>
              <p:nvPr/>
            </p:nvSpPr>
            <p:spPr>
              <a:xfrm>
                <a:off x="4642920" y="3504240"/>
                <a:ext cx="217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5" name="Straight Connector 30"/>
              <p:cNvSpPr/>
              <p:nvPr/>
            </p:nvSpPr>
            <p:spPr>
              <a:xfrm>
                <a:off x="4651200" y="3787560"/>
                <a:ext cx="217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6" name="Group 35"/>
            <p:cNvGrpSpPr/>
            <p:nvPr/>
          </p:nvGrpSpPr>
          <p:grpSpPr>
            <a:xfrm>
              <a:off x="4788360" y="1162080"/>
              <a:ext cx="1576800" cy="1076040"/>
              <a:chOff x="4788360" y="1162080"/>
              <a:chExt cx="1576800" cy="1076040"/>
            </a:xfrm>
          </p:grpSpPr>
          <p:sp>
            <p:nvSpPr>
              <p:cNvPr id="6617" name="Rectangle 33"/>
              <p:cNvSpPr/>
              <p:nvPr/>
            </p:nvSpPr>
            <p:spPr>
              <a:xfrm>
                <a:off x="4871880" y="1162080"/>
                <a:ext cx="1465560" cy="102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90"/>
                </a:solidFill>
                <a:round/>
              </a:ln>
              <a:effectLst>
                <a:outerShdw dist="38183" dir="2700000" blurRad="0" rotWithShape="0">
                  <a:srgbClr val="00009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8" name="TextBox 34"/>
              <p:cNvSpPr/>
              <p:nvPr/>
            </p:nvSpPr>
            <p:spPr>
              <a:xfrm>
                <a:off x="4788360" y="1238400"/>
                <a:ext cx="1576800" cy="99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www browser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mail client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9" name="Straight Connector 37"/>
            <p:cNvSpPr/>
            <p:nvPr/>
          </p:nvSpPr>
          <p:spPr>
            <a:xfrm flipV="1">
              <a:off x="4556160" y="2631960"/>
              <a:ext cx="210924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TextBox 38"/>
            <p:cNvSpPr/>
            <p:nvPr/>
          </p:nvSpPr>
          <p:spPr>
            <a:xfrm>
              <a:off x="5844600" y="22521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TextBox 39"/>
            <p:cNvSpPr/>
            <p:nvPr/>
          </p:nvSpPr>
          <p:spPr>
            <a:xfrm>
              <a:off x="6109200" y="262728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2" name="Group 65"/>
          <p:cNvGrpSpPr/>
          <p:nvPr/>
        </p:nvGrpSpPr>
        <p:grpSpPr>
          <a:xfrm>
            <a:off x="1776240" y="878040"/>
            <a:ext cx="2806920" cy="3371400"/>
            <a:chOff x="1776240" y="878040"/>
            <a:chExt cx="2806920" cy="3371400"/>
          </a:xfrm>
        </p:grpSpPr>
        <p:grpSp>
          <p:nvGrpSpPr>
            <p:cNvPr id="6623" name="Group 44"/>
            <p:cNvGrpSpPr/>
            <p:nvPr/>
          </p:nvGrpSpPr>
          <p:grpSpPr>
            <a:xfrm>
              <a:off x="1846440" y="878040"/>
              <a:ext cx="1597680" cy="3168000"/>
              <a:chOff x="1846440" y="878040"/>
              <a:chExt cx="1597680" cy="3168000"/>
            </a:xfrm>
          </p:grpSpPr>
          <p:grpSp>
            <p:nvGrpSpPr>
              <p:cNvPr id="6624" name="Group 22"/>
              <p:cNvGrpSpPr/>
              <p:nvPr/>
            </p:nvGrpSpPr>
            <p:grpSpPr>
              <a:xfrm>
                <a:off x="1990440" y="2901240"/>
                <a:ext cx="1296720" cy="1135440"/>
                <a:chOff x="1990440" y="2901240"/>
                <a:chExt cx="1296720" cy="1135440"/>
              </a:xfrm>
            </p:grpSpPr>
            <p:sp>
              <p:nvSpPr>
                <p:cNvPr id="6625" name="Rectangle 13"/>
                <p:cNvSpPr/>
                <p:nvPr/>
              </p:nvSpPr>
              <p:spPr>
                <a:xfrm>
                  <a:off x="1990440" y="2921040"/>
                  <a:ext cx="1296720" cy="1020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90"/>
                  </a:solidFill>
                  <a:round/>
                </a:ln>
                <a:effectLst>
                  <a:outerShdw dist="38183" dir="2700000" blurRad="0" rotWithShape="0">
                    <a:srgbClr val="000090">
                      <a:alpha val="43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TextBox 14"/>
                <p:cNvSpPr/>
                <p:nvPr/>
              </p:nvSpPr>
              <p:spPr>
                <a:xfrm>
                  <a:off x="2126520" y="2901240"/>
                  <a:ext cx="1031040" cy="11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acke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aptur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(pcap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23"/>
              <p:cNvGrpSpPr/>
              <p:nvPr/>
            </p:nvGrpSpPr>
            <p:grpSpPr>
              <a:xfrm>
                <a:off x="1983600" y="1558080"/>
                <a:ext cx="1296720" cy="767160"/>
                <a:chOff x="1983600" y="1558080"/>
                <a:chExt cx="1296720" cy="767160"/>
              </a:xfrm>
            </p:grpSpPr>
            <p:sp>
              <p:nvSpPr>
                <p:cNvPr id="6628" name="Rectangle 21"/>
                <p:cNvSpPr/>
                <p:nvPr/>
              </p:nvSpPr>
              <p:spPr>
                <a:xfrm>
                  <a:off x="1983600" y="1596960"/>
                  <a:ext cx="1296720" cy="66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90"/>
                  </a:solidFill>
                  <a:round/>
                </a:ln>
                <a:effectLst>
                  <a:outerShdw dist="38183" dir="2700000" blurRad="0" rotWithShape="0">
                    <a:srgbClr val="000090">
                      <a:alpha val="43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TextBox 16"/>
                <p:cNvSpPr/>
                <p:nvPr/>
              </p:nvSpPr>
              <p:spPr>
                <a:xfrm>
                  <a:off x="2063520" y="1558080"/>
                  <a:ext cx="1145520" cy="76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acke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nalyz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0" name="Rectangle 42"/>
              <p:cNvSpPr/>
              <p:nvPr/>
            </p:nvSpPr>
            <p:spPr>
              <a:xfrm>
                <a:off x="1846440" y="878040"/>
                <a:ext cx="1597680" cy="3168000"/>
              </a:xfrm>
              <a:prstGeom prst="rect">
                <a:avLst/>
              </a:prstGeom>
              <a:noFill/>
              <a:ln w="22320">
                <a:solidFill>
                  <a:srgbClr val="00009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1" name="Picture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2068920" y="925560"/>
                <a:ext cx="1089360" cy="36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2" name="Straight Connector 47"/>
            <p:cNvSpPr/>
            <p:nvPr/>
          </p:nvSpPr>
          <p:spPr>
            <a:xfrm>
              <a:off x="2640240" y="2331000"/>
              <a:ext cx="0" cy="558000"/>
            </a:xfrm>
            <a:prstGeom prst="line">
              <a:avLst/>
            </a:prstGeom>
            <a:ln w="25560">
              <a:solidFill>
                <a:srgbClr val="00009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Straight Connector 50"/>
            <p:cNvSpPr/>
            <p:nvPr/>
          </p:nvSpPr>
          <p:spPr>
            <a:xfrm>
              <a:off x="3116520" y="3653280"/>
              <a:ext cx="1427400" cy="0"/>
            </a:xfrm>
            <a:prstGeom prst="line">
              <a:avLst/>
            </a:prstGeom>
            <a:ln w="25560">
              <a:solidFill>
                <a:srgbClr val="00009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TextBox 56"/>
            <p:cNvSpPr/>
            <p:nvPr/>
          </p:nvSpPr>
          <p:spPr>
            <a:xfrm>
              <a:off x="3504600" y="3242880"/>
              <a:ext cx="10785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py of all Ethernet frames sent/recei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Straight Connector 64"/>
            <p:cNvSpPr/>
            <p:nvPr/>
          </p:nvSpPr>
          <p:spPr>
            <a:xfrm flipV="1">
              <a:off x="1776240" y="2640600"/>
              <a:ext cx="210816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6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6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B1D0DF-5F9A-4C98-A8FB-513EE3711C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053F4F-7770-4E20-9F1D-0EE335BB10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99687F-2192-4F17-867C-DE8CFE10C4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37944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04640" y="3723840"/>
            <a:ext cx="381024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2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C3BFF71-0423-4CF0-9542-40EB9BE153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302A91-5F45-4593-9772-9F0222D105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533160" y="1533240"/>
            <a:ext cx="409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4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8B0FBB4-5FCB-48D7-ACF3-1CD8568F7C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s use SSL libraries, which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encry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e Chapter 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F52E64-C937-4BF6-BA14-0EB3708A90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9" name="Picture 351" descr="underline_base"/>
          <p:cNvPicPr/>
          <p:nvPr/>
        </p:nvPicPr>
        <p:blipFill>
          <a:blip r:embed="rId1"/>
          <a:stretch/>
        </p:blipFill>
        <p:spPr>
          <a:xfrm>
            <a:off x="460440" y="1050840"/>
            <a:ext cx="2825640" cy="1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1020BD-80A6-4AC1-B343-A2783F3949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75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40D897-8F8A-4102-9BD3-1A9A594A6F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80" name="Group 10"/>
          <p:cNvGrpSpPr/>
          <p:nvPr/>
        </p:nvGrpSpPr>
        <p:grpSpPr>
          <a:xfrm>
            <a:off x="1198080" y="4486320"/>
            <a:ext cx="6839280" cy="1146960"/>
            <a:chOff x="1198080" y="4486320"/>
            <a:chExt cx="6839280" cy="1146960"/>
          </a:xfrm>
        </p:grpSpPr>
        <p:sp>
          <p:nvSpPr>
            <p:cNvPr id="1981" name="Text Box 5"/>
            <p:cNvSpPr/>
            <p:nvPr/>
          </p:nvSpPr>
          <p:spPr>
            <a:xfrm>
              <a:off x="119808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Text Box 9"/>
            <p:cNvSpPr/>
            <p:nvPr/>
          </p:nvSpPr>
          <p:spPr>
            <a:xfrm>
              <a:off x="5439960" y="5094360"/>
              <a:ext cx="171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164F47-6EE6-4C98-A127-CD3B0ED32A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B6C15A-7298-41ED-8C58-BBA0441FF1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23"/>
          <p:cNvSpPr/>
          <p:nvPr/>
        </p:nvSpPr>
        <p:spPr>
          <a:xfrm>
            <a:off x="4820760" y="5218200"/>
            <a:ext cx="152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9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9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656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200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200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200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200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200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201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201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202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202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203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211C03-8F70-498D-BAA8-E271873718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7040" indent="-257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1" name="Rectangle 6"/>
          <p:cNvSpPr/>
          <p:nvPr/>
        </p:nvSpPr>
        <p:spPr>
          <a:xfrm>
            <a:off x="4919760" y="346392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8"/>
          <p:cNvSpPr/>
          <p:nvPr/>
        </p:nvSpPr>
        <p:spPr>
          <a:xfrm>
            <a:off x="7513920" y="3160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52E706-B90C-4B9B-A2AB-8D983BA96F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5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1DB668-984D-4F03-BB6F-DB656C81A3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6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79543B5-D03F-4819-A8F7-1FE123F92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Text Box 13"/>
          <p:cNvSpPr/>
          <p:nvPr/>
        </p:nvSpPr>
        <p:spPr>
          <a:xfrm>
            <a:off x="162360" y="33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B29A29A-E14C-45EB-9EBD-7A65602A64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11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12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12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13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13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4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439E54E-D121-41EE-969A-F0AE163675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59D490-7801-4F4B-8DEB-056DBD4B5B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1" name="Text Box 5"/>
          <p:cNvSpPr/>
          <p:nvPr/>
        </p:nvSpPr>
        <p:spPr>
          <a:xfrm>
            <a:off x="186840" y="3036960"/>
            <a:ext cx="23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Line 6"/>
          <p:cNvSpPr/>
          <p:nvPr/>
        </p:nvSpPr>
        <p:spPr>
          <a:xfrm>
            <a:off x="1925640" y="336852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7"/>
          <p:cNvSpPr/>
          <p:nvPr/>
        </p:nvSpPr>
        <p:spPr>
          <a:xfrm>
            <a:off x="2776680" y="370512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Text Box 8"/>
          <p:cNvSpPr/>
          <p:nvPr/>
        </p:nvSpPr>
        <p:spPr>
          <a:xfrm>
            <a:off x="1739880" y="422280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Line 10"/>
          <p:cNvSpPr/>
          <p:nvPr/>
        </p:nvSpPr>
        <p:spPr>
          <a:xfrm>
            <a:off x="2309760" y="578952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 Box 11"/>
          <p:cNvSpPr/>
          <p:nvPr/>
        </p:nvSpPr>
        <p:spPr>
          <a:xfrm>
            <a:off x="187560" y="5121360"/>
            <a:ext cx="234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16"/>
          <p:cNvSpPr/>
          <p:nvPr/>
        </p:nvSpPr>
        <p:spPr>
          <a:xfrm>
            <a:off x="2454840" y="340344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Line 17"/>
          <p:cNvSpPr/>
          <p:nvPr/>
        </p:nvSpPr>
        <p:spPr>
          <a:xfrm flipH="1">
            <a:off x="6333840" y="292104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Text Box 18"/>
          <p:cNvSpPr/>
          <p:nvPr/>
        </p:nvSpPr>
        <p:spPr>
          <a:xfrm>
            <a:off x="6046920" y="263376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 Box 19"/>
          <p:cNvSpPr/>
          <p:nvPr/>
        </p:nvSpPr>
        <p:spPr>
          <a:xfrm>
            <a:off x="6197040" y="293040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Line 20"/>
          <p:cNvSpPr/>
          <p:nvPr/>
        </p:nvSpPr>
        <p:spPr>
          <a:xfrm flipH="1">
            <a:off x="6614640" y="323064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F1E6A0-2EDC-4AD1-A194-6EEDAE09F4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4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6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 Box 31"/>
          <p:cNvSpPr/>
          <p:nvPr/>
        </p:nvSpPr>
        <p:spPr>
          <a:xfrm>
            <a:off x="560448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6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97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Text Box 41"/>
            <p:cNvSpPr/>
            <p:nvPr/>
          </p:nvSpPr>
          <p:spPr>
            <a:xfrm>
              <a:off x="452484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207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Text Box 52"/>
            <p:cNvSpPr/>
            <p:nvPr/>
          </p:nvSpPr>
          <p:spPr>
            <a:xfrm>
              <a:off x="452160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218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1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2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223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Group 77"/>
          <p:cNvGrpSpPr/>
          <p:nvPr/>
        </p:nvGrpSpPr>
        <p:grpSpPr>
          <a:xfrm>
            <a:off x="851040" y="4065480"/>
            <a:ext cx="1464480" cy="446040"/>
            <a:chOff x="851040" y="4065480"/>
            <a:chExt cx="1464480" cy="446040"/>
          </a:xfrm>
        </p:grpSpPr>
        <p:sp>
          <p:nvSpPr>
            <p:cNvPr id="2227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73"/>
            <p:cNvSpPr/>
            <p:nvPr/>
          </p:nvSpPr>
          <p:spPr>
            <a:xfrm>
              <a:off x="85104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1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234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238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35FF15-2FD5-48AD-AC3C-65352199F9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3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7" name="Text Box 5"/>
          <p:cNvSpPr/>
          <p:nvPr/>
        </p:nvSpPr>
        <p:spPr>
          <a:xfrm>
            <a:off x="178632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9BDC19-DA04-4219-967E-D279AC1E33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A20A17-E286-46DC-B008-100AEDDEA1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0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2C09F27-2AD4-4DC7-99BD-02A05354B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6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8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10"/>
          <p:cNvSpPr/>
          <p:nvPr/>
        </p:nvSpPr>
        <p:spPr>
          <a:xfrm>
            <a:off x="293400" y="529740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643D55-FCA9-4DD9-92FC-C8D361345C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7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0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EC6B93-3965-4110-97C9-413964CDAB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Text Box 5"/>
          <p:cNvSpPr/>
          <p:nvPr/>
        </p:nvSpPr>
        <p:spPr>
          <a:xfrm>
            <a:off x="3984120" y="2155680"/>
            <a:ext cx="442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at cis.poly.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6"/>
          <p:cNvSpPr/>
          <p:nvPr/>
        </p:nvSpPr>
        <p:spPr>
          <a:xfrm>
            <a:off x="686880" y="21906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7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8"/>
          <p:cNvSpPr/>
          <p:nvPr/>
        </p:nvSpPr>
        <p:spPr>
          <a:xfrm>
            <a:off x="1378080" y="41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~ross/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cis.poly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1"/>
          <p:cNvSpPr/>
          <p:nvPr/>
        </p:nvSpPr>
        <p:spPr>
          <a:xfrm>
            <a:off x="4849200" y="40989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12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>
              <a:gd name="textAreaLeft" fmla="*/ 0 w 247680"/>
              <a:gd name="textAreaRight" fmla="*/ 248040 w 247680"/>
              <a:gd name="textAreaTop" fmla="*/ 0 h 1181160"/>
              <a:gd name="textAreaBottom" fmla="*/ 1181160 h 11811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13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>
              <a:gd name="textAreaLeft" fmla="*/ 0 w 257400"/>
              <a:gd name="textAreaRight" fmla="*/ 257760 w 25740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14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7"/>
          <p:cNvSpPr/>
          <p:nvPr/>
        </p:nvSpPr>
        <p:spPr>
          <a:xfrm>
            <a:off x="-1455480" y="6029280"/>
            <a:ext cx="118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5444C7F-69FF-43A2-9579-D5331A3199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90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9E87E2-10AB-4B7B-966B-BB51428D8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3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5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7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98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9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300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2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303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305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7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310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4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315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7" name="Group 81"/>
          <p:cNvGrpSpPr/>
          <p:nvPr/>
        </p:nvGrpSpPr>
        <p:grpSpPr>
          <a:xfrm>
            <a:off x="935640" y="1922400"/>
            <a:ext cx="1069200" cy="565200"/>
            <a:chOff x="935640" y="1922400"/>
            <a:chExt cx="1069200" cy="565200"/>
          </a:xfrm>
        </p:grpSpPr>
        <p:sp>
          <p:nvSpPr>
            <p:cNvPr id="2318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Text Box 60"/>
            <p:cNvSpPr/>
            <p:nvPr/>
          </p:nvSpPr>
          <p:spPr>
            <a:xfrm>
              <a:off x="93564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0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321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4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325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8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329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1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332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4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335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77"/>
          <p:cNvGrpSpPr/>
          <p:nvPr/>
        </p:nvGrpSpPr>
        <p:grpSpPr>
          <a:xfrm>
            <a:off x="865080" y="5351400"/>
            <a:ext cx="1389240" cy="633600"/>
            <a:chOff x="865080" y="5351400"/>
            <a:chExt cx="1389240" cy="633600"/>
          </a:xfrm>
        </p:grpSpPr>
        <p:sp>
          <p:nvSpPr>
            <p:cNvPr id="2341" name="AutoShape 78"/>
            <p:cNvSpPr/>
            <p:nvPr/>
          </p:nvSpPr>
          <p:spPr>
            <a:xfrm>
              <a:off x="935640" y="5351400"/>
              <a:ext cx="1146960" cy="6336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3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5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46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52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4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5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56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8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0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61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3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4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65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7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79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E3C8A7C-3E1A-44EE-BED4-5A0F4EF2B5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3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6" name="Rectangle 13"/>
          <p:cNvSpPr/>
          <p:nvPr/>
        </p:nvSpPr>
        <p:spPr>
          <a:xfrm>
            <a:off x="4911840" y="1411200"/>
            <a:ext cx="3809880" cy="223380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Text Box 14"/>
          <p:cNvSpPr/>
          <p:nvPr/>
        </p:nvSpPr>
        <p:spPr>
          <a:xfrm>
            <a:off x="7174080" y="1177920"/>
            <a:ext cx="109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15"/>
          <p:cNvSpPr/>
          <p:nvPr/>
        </p:nvSpPr>
        <p:spPr>
          <a:xfrm>
            <a:off x="41112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5D29C65-962F-4D25-B88B-7930EAAA3D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92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3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95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6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98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3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404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408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2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413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5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6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417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9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431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6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437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9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0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41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3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5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46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8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9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50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2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3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279360" y="1956960"/>
            <a:ext cx="376704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9120" indent="-234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6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0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71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3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74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6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77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0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3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84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85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8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9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90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91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92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7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98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0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1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502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4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6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507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9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0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511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1BAF5AD-AFCA-4921-A9EB-8622A8EE8E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6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8808E07-7864-479C-A8CC-CD96DA940F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2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533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3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1" name="Group 11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552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5" name="Group 11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556" name="Freeform 11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1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8" name="Line 11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11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0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2561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4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2565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7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9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2" name="Group 139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573" name="Freeform 140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141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142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143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144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8" name="Group 145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579" name="AutoShape 146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AutoShape 147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1" name="Rectangle 148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2" name="Group 149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583" name="AutoShape 150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AutoShape 151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5" name="Rectangle 152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153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7" name="Group 154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588" name="AutoShape 155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AutoShape 156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0" name="Freeform 157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1" name="Group 158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592" name="AutoShape 159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AutoShape 160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4" name="Rectangle 161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162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163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Oval 164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165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AutoShape 166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AutoShape 167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168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Oval 169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Oval 170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71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2606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7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Group 175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609" name="Freeform 176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77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178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179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80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4" name="Group 181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615" name="AutoShape 182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AutoShape 183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Rectangle 184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185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619" name="AutoShape 186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187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Rectangle 188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89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3" name="Group 190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624" name="AutoShape 191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AutoShape 192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6" name="Freeform 193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7" name="Group 194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628" name="AutoShape 195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AutoShape 196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0" name="Rectangle 197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198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199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00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201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AutoShape 202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AutoShape 203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204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205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206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207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Group 208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642" name="Freeform 209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210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211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212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213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7" name="Group 214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648" name="AutoShape 215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AutoShape 216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0" name="Rectangle 217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18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652" name="AutoShape 219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20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Rectangle 221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Rectangle 222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6" name="Group 223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657" name="AutoShape 224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AutoShape 225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9" name="Freeform 226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0" name="Group 227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661" name="AutoShape 228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AutoShape 229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3" name="Rectangle 230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231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232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33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234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AutoShape 235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AutoShape 236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Oval 237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Oval 238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Oval 239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Rectangle 240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Group 241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675" name="Freeform 242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Rectangle 243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44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45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Rectangle 246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0" name="Group 247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681" name="AutoShape 248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AutoShape 249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3" name="Rectangle 250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51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685" name="AutoShape 252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53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Rectangle 254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Rectangle 255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9" name="Group 256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690" name="AutoShape 257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AutoShape 258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2" name="Freeform 259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3" name="Group 260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694" name="AutoShape 261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AutoShape 262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6" name="Rectangle 263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264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265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266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267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AutoShape 268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AutoShape 269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Oval 270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Oval 271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Oval 272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Rectangle 273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Group 274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708" name="Freeform 275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276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277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278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Rectangle 279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3" name="Group 280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714" name="AutoShape 281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AutoShape 282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6" name="Rectangle 283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284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718" name="AutoShape 285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286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Rectangle 287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Rectangle 288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2" name="Group 289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2723" name="AutoShape 290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AutoShape 291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5" name="Freeform 292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6" name="Group 293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2727" name="AutoShape 294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AutoShape 295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9" name="Rectangle 296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297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298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299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00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AutoShape 301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AutoShape 302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Oval 303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Oval 304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Oval 305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Rectangle 306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2741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2747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9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0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2751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3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5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2756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8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9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2760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2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2774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5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2777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8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F5074E6-2F45-47BE-8DE4-0CE2ABDF91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484EED7-0B2F-494E-9712-34966DFF57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2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84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53"/>
          <p:cNvSpPr/>
          <p:nvPr/>
        </p:nvSpPr>
        <p:spPr>
          <a:xfrm>
            <a:off x="67057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54"/>
          <p:cNvSpPr/>
          <p:nvPr/>
        </p:nvSpPr>
        <p:spPr>
          <a:xfrm>
            <a:off x="74473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55"/>
          <p:cNvSpPr/>
          <p:nvPr/>
        </p:nvSpPr>
        <p:spPr>
          <a:xfrm>
            <a:off x="176220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56"/>
          <p:cNvSpPr/>
          <p:nvPr/>
        </p:nvSpPr>
        <p:spPr>
          <a:xfrm>
            <a:off x="2206440" y="5645160"/>
            <a:ext cx="16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57"/>
          <p:cNvSpPr/>
          <p:nvPr/>
        </p:nvSpPr>
        <p:spPr>
          <a:xfrm>
            <a:off x="259560" y="605160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59"/>
          <p:cNvSpPr/>
          <p:nvPr/>
        </p:nvSpPr>
        <p:spPr>
          <a:xfrm>
            <a:off x="2928960" y="4683240"/>
            <a:ext cx="706320" cy="117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Text Box 60"/>
          <p:cNvSpPr/>
          <p:nvPr/>
        </p:nvSpPr>
        <p:spPr>
          <a:xfrm>
            <a:off x="3123360" y="460044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2" name="Group 68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2803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6" name="Group 72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2807" name="Freeform 73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74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Line 75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Line 76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1" name="Group 77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2812" name="Freeform 78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Rectangle 79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80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81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Rectangle 82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7" name="Group 83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2818" name="AutoShape 84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AutoShape 85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0" name="Rectangle 86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87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2822" name="AutoShape 88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89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Rectangle 90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Rectangle 91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6" name="Group 92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2827" name="AutoShape 93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AutoShape 94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9" name="Freeform 95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0" name="Group 96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2831" name="AutoShape 97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AutoShape 98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3" name="Rectangle 99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100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101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02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103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AutoShape 104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AutoShape 105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Oval 106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Oval 107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Oval 108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109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Group 110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2845" name="Freeform 111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12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113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114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Rectangle 115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Group 116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2851" name="AutoShape 117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AutoShape 118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3" name="Rectangle 119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20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2855" name="AutoShape 121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22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Rectangle 123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Rectangle 124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9" name="Group 125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2860" name="AutoShape 126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AutoShape 127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2" name="Freeform 128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3" name="Group 129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2864" name="AutoShape 130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AutoShape 131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6" name="Rectangle 132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133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134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35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136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AutoShape 137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AutoShape 138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Oval 139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Oval 140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Oval 141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Rectangle 142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7" name="Group 143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2878" name="Freeform 144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Rectangle 145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146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147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Rectangle 148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3" name="Group 149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2884" name="AutoShape 150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AutoShape 151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6" name="Rectangle 152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53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2888" name="AutoShape 154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55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Rectangle 156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157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2" name="Group 158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2893" name="AutoShape 159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AutoShape 160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5" name="Freeform 161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6" name="Group 162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2897" name="AutoShape 163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AutoShape 164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9" name="Rectangle 165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66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67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168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69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AutoShape 170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AutoShape 171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Oval 172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Oval 173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Oval 174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Rectangle 175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0" name="Group 176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2911" name="Freeform 177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Rectangle 178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179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180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Rectangle 181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6" name="Group 182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2917" name="AutoShape 183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AutoShape 184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9" name="Rectangle 185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186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2921" name="AutoShape 187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188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Rectangle 189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Rectangle 190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5" name="Group 191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2926" name="AutoShape 192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AutoShape 193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8" name="Freeform 194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9" name="Group 195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2930" name="AutoShape 196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AutoShape 197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2" name="Rectangle 198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199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200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01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202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AutoShape 203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AutoShape 204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Oval 205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Oval 206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Oval 207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208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3" name="Group 209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2944" name="Freeform 210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211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212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213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Rectangle 214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215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2950" name="AutoShape 216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AutoShape 217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Rectangle 218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Group 219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2954" name="AutoShape 220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AutoShape 221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6" name="Rectangle 222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Rectangle 223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8" name="Group 224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2959" name="AutoShape 225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AutoShape 226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1" name="Freeform 227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2" name="Group 228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2963" name="AutoShape 229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AutoShape 230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5" name="Rectangle 231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232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233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Oval 234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235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AutoShape 236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AutoShape 237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Oval 238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Oval 239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Oval 240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Rectangle 241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6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3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2984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7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2988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0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2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2993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4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5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2996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1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002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4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5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006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8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0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011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3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4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015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7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8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29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0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1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32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3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4" name="Line 95"/>
          <p:cNvSpPr/>
          <p:nvPr/>
        </p:nvSpPr>
        <p:spPr>
          <a:xfrm>
            <a:off x="659124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2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043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6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047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9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052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3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055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6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7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058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9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5538C5-72C7-4A14-98A9-A507609907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2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4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7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068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0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Text Box 76"/>
          <p:cNvSpPr/>
          <p:nvPr/>
        </p:nvSpPr>
        <p:spPr>
          <a:xfrm>
            <a:off x="195120" y="5262480"/>
            <a:ext cx="4524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3" name="Group 9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084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7" name="Group 9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088" name="Freeform 9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9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0" name="Line 9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Line 9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2" name="Group 10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093" name="Freeform 10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0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0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0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10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10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099" name="AutoShape 10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AutoShape 10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1" name="Rectangle 10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1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103" name="AutoShape 11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1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Rectangle 11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Rectangle 11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7" name="Group 11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108" name="AutoShape 11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AutoShape 11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Freeform 11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1" name="Group 11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112" name="AutoShape 12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AutoShape 12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4" name="Rectangle 12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12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12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2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12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AutoShape 12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AutoShape 12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Oval 12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Oval 13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Oval 13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Rectangle 13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5" name="Group 13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126" name="Freeform 13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Rectangle 13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3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Rectangle 13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1" name="Group 13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132" name="AutoShape 14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AutoShape 14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4" name="Rectangle 14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4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136" name="AutoShape 14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4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Rectangle 14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Rectangle 14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0" name="Group 14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141" name="AutoShape 14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AutoShape 15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3" name="Freeform 15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4" name="Group 15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145" name="AutoShape 15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AutoShape 15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7" name="Rectangle 15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15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15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5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15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AutoShape 16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AutoShape 16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Oval 16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Oval 16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Oval 16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Rectangle 16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8" name="Group 16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159" name="Freeform 16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Rectangle 16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Freeform 16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Freeform 17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Rectangle 17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4" name="Group 17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165" name="AutoShape 17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AutoShape 17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7" name="Rectangle 17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17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169" name="AutoShape 17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17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Rectangle 17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Rectangle 18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3" name="Group 18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174" name="AutoShape 18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AutoShape 18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6" name="Freeform 18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7" name="Group 18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178" name="AutoShape 18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AutoShape 18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0" name="Rectangle 18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18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19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19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19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AutoShape 19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AutoShape 19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Oval 19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Oval 19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Oval 19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Rectangle 19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19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192" name="Freeform 20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20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20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20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Rectangle 20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7" name="Group 20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198" name="AutoShape 20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AutoShape 20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0" name="Rectangle 20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0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202" name="AutoShape 21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1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Rectangle 21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Rectangle 21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6" name="Group 21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207" name="AutoShape 21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AutoShape 21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9" name="Freeform 21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0" name="Group 21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211" name="AutoShape 21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AutoShape 22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3" name="Rectangle 22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22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22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2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22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AutoShape 22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AutoShape 22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Oval 22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Oval 22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Oval 23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Rectangle 23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4" name="Group 23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225" name="Freeform 23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Rectangle 23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23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23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Rectangle 23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0" name="Group 23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231" name="AutoShape 23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AutoShape 24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3" name="Rectangle 24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24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235" name="AutoShape 24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24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Rectangle 24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Rectangle 24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9" name="Group 24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240" name="AutoShape 24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AutoShape 24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2" name="Freeform 25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3" name="Group 25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244" name="AutoShape 25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AutoShape 25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6" name="Rectangle 25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5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25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25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25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AutoShape 25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AutoShape 26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Oval 26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26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26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Rectangle 26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7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258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3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264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6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7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268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0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273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5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6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277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9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243652D-922D-4BCB-811B-2C4727AE12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2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509760" y="129060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68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68840" indent="-168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26240" indent="-1724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6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5" name="Text Box 50"/>
          <p:cNvSpPr/>
          <p:nvPr/>
        </p:nvSpPr>
        <p:spPr>
          <a:xfrm>
            <a:off x="769824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95"/>
          <p:cNvSpPr/>
          <p:nvPr/>
        </p:nvSpPr>
        <p:spPr>
          <a:xfrm>
            <a:off x="659124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Text Box 99"/>
          <p:cNvSpPr/>
          <p:nvPr/>
        </p:nvSpPr>
        <p:spPr>
          <a:xfrm>
            <a:off x="65955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4"/>
          <p:cNvSpPr/>
          <p:nvPr/>
        </p:nvSpPr>
        <p:spPr>
          <a:xfrm>
            <a:off x="506520" y="3057480"/>
            <a:ext cx="4459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rate to browsers over access link 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Rectangle 4"/>
          <p:cNvSpPr/>
          <p:nvPr/>
        </p:nvSpPr>
        <p:spPr>
          <a:xfrm>
            <a:off x="538200" y="4557600"/>
            <a:ext cx="445932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2"/>
          <p:cNvSpPr/>
          <p:nvPr/>
        </p:nvSpPr>
        <p:spPr>
          <a:xfrm>
            <a:off x="526716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51"/>
          <p:cNvSpPr/>
          <p:nvPr/>
        </p:nvSpPr>
        <p:spPr>
          <a:xfrm>
            <a:off x="6076800" y="2028960"/>
            <a:ext cx="6696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52"/>
          <p:cNvSpPr/>
          <p:nvPr/>
        </p:nvSpPr>
        <p:spPr>
          <a:xfrm flipH="1">
            <a:off x="6705720" y="2066760"/>
            <a:ext cx="936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53"/>
          <p:cNvSpPr/>
          <p:nvPr/>
        </p:nvSpPr>
        <p:spPr>
          <a:xfrm flipH="1">
            <a:off x="7162920" y="222876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54"/>
          <p:cNvSpPr/>
          <p:nvPr/>
        </p:nvSpPr>
        <p:spPr>
          <a:xfrm flipH="1">
            <a:off x="732456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Freeform 55"/>
          <p:cNvSpPr/>
          <p:nvPr/>
        </p:nvSpPr>
        <p:spPr>
          <a:xfrm>
            <a:off x="535140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Text Box 70"/>
          <p:cNvSpPr/>
          <p:nvPr/>
        </p:nvSpPr>
        <p:spPr>
          <a:xfrm>
            <a:off x="60616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Group 71"/>
          <p:cNvGrpSpPr/>
          <p:nvPr/>
        </p:nvGrpSpPr>
        <p:grpSpPr>
          <a:xfrm>
            <a:off x="6175440" y="3165480"/>
            <a:ext cx="880560" cy="307800"/>
            <a:chOff x="6175440" y="3165480"/>
            <a:chExt cx="880560" cy="307800"/>
          </a:xfrm>
        </p:grpSpPr>
        <p:sp>
          <p:nvSpPr>
            <p:cNvPr id="3308" name="Oval 407"/>
            <p:cNvSpPr/>
            <p:nvPr/>
          </p:nvSpPr>
          <p:spPr>
            <a:xfrm>
              <a:off x="6176880" y="330012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410"/>
            <p:cNvSpPr/>
            <p:nvPr/>
          </p:nvSpPr>
          <p:spPr>
            <a:xfrm>
              <a:off x="6176880" y="328284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Oval 411"/>
            <p:cNvSpPr/>
            <p:nvPr/>
          </p:nvSpPr>
          <p:spPr>
            <a:xfrm>
              <a:off x="6175440" y="316548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1" name="Group 75"/>
            <p:cNvGrpSpPr/>
            <p:nvPr/>
          </p:nvGrpSpPr>
          <p:grpSpPr>
            <a:xfrm>
              <a:off x="6352920" y="3216240"/>
              <a:ext cx="491760" cy="95040"/>
              <a:chOff x="6352920" y="3216240"/>
              <a:chExt cx="491760" cy="95040"/>
            </a:xfrm>
          </p:grpSpPr>
          <p:sp>
            <p:nvSpPr>
              <p:cNvPr id="3312" name="Freeform 76"/>
              <p:cNvSpPr/>
              <p:nvPr/>
            </p:nvSpPr>
            <p:spPr>
              <a:xfrm>
                <a:off x="6352920" y="321624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77"/>
              <p:cNvSpPr/>
              <p:nvPr/>
            </p:nvSpPr>
            <p:spPr>
              <a:xfrm>
                <a:off x="6374880" y="321624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4" name="Line 78"/>
            <p:cNvSpPr/>
            <p:nvPr/>
          </p:nvSpPr>
          <p:spPr>
            <a:xfrm>
              <a:off x="617688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Line 79"/>
            <p:cNvSpPr/>
            <p:nvPr/>
          </p:nvSpPr>
          <p:spPr>
            <a:xfrm>
              <a:off x="704988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6" name="Group 80"/>
          <p:cNvGrpSpPr/>
          <p:nvPr/>
        </p:nvGrpSpPr>
        <p:grpSpPr>
          <a:xfrm>
            <a:off x="4919760" y="1957320"/>
            <a:ext cx="377640" cy="576000"/>
            <a:chOff x="4919760" y="1957320"/>
            <a:chExt cx="377640" cy="576000"/>
          </a:xfrm>
        </p:grpSpPr>
        <p:sp>
          <p:nvSpPr>
            <p:cNvPr id="3317" name="Freeform 81"/>
            <p:cNvSpPr/>
            <p:nvPr/>
          </p:nvSpPr>
          <p:spPr>
            <a:xfrm>
              <a:off x="521856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Rectangle 82"/>
            <p:cNvSpPr/>
            <p:nvPr/>
          </p:nvSpPr>
          <p:spPr>
            <a:xfrm>
              <a:off x="49370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83"/>
            <p:cNvSpPr/>
            <p:nvPr/>
          </p:nvSpPr>
          <p:spPr>
            <a:xfrm>
              <a:off x="52329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84"/>
            <p:cNvSpPr/>
            <p:nvPr/>
          </p:nvSpPr>
          <p:spPr>
            <a:xfrm>
              <a:off x="522288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Rectangle 85"/>
            <p:cNvSpPr/>
            <p:nvPr/>
          </p:nvSpPr>
          <p:spPr>
            <a:xfrm>
              <a:off x="49388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2" name="Group 86"/>
            <p:cNvGrpSpPr/>
            <p:nvPr/>
          </p:nvGrpSpPr>
          <p:grpSpPr>
            <a:xfrm>
              <a:off x="5081040" y="2014560"/>
              <a:ext cx="154080" cy="34560"/>
              <a:chOff x="5081040" y="2014560"/>
              <a:chExt cx="154080" cy="34560"/>
            </a:xfrm>
          </p:grpSpPr>
          <p:sp>
            <p:nvSpPr>
              <p:cNvPr id="3323" name="AutoShape 87"/>
              <p:cNvSpPr/>
              <p:nvPr/>
            </p:nvSpPr>
            <p:spPr>
              <a:xfrm>
                <a:off x="508104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AutoShape 88"/>
              <p:cNvSpPr/>
              <p:nvPr/>
            </p:nvSpPr>
            <p:spPr>
              <a:xfrm>
                <a:off x="508392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5" name="Rectangle 89"/>
            <p:cNvSpPr/>
            <p:nvPr/>
          </p:nvSpPr>
          <p:spPr>
            <a:xfrm>
              <a:off x="494172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90"/>
            <p:cNvGrpSpPr/>
            <p:nvPr/>
          </p:nvGrpSpPr>
          <p:grpSpPr>
            <a:xfrm>
              <a:off x="5080680" y="2093040"/>
              <a:ext cx="154080" cy="32040"/>
              <a:chOff x="5080680" y="2093040"/>
              <a:chExt cx="154080" cy="32040"/>
            </a:xfrm>
          </p:grpSpPr>
          <p:sp>
            <p:nvSpPr>
              <p:cNvPr id="3327" name="AutoShape 91"/>
              <p:cNvSpPr/>
              <p:nvPr/>
            </p:nvSpPr>
            <p:spPr>
              <a:xfrm>
                <a:off x="50806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92"/>
              <p:cNvSpPr/>
              <p:nvPr/>
            </p:nvSpPr>
            <p:spPr>
              <a:xfrm>
                <a:off x="50835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Rectangle 93"/>
            <p:cNvSpPr/>
            <p:nvPr/>
          </p:nvSpPr>
          <p:spPr>
            <a:xfrm>
              <a:off x="4940280" y="21812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Rectangle 94"/>
            <p:cNvSpPr/>
            <p:nvPr/>
          </p:nvSpPr>
          <p:spPr>
            <a:xfrm>
              <a:off x="4943520" y="22528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1" name="Group 95"/>
            <p:cNvGrpSpPr/>
            <p:nvPr/>
          </p:nvGrpSpPr>
          <p:grpSpPr>
            <a:xfrm>
              <a:off x="5077440" y="2245680"/>
              <a:ext cx="154080" cy="36000"/>
              <a:chOff x="5077440" y="2245680"/>
              <a:chExt cx="154080" cy="36000"/>
            </a:xfrm>
          </p:grpSpPr>
          <p:sp>
            <p:nvSpPr>
              <p:cNvPr id="3332" name="AutoShape 96"/>
              <p:cNvSpPr/>
              <p:nvPr/>
            </p:nvSpPr>
            <p:spPr>
              <a:xfrm>
                <a:off x="5077440" y="224568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AutoShape 97"/>
              <p:cNvSpPr/>
              <p:nvPr/>
            </p:nvSpPr>
            <p:spPr>
              <a:xfrm>
                <a:off x="5080320" y="225036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4" name="Freeform 98"/>
            <p:cNvSpPr/>
            <p:nvPr/>
          </p:nvSpPr>
          <p:spPr>
            <a:xfrm>
              <a:off x="522396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5" name="Group 99"/>
            <p:cNvGrpSpPr/>
            <p:nvPr/>
          </p:nvGrpSpPr>
          <p:grpSpPr>
            <a:xfrm>
              <a:off x="5078520" y="2173320"/>
              <a:ext cx="154080" cy="33120"/>
              <a:chOff x="5078520" y="2173320"/>
              <a:chExt cx="154080" cy="33120"/>
            </a:xfrm>
          </p:grpSpPr>
          <p:sp>
            <p:nvSpPr>
              <p:cNvPr id="3336" name="AutoShape 100"/>
              <p:cNvSpPr/>
              <p:nvPr/>
            </p:nvSpPr>
            <p:spPr>
              <a:xfrm>
                <a:off x="5078520" y="217332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AutoShape 101"/>
              <p:cNvSpPr/>
              <p:nvPr/>
            </p:nvSpPr>
            <p:spPr>
              <a:xfrm>
                <a:off x="5081400" y="2176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8" name="Rectangle 102"/>
            <p:cNvSpPr/>
            <p:nvPr/>
          </p:nvSpPr>
          <p:spPr>
            <a:xfrm>
              <a:off x="521352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103"/>
            <p:cNvSpPr/>
            <p:nvPr/>
          </p:nvSpPr>
          <p:spPr>
            <a:xfrm>
              <a:off x="523044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104"/>
            <p:cNvSpPr/>
            <p:nvPr/>
          </p:nvSpPr>
          <p:spPr>
            <a:xfrm>
              <a:off x="523116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05"/>
            <p:cNvSpPr/>
            <p:nvPr/>
          </p:nvSpPr>
          <p:spPr>
            <a:xfrm>
              <a:off x="528480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106"/>
            <p:cNvSpPr/>
            <p:nvPr/>
          </p:nvSpPr>
          <p:spPr>
            <a:xfrm>
              <a:off x="52279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AutoShape 107"/>
            <p:cNvSpPr/>
            <p:nvPr/>
          </p:nvSpPr>
          <p:spPr>
            <a:xfrm>
              <a:off x="4919760" y="249876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AutoShape 108"/>
            <p:cNvSpPr/>
            <p:nvPr/>
          </p:nvSpPr>
          <p:spPr>
            <a:xfrm>
              <a:off x="4937040" y="250704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Oval 109"/>
            <p:cNvSpPr/>
            <p:nvPr/>
          </p:nvSpPr>
          <p:spPr>
            <a:xfrm>
              <a:off x="4964040" y="242748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Oval 110"/>
            <p:cNvSpPr/>
            <p:nvPr/>
          </p:nvSpPr>
          <p:spPr>
            <a:xfrm>
              <a:off x="50115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111"/>
            <p:cNvSpPr/>
            <p:nvPr/>
          </p:nvSpPr>
          <p:spPr>
            <a:xfrm>
              <a:off x="505764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Rectangle 112"/>
            <p:cNvSpPr/>
            <p:nvPr/>
          </p:nvSpPr>
          <p:spPr>
            <a:xfrm>
              <a:off x="51642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9" name="Group 113"/>
          <p:cNvGrpSpPr/>
          <p:nvPr/>
        </p:nvGrpSpPr>
        <p:grpSpPr>
          <a:xfrm>
            <a:off x="5834160" y="1479600"/>
            <a:ext cx="377640" cy="576000"/>
            <a:chOff x="5834160" y="1479600"/>
            <a:chExt cx="377640" cy="576000"/>
          </a:xfrm>
        </p:grpSpPr>
        <p:sp>
          <p:nvSpPr>
            <p:cNvPr id="3350" name="Freeform 114"/>
            <p:cNvSpPr/>
            <p:nvPr/>
          </p:nvSpPr>
          <p:spPr>
            <a:xfrm>
              <a:off x="613296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Rectangle 115"/>
            <p:cNvSpPr/>
            <p:nvPr/>
          </p:nvSpPr>
          <p:spPr>
            <a:xfrm>
              <a:off x="58514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116"/>
            <p:cNvSpPr/>
            <p:nvPr/>
          </p:nvSpPr>
          <p:spPr>
            <a:xfrm>
              <a:off x="61473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117"/>
            <p:cNvSpPr/>
            <p:nvPr/>
          </p:nvSpPr>
          <p:spPr>
            <a:xfrm>
              <a:off x="613728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Rectangle 118"/>
            <p:cNvSpPr/>
            <p:nvPr/>
          </p:nvSpPr>
          <p:spPr>
            <a:xfrm>
              <a:off x="58532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5" name="Group 119"/>
            <p:cNvGrpSpPr/>
            <p:nvPr/>
          </p:nvGrpSpPr>
          <p:grpSpPr>
            <a:xfrm>
              <a:off x="5995440" y="1536840"/>
              <a:ext cx="154080" cy="34560"/>
              <a:chOff x="5995440" y="1536840"/>
              <a:chExt cx="154080" cy="34560"/>
            </a:xfrm>
          </p:grpSpPr>
          <p:sp>
            <p:nvSpPr>
              <p:cNvPr id="3356" name="AutoShape 120"/>
              <p:cNvSpPr/>
              <p:nvPr/>
            </p:nvSpPr>
            <p:spPr>
              <a:xfrm>
                <a:off x="599544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AutoShape 121"/>
              <p:cNvSpPr/>
              <p:nvPr/>
            </p:nvSpPr>
            <p:spPr>
              <a:xfrm>
                <a:off x="599832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8" name="Rectangle 122"/>
            <p:cNvSpPr/>
            <p:nvPr/>
          </p:nvSpPr>
          <p:spPr>
            <a:xfrm>
              <a:off x="585612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23"/>
            <p:cNvGrpSpPr/>
            <p:nvPr/>
          </p:nvGrpSpPr>
          <p:grpSpPr>
            <a:xfrm>
              <a:off x="5995080" y="1615320"/>
              <a:ext cx="154080" cy="32040"/>
              <a:chOff x="5995080" y="1615320"/>
              <a:chExt cx="154080" cy="32040"/>
            </a:xfrm>
          </p:grpSpPr>
          <p:sp>
            <p:nvSpPr>
              <p:cNvPr id="3360" name="AutoShape 124"/>
              <p:cNvSpPr/>
              <p:nvPr/>
            </p:nvSpPr>
            <p:spPr>
              <a:xfrm>
                <a:off x="59950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25"/>
              <p:cNvSpPr/>
              <p:nvPr/>
            </p:nvSpPr>
            <p:spPr>
              <a:xfrm>
                <a:off x="59979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Rectangle 126"/>
            <p:cNvSpPr/>
            <p:nvPr/>
          </p:nvSpPr>
          <p:spPr>
            <a:xfrm>
              <a:off x="5854680" y="17035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Rectangle 127"/>
            <p:cNvSpPr/>
            <p:nvPr/>
          </p:nvSpPr>
          <p:spPr>
            <a:xfrm>
              <a:off x="5857920" y="17751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4" name="Group 128"/>
            <p:cNvGrpSpPr/>
            <p:nvPr/>
          </p:nvGrpSpPr>
          <p:grpSpPr>
            <a:xfrm>
              <a:off x="5991840" y="1767960"/>
              <a:ext cx="154080" cy="36000"/>
              <a:chOff x="5991840" y="1767960"/>
              <a:chExt cx="154080" cy="36000"/>
            </a:xfrm>
          </p:grpSpPr>
          <p:sp>
            <p:nvSpPr>
              <p:cNvPr id="3365" name="AutoShape 129"/>
              <p:cNvSpPr/>
              <p:nvPr/>
            </p:nvSpPr>
            <p:spPr>
              <a:xfrm>
                <a:off x="5991840" y="17679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AutoShape 130"/>
              <p:cNvSpPr/>
              <p:nvPr/>
            </p:nvSpPr>
            <p:spPr>
              <a:xfrm>
                <a:off x="5994720" y="17726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7" name="Freeform 131"/>
            <p:cNvSpPr/>
            <p:nvPr/>
          </p:nvSpPr>
          <p:spPr>
            <a:xfrm>
              <a:off x="613836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8" name="Group 132"/>
            <p:cNvGrpSpPr/>
            <p:nvPr/>
          </p:nvGrpSpPr>
          <p:grpSpPr>
            <a:xfrm>
              <a:off x="5992920" y="1695600"/>
              <a:ext cx="154080" cy="33120"/>
              <a:chOff x="5992920" y="1695600"/>
              <a:chExt cx="154080" cy="33120"/>
            </a:xfrm>
          </p:grpSpPr>
          <p:sp>
            <p:nvSpPr>
              <p:cNvPr id="3369" name="AutoShape 133"/>
              <p:cNvSpPr/>
              <p:nvPr/>
            </p:nvSpPr>
            <p:spPr>
              <a:xfrm>
                <a:off x="5992920" y="16956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AutoShape 134"/>
              <p:cNvSpPr/>
              <p:nvPr/>
            </p:nvSpPr>
            <p:spPr>
              <a:xfrm>
                <a:off x="5995800" y="1698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1" name="Rectangle 135"/>
            <p:cNvSpPr/>
            <p:nvPr/>
          </p:nvSpPr>
          <p:spPr>
            <a:xfrm>
              <a:off x="612792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136"/>
            <p:cNvSpPr/>
            <p:nvPr/>
          </p:nvSpPr>
          <p:spPr>
            <a:xfrm>
              <a:off x="614484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137"/>
            <p:cNvSpPr/>
            <p:nvPr/>
          </p:nvSpPr>
          <p:spPr>
            <a:xfrm>
              <a:off x="614556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38"/>
            <p:cNvSpPr/>
            <p:nvPr/>
          </p:nvSpPr>
          <p:spPr>
            <a:xfrm>
              <a:off x="619920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139"/>
            <p:cNvSpPr/>
            <p:nvPr/>
          </p:nvSpPr>
          <p:spPr>
            <a:xfrm>
              <a:off x="61423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AutoShape 140"/>
            <p:cNvSpPr/>
            <p:nvPr/>
          </p:nvSpPr>
          <p:spPr>
            <a:xfrm>
              <a:off x="5834160" y="20210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AutoShape 141"/>
            <p:cNvSpPr/>
            <p:nvPr/>
          </p:nvSpPr>
          <p:spPr>
            <a:xfrm>
              <a:off x="5851440" y="20293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Oval 142"/>
            <p:cNvSpPr/>
            <p:nvPr/>
          </p:nvSpPr>
          <p:spPr>
            <a:xfrm>
              <a:off x="5878440" y="194976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Oval 143"/>
            <p:cNvSpPr/>
            <p:nvPr/>
          </p:nvSpPr>
          <p:spPr>
            <a:xfrm>
              <a:off x="59259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Oval 144"/>
            <p:cNvSpPr/>
            <p:nvPr/>
          </p:nvSpPr>
          <p:spPr>
            <a:xfrm>
              <a:off x="597204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145"/>
            <p:cNvSpPr/>
            <p:nvPr/>
          </p:nvSpPr>
          <p:spPr>
            <a:xfrm>
              <a:off x="60786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2" name="Group 146"/>
          <p:cNvGrpSpPr/>
          <p:nvPr/>
        </p:nvGrpSpPr>
        <p:grpSpPr>
          <a:xfrm>
            <a:off x="6586560" y="1511280"/>
            <a:ext cx="377640" cy="576000"/>
            <a:chOff x="6586560" y="1511280"/>
            <a:chExt cx="377640" cy="576000"/>
          </a:xfrm>
        </p:grpSpPr>
        <p:sp>
          <p:nvSpPr>
            <p:cNvPr id="3383" name="Freeform 147"/>
            <p:cNvSpPr/>
            <p:nvPr/>
          </p:nvSpPr>
          <p:spPr>
            <a:xfrm>
              <a:off x="688536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Rectangle 148"/>
            <p:cNvSpPr/>
            <p:nvPr/>
          </p:nvSpPr>
          <p:spPr>
            <a:xfrm>
              <a:off x="66038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149"/>
            <p:cNvSpPr/>
            <p:nvPr/>
          </p:nvSpPr>
          <p:spPr>
            <a:xfrm>
              <a:off x="68997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150"/>
            <p:cNvSpPr/>
            <p:nvPr/>
          </p:nvSpPr>
          <p:spPr>
            <a:xfrm>
              <a:off x="688968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Rectangle 151"/>
            <p:cNvSpPr/>
            <p:nvPr/>
          </p:nvSpPr>
          <p:spPr>
            <a:xfrm>
              <a:off x="66056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8" name="Group 152"/>
            <p:cNvGrpSpPr/>
            <p:nvPr/>
          </p:nvGrpSpPr>
          <p:grpSpPr>
            <a:xfrm>
              <a:off x="6747840" y="1568520"/>
              <a:ext cx="154080" cy="34560"/>
              <a:chOff x="6747840" y="1568520"/>
              <a:chExt cx="154080" cy="34560"/>
            </a:xfrm>
          </p:grpSpPr>
          <p:sp>
            <p:nvSpPr>
              <p:cNvPr id="3389" name="AutoShape 153"/>
              <p:cNvSpPr/>
              <p:nvPr/>
            </p:nvSpPr>
            <p:spPr>
              <a:xfrm>
                <a:off x="674784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AutoShape 154"/>
              <p:cNvSpPr/>
              <p:nvPr/>
            </p:nvSpPr>
            <p:spPr>
              <a:xfrm>
                <a:off x="675072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1" name="Rectangle 155"/>
            <p:cNvSpPr/>
            <p:nvPr/>
          </p:nvSpPr>
          <p:spPr>
            <a:xfrm>
              <a:off x="660852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56"/>
            <p:cNvGrpSpPr/>
            <p:nvPr/>
          </p:nvGrpSpPr>
          <p:grpSpPr>
            <a:xfrm>
              <a:off x="6747480" y="1647000"/>
              <a:ext cx="154080" cy="32040"/>
              <a:chOff x="6747480" y="1647000"/>
              <a:chExt cx="154080" cy="32040"/>
            </a:xfrm>
          </p:grpSpPr>
          <p:sp>
            <p:nvSpPr>
              <p:cNvPr id="3393" name="AutoShape 157"/>
              <p:cNvSpPr/>
              <p:nvPr/>
            </p:nvSpPr>
            <p:spPr>
              <a:xfrm>
                <a:off x="67474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58"/>
              <p:cNvSpPr/>
              <p:nvPr/>
            </p:nvSpPr>
            <p:spPr>
              <a:xfrm>
                <a:off x="67503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Rectangle 159"/>
            <p:cNvSpPr/>
            <p:nvPr/>
          </p:nvSpPr>
          <p:spPr>
            <a:xfrm>
              <a:off x="6607080" y="173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Rectangle 160"/>
            <p:cNvSpPr/>
            <p:nvPr/>
          </p:nvSpPr>
          <p:spPr>
            <a:xfrm>
              <a:off x="6610320" y="180684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7" name="Group 161"/>
            <p:cNvGrpSpPr/>
            <p:nvPr/>
          </p:nvGrpSpPr>
          <p:grpSpPr>
            <a:xfrm>
              <a:off x="6744240" y="1799640"/>
              <a:ext cx="154080" cy="36000"/>
              <a:chOff x="6744240" y="1799640"/>
              <a:chExt cx="154080" cy="36000"/>
            </a:xfrm>
          </p:grpSpPr>
          <p:sp>
            <p:nvSpPr>
              <p:cNvPr id="3398" name="AutoShape 162"/>
              <p:cNvSpPr/>
              <p:nvPr/>
            </p:nvSpPr>
            <p:spPr>
              <a:xfrm>
                <a:off x="6744240" y="179964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AutoShape 163"/>
              <p:cNvSpPr/>
              <p:nvPr/>
            </p:nvSpPr>
            <p:spPr>
              <a:xfrm>
                <a:off x="6747120" y="180432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0" name="Freeform 164"/>
            <p:cNvSpPr/>
            <p:nvPr/>
          </p:nvSpPr>
          <p:spPr>
            <a:xfrm>
              <a:off x="689076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1" name="Group 165"/>
            <p:cNvGrpSpPr/>
            <p:nvPr/>
          </p:nvGrpSpPr>
          <p:grpSpPr>
            <a:xfrm>
              <a:off x="6745320" y="1727280"/>
              <a:ext cx="154080" cy="33120"/>
              <a:chOff x="6745320" y="1727280"/>
              <a:chExt cx="154080" cy="33120"/>
            </a:xfrm>
          </p:grpSpPr>
          <p:sp>
            <p:nvSpPr>
              <p:cNvPr id="3402" name="AutoShape 166"/>
              <p:cNvSpPr/>
              <p:nvPr/>
            </p:nvSpPr>
            <p:spPr>
              <a:xfrm>
                <a:off x="6745320" y="172728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AutoShape 167"/>
              <p:cNvSpPr/>
              <p:nvPr/>
            </p:nvSpPr>
            <p:spPr>
              <a:xfrm>
                <a:off x="6748200" y="173016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4" name="Rectangle 168"/>
            <p:cNvSpPr/>
            <p:nvPr/>
          </p:nvSpPr>
          <p:spPr>
            <a:xfrm>
              <a:off x="688032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169"/>
            <p:cNvSpPr/>
            <p:nvPr/>
          </p:nvSpPr>
          <p:spPr>
            <a:xfrm>
              <a:off x="689724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170"/>
            <p:cNvSpPr/>
            <p:nvPr/>
          </p:nvSpPr>
          <p:spPr>
            <a:xfrm>
              <a:off x="689796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171"/>
            <p:cNvSpPr/>
            <p:nvPr/>
          </p:nvSpPr>
          <p:spPr>
            <a:xfrm>
              <a:off x="695160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72"/>
            <p:cNvSpPr/>
            <p:nvPr/>
          </p:nvSpPr>
          <p:spPr>
            <a:xfrm>
              <a:off x="68947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AutoShape 173"/>
            <p:cNvSpPr/>
            <p:nvPr/>
          </p:nvSpPr>
          <p:spPr>
            <a:xfrm>
              <a:off x="6586560" y="205272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AutoShape 174"/>
            <p:cNvSpPr/>
            <p:nvPr/>
          </p:nvSpPr>
          <p:spPr>
            <a:xfrm>
              <a:off x="6603840" y="206100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Oval 175"/>
            <p:cNvSpPr/>
            <p:nvPr/>
          </p:nvSpPr>
          <p:spPr>
            <a:xfrm>
              <a:off x="6630840" y="198144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Oval 176"/>
            <p:cNvSpPr/>
            <p:nvPr/>
          </p:nvSpPr>
          <p:spPr>
            <a:xfrm>
              <a:off x="66783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Oval 177"/>
            <p:cNvSpPr/>
            <p:nvPr/>
          </p:nvSpPr>
          <p:spPr>
            <a:xfrm>
              <a:off x="672444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Rectangle 178"/>
            <p:cNvSpPr/>
            <p:nvPr/>
          </p:nvSpPr>
          <p:spPr>
            <a:xfrm>
              <a:off x="68310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5" name="Group 179"/>
          <p:cNvGrpSpPr/>
          <p:nvPr/>
        </p:nvGrpSpPr>
        <p:grpSpPr>
          <a:xfrm>
            <a:off x="7196040" y="1663560"/>
            <a:ext cx="378000" cy="576000"/>
            <a:chOff x="7196040" y="1663560"/>
            <a:chExt cx="378000" cy="576000"/>
          </a:xfrm>
        </p:grpSpPr>
        <p:sp>
          <p:nvSpPr>
            <p:cNvPr id="3416" name="Freeform 180"/>
            <p:cNvSpPr/>
            <p:nvPr/>
          </p:nvSpPr>
          <p:spPr>
            <a:xfrm>
              <a:off x="74952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Rectangle 181"/>
            <p:cNvSpPr/>
            <p:nvPr/>
          </p:nvSpPr>
          <p:spPr>
            <a:xfrm>
              <a:off x="721332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182"/>
            <p:cNvSpPr/>
            <p:nvPr/>
          </p:nvSpPr>
          <p:spPr>
            <a:xfrm>
              <a:off x="750924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183"/>
            <p:cNvSpPr/>
            <p:nvPr/>
          </p:nvSpPr>
          <p:spPr>
            <a:xfrm>
              <a:off x="74995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Rectangle 184"/>
            <p:cNvSpPr/>
            <p:nvPr/>
          </p:nvSpPr>
          <p:spPr>
            <a:xfrm>
              <a:off x="721512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1" name="Group 185"/>
            <p:cNvGrpSpPr/>
            <p:nvPr/>
          </p:nvGrpSpPr>
          <p:grpSpPr>
            <a:xfrm>
              <a:off x="7357680" y="1720800"/>
              <a:ext cx="154080" cy="34560"/>
              <a:chOff x="7357680" y="1720800"/>
              <a:chExt cx="154080" cy="34560"/>
            </a:xfrm>
          </p:grpSpPr>
          <p:sp>
            <p:nvSpPr>
              <p:cNvPr id="3422" name="AutoShape 186"/>
              <p:cNvSpPr/>
              <p:nvPr/>
            </p:nvSpPr>
            <p:spPr>
              <a:xfrm>
                <a:off x="73576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AutoShape 187"/>
              <p:cNvSpPr/>
              <p:nvPr/>
            </p:nvSpPr>
            <p:spPr>
              <a:xfrm>
                <a:off x="73605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4" name="Rectangle 188"/>
            <p:cNvSpPr/>
            <p:nvPr/>
          </p:nvSpPr>
          <p:spPr>
            <a:xfrm>
              <a:off x="72183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189"/>
            <p:cNvGrpSpPr/>
            <p:nvPr/>
          </p:nvGrpSpPr>
          <p:grpSpPr>
            <a:xfrm>
              <a:off x="7356960" y="1799280"/>
              <a:ext cx="154080" cy="32040"/>
              <a:chOff x="7356960" y="1799280"/>
              <a:chExt cx="154080" cy="32040"/>
            </a:xfrm>
          </p:grpSpPr>
          <p:sp>
            <p:nvSpPr>
              <p:cNvPr id="3426" name="AutoShape 190"/>
              <p:cNvSpPr/>
              <p:nvPr/>
            </p:nvSpPr>
            <p:spPr>
              <a:xfrm>
                <a:off x="735696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191"/>
              <p:cNvSpPr/>
              <p:nvPr/>
            </p:nvSpPr>
            <p:spPr>
              <a:xfrm>
                <a:off x="735984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Rectangle 192"/>
            <p:cNvSpPr/>
            <p:nvPr/>
          </p:nvSpPr>
          <p:spPr>
            <a:xfrm>
              <a:off x="7216560" y="18874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Rectangle 193"/>
            <p:cNvSpPr/>
            <p:nvPr/>
          </p:nvSpPr>
          <p:spPr>
            <a:xfrm>
              <a:off x="7219800" y="19591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0" name="Group 194"/>
            <p:cNvGrpSpPr/>
            <p:nvPr/>
          </p:nvGrpSpPr>
          <p:grpSpPr>
            <a:xfrm>
              <a:off x="7353720" y="1951920"/>
              <a:ext cx="154440" cy="36000"/>
              <a:chOff x="7353720" y="1951920"/>
              <a:chExt cx="154440" cy="36000"/>
            </a:xfrm>
          </p:grpSpPr>
          <p:sp>
            <p:nvSpPr>
              <p:cNvPr id="3431" name="AutoShape 195"/>
              <p:cNvSpPr/>
              <p:nvPr/>
            </p:nvSpPr>
            <p:spPr>
              <a:xfrm>
                <a:off x="7353720" y="195192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AutoShape 196"/>
              <p:cNvSpPr/>
              <p:nvPr/>
            </p:nvSpPr>
            <p:spPr>
              <a:xfrm>
                <a:off x="7356600" y="195660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3" name="Freeform 197"/>
            <p:cNvSpPr/>
            <p:nvPr/>
          </p:nvSpPr>
          <p:spPr>
            <a:xfrm>
              <a:off x="75006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4" name="Group 198"/>
            <p:cNvGrpSpPr/>
            <p:nvPr/>
          </p:nvGrpSpPr>
          <p:grpSpPr>
            <a:xfrm>
              <a:off x="7354800" y="1879560"/>
              <a:ext cx="154440" cy="33120"/>
              <a:chOff x="7354800" y="1879560"/>
              <a:chExt cx="154440" cy="33120"/>
            </a:xfrm>
          </p:grpSpPr>
          <p:sp>
            <p:nvSpPr>
              <p:cNvPr id="3435" name="AutoShape 199"/>
              <p:cNvSpPr/>
              <p:nvPr/>
            </p:nvSpPr>
            <p:spPr>
              <a:xfrm>
                <a:off x="7354800" y="18795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AutoShape 200"/>
              <p:cNvSpPr/>
              <p:nvPr/>
            </p:nvSpPr>
            <p:spPr>
              <a:xfrm>
                <a:off x="7357680" y="18824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7" name="Rectangle 201"/>
            <p:cNvSpPr/>
            <p:nvPr/>
          </p:nvSpPr>
          <p:spPr>
            <a:xfrm>
              <a:off x="74901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202"/>
            <p:cNvSpPr/>
            <p:nvPr/>
          </p:nvSpPr>
          <p:spPr>
            <a:xfrm>
              <a:off x="75070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203"/>
            <p:cNvSpPr/>
            <p:nvPr/>
          </p:nvSpPr>
          <p:spPr>
            <a:xfrm>
              <a:off x="75078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04"/>
            <p:cNvSpPr/>
            <p:nvPr/>
          </p:nvSpPr>
          <p:spPr>
            <a:xfrm>
              <a:off x="75614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205"/>
            <p:cNvSpPr/>
            <p:nvPr/>
          </p:nvSpPr>
          <p:spPr>
            <a:xfrm>
              <a:off x="750420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AutoShape 206"/>
            <p:cNvSpPr/>
            <p:nvPr/>
          </p:nvSpPr>
          <p:spPr>
            <a:xfrm>
              <a:off x="7196040" y="22050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AutoShape 207"/>
            <p:cNvSpPr/>
            <p:nvPr/>
          </p:nvSpPr>
          <p:spPr>
            <a:xfrm>
              <a:off x="7213320" y="221328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Oval 208"/>
            <p:cNvSpPr/>
            <p:nvPr/>
          </p:nvSpPr>
          <p:spPr>
            <a:xfrm>
              <a:off x="7240320" y="213372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Oval 209"/>
            <p:cNvSpPr/>
            <p:nvPr/>
          </p:nvSpPr>
          <p:spPr>
            <a:xfrm>
              <a:off x="728784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Oval 210"/>
            <p:cNvSpPr/>
            <p:nvPr/>
          </p:nvSpPr>
          <p:spPr>
            <a:xfrm>
              <a:off x="73342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Rectangle 211"/>
            <p:cNvSpPr/>
            <p:nvPr/>
          </p:nvSpPr>
          <p:spPr>
            <a:xfrm>
              <a:off x="744048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Group 212"/>
          <p:cNvGrpSpPr/>
          <p:nvPr/>
        </p:nvGrpSpPr>
        <p:grpSpPr>
          <a:xfrm>
            <a:off x="7524720" y="2610000"/>
            <a:ext cx="378000" cy="576000"/>
            <a:chOff x="7524720" y="2610000"/>
            <a:chExt cx="378000" cy="576000"/>
          </a:xfrm>
        </p:grpSpPr>
        <p:sp>
          <p:nvSpPr>
            <p:cNvPr id="3449" name="Freeform 213"/>
            <p:cNvSpPr/>
            <p:nvPr/>
          </p:nvSpPr>
          <p:spPr>
            <a:xfrm>
              <a:off x="78238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Rectangle 214"/>
            <p:cNvSpPr/>
            <p:nvPr/>
          </p:nvSpPr>
          <p:spPr>
            <a:xfrm>
              <a:off x="754200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215"/>
            <p:cNvSpPr/>
            <p:nvPr/>
          </p:nvSpPr>
          <p:spPr>
            <a:xfrm>
              <a:off x="783792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216"/>
            <p:cNvSpPr/>
            <p:nvPr/>
          </p:nvSpPr>
          <p:spPr>
            <a:xfrm>
              <a:off x="78282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Rectangle 217"/>
            <p:cNvSpPr/>
            <p:nvPr/>
          </p:nvSpPr>
          <p:spPr>
            <a:xfrm>
              <a:off x="754380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218"/>
            <p:cNvGrpSpPr/>
            <p:nvPr/>
          </p:nvGrpSpPr>
          <p:grpSpPr>
            <a:xfrm>
              <a:off x="7686360" y="2667240"/>
              <a:ext cx="154080" cy="34560"/>
              <a:chOff x="7686360" y="2667240"/>
              <a:chExt cx="154080" cy="34560"/>
            </a:xfrm>
          </p:grpSpPr>
          <p:sp>
            <p:nvSpPr>
              <p:cNvPr id="3455" name="AutoShape 219"/>
              <p:cNvSpPr/>
              <p:nvPr/>
            </p:nvSpPr>
            <p:spPr>
              <a:xfrm>
                <a:off x="76863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AutoShape 220"/>
              <p:cNvSpPr/>
              <p:nvPr/>
            </p:nvSpPr>
            <p:spPr>
              <a:xfrm>
                <a:off x="76892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Rectangle 221"/>
            <p:cNvSpPr/>
            <p:nvPr/>
          </p:nvSpPr>
          <p:spPr>
            <a:xfrm>
              <a:off x="75470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8" name="Group 222"/>
            <p:cNvGrpSpPr/>
            <p:nvPr/>
          </p:nvGrpSpPr>
          <p:grpSpPr>
            <a:xfrm>
              <a:off x="7685640" y="2745720"/>
              <a:ext cx="154080" cy="32040"/>
              <a:chOff x="7685640" y="2745720"/>
              <a:chExt cx="154080" cy="32040"/>
            </a:xfrm>
          </p:grpSpPr>
          <p:sp>
            <p:nvSpPr>
              <p:cNvPr id="3459" name="AutoShape 223"/>
              <p:cNvSpPr/>
              <p:nvPr/>
            </p:nvSpPr>
            <p:spPr>
              <a:xfrm>
                <a:off x="768564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AutoShape 224"/>
              <p:cNvSpPr/>
              <p:nvPr/>
            </p:nvSpPr>
            <p:spPr>
              <a:xfrm>
                <a:off x="768852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1" name="Rectangle 225"/>
            <p:cNvSpPr/>
            <p:nvPr/>
          </p:nvSpPr>
          <p:spPr>
            <a:xfrm>
              <a:off x="7545240" y="28339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Rectangle 226"/>
            <p:cNvSpPr/>
            <p:nvPr/>
          </p:nvSpPr>
          <p:spPr>
            <a:xfrm>
              <a:off x="7548480" y="290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3" name="Group 227"/>
            <p:cNvGrpSpPr/>
            <p:nvPr/>
          </p:nvGrpSpPr>
          <p:grpSpPr>
            <a:xfrm>
              <a:off x="7682400" y="2898000"/>
              <a:ext cx="154440" cy="36000"/>
              <a:chOff x="7682400" y="2898000"/>
              <a:chExt cx="154440" cy="36000"/>
            </a:xfrm>
          </p:grpSpPr>
          <p:sp>
            <p:nvSpPr>
              <p:cNvPr id="3464" name="AutoShape 228"/>
              <p:cNvSpPr/>
              <p:nvPr/>
            </p:nvSpPr>
            <p:spPr>
              <a:xfrm>
                <a:off x="7682400" y="289800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AutoShape 229"/>
              <p:cNvSpPr/>
              <p:nvPr/>
            </p:nvSpPr>
            <p:spPr>
              <a:xfrm>
                <a:off x="7685280" y="290268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6" name="Freeform 230"/>
            <p:cNvSpPr/>
            <p:nvPr/>
          </p:nvSpPr>
          <p:spPr>
            <a:xfrm>
              <a:off x="78292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7" name="Group 231"/>
            <p:cNvGrpSpPr/>
            <p:nvPr/>
          </p:nvGrpSpPr>
          <p:grpSpPr>
            <a:xfrm>
              <a:off x="7683480" y="2826000"/>
              <a:ext cx="154440" cy="33120"/>
              <a:chOff x="7683480" y="2826000"/>
              <a:chExt cx="154440" cy="33120"/>
            </a:xfrm>
          </p:grpSpPr>
          <p:sp>
            <p:nvSpPr>
              <p:cNvPr id="3468" name="AutoShape 232"/>
              <p:cNvSpPr/>
              <p:nvPr/>
            </p:nvSpPr>
            <p:spPr>
              <a:xfrm>
                <a:off x="7683480" y="28260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AutoShape 233"/>
              <p:cNvSpPr/>
              <p:nvPr/>
            </p:nvSpPr>
            <p:spPr>
              <a:xfrm>
                <a:off x="7686360" y="28288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34"/>
            <p:cNvSpPr/>
            <p:nvPr/>
          </p:nvSpPr>
          <p:spPr>
            <a:xfrm>
              <a:off x="78188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235"/>
            <p:cNvSpPr/>
            <p:nvPr/>
          </p:nvSpPr>
          <p:spPr>
            <a:xfrm>
              <a:off x="78357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236"/>
            <p:cNvSpPr/>
            <p:nvPr/>
          </p:nvSpPr>
          <p:spPr>
            <a:xfrm>
              <a:off x="78364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Oval 237"/>
            <p:cNvSpPr/>
            <p:nvPr/>
          </p:nvSpPr>
          <p:spPr>
            <a:xfrm>
              <a:off x="78901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238"/>
            <p:cNvSpPr/>
            <p:nvPr/>
          </p:nvSpPr>
          <p:spPr>
            <a:xfrm>
              <a:off x="783288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AutoShape 239"/>
            <p:cNvSpPr/>
            <p:nvPr/>
          </p:nvSpPr>
          <p:spPr>
            <a:xfrm>
              <a:off x="7524720" y="31514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AutoShape 240"/>
            <p:cNvSpPr/>
            <p:nvPr/>
          </p:nvSpPr>
          <p:spPr>
            <a:xfrm>
              <a:off x="7542000" y="315936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Oval 241"/>
            <p:cNvSpPr/>
            <p:nvPr/>
          </p:nvSpPr>
          <p:spPr>
            <a:xfrm>
              <a:off x="7569000" y="307980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Oval 242"/>
            <p:cNvSpPr/>
            <p:nvPr/>
          </p:nvSpPr>
          <p:spPr>
            <a:xfrm>
              <a:off x="761652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Oval 243"/>
            <p:cNvSpPr/>
            <p:nvPr/>
          </p:nvSpPr>
          <p:spPr>
            <a:xfrm>
              <a:off x="76629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Rectangle 244"/>
            <p:cNvSpPr/>
            <p:nvPr/>
          </p:nvSpPr>
          <p:spPr>
            <a:xfrm>
              <a:off x="776916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1" name="Freeform 71"/>
          <p:cNvSpPr/>
          <p:nvPr/>
        </p:nvSpPr>
        <p:spPr>
          <a:xfrm>
            <a:off x="4932360" y="4392720"/>
            <a:ext cx="2965320" cy="1390680"/>
          </a:xfrm>
          <a:custGeom>
            <a:avLst/>
            <a:gdLst>
              <a:gd name="textAreaLeft" fmla="*/ 0 w 2965320"/>
              <a:gd name="textAreaRight" fmla="*/ 2965680 w 296532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Line 77"/>
          <p:cNvSpPr/>
          <p:nvPr/>
        </p:nvSpPr>
        <p:spPr>
          <a:xfrm flipH="1">
            <a:off x="53812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Line 78"/>
          <p:cNvSpPr/>
          <p:nvPr/>
        </p:nvSpPr>
        <p:spPr>
          <a:xfrm flipH="1">
            <a:off x="5891040" y="4749840"/>
            <a:ext cx="56376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Line 79"/>
          <p:cNvSpPr/>
          <p:nvPr/>
        </p:nvSpPr>
        <p:spPr>
          <a:xfrm flipH="1">
            <a:off x="6428880" y="4756320"/>
            <a:ext cx="14940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Line 80"/>
          <p:cNvSpPr/>
          <p:nvPr/>
        </p:nvSpPr>
        <p:spPr>
          <a:xfrm>
            <a:off x="67960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97"/>
          <p:cNvSpPr/>
          <p:nvPr/>
        </p:nvSpPr>
        <p:spPr>
          <a:xfrm>
            <a:off x="49593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98"/>
          <p:cNvSpPr/>
          <p:nvPr/>
        </p:nvSpPr>
        <p:spPr>
          <a:xfrm>
            <a:off x="696996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8" name="Group 120"/>
          <p:cNvGrpSpPr/>
          <p:nvPr/>
        </p:nvGrpSpPr>
        <p:grpSpPr>
          <a:xfrm>
            <a:off x="6154560" y="4460760"/>
            <a:ext cx="881280" cy="307800"/>
            <a:chOff x="6154560" y="4460760"/>
            <a:chExt cx="881280" cy="307800"/>
          </a:xfrm>
        </p:grpSpPr>
        <p:sp>
          <p:nvSpPr>
            <p:cNvPr id="3489" name="Oval 407"/>
            <p:cNvSpPr/>
            <p:nvPr/>
          </p:nvSpPr>
          <p:spPr>
            <a:xfrm>
              <a:off x="6156360" y="459540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Rectangle 410"/>
            <p:cNvSpPr/>
            <p:nvPr/>
          </p:nvSpPr>
          <p:spPr>
            <a:xfrm>
              <a:off x="6156360" y="457812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Oval 411"/>
            <p:cNvSpPr/>
            <p:nvPr/>
          </p:nvSpPr>
          <p:spPr>
            <a:xfrm>
              <a:off x="6154560" y="446076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2" name="Group 124"/>
            <p:cNvGrpSpPr/>
            <p:nvPr/>
          </p:nvGrpSpPr>
          <p:grpSpPr>
            <a:xfrm>
              <a:off x="6332400" y="4511520"/>
              <a:ext cx="492120" cy="95040"/>
              <a:chOff x="6332400" y="4511520"/>
              <a:chExt cx="492120" cy="95040"/>
            </a:xfrm>
          </p:grpSpPr>
          <p:sp>
            <p:nvSpPr>
              <p:cNvPr id="3493" name="Freeform 125"/>
              <p:cNvSpPr/>
              <p:nvPr/>
            </p:nvSpPr>
            <p:spPr>
              <a:xfrm>
                <a:off x="6332400" y="451152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126"/>
              <p:cNvSpPr/>
              <p:nvPr/>
            </p:nvSpPr>
            <p:spPr>
              <a:xfrm>
                <a:off x="6354720" y="451152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5" name="Line 127"/>
            <p:cNvSpPr/>
            <p:nvPr/>
          </p:nvSpPr>
          <p:spPr>
            <a:xfrm>
              <a:off x="61563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Line 128"/>
            <p:cNvSpPr/>
            <p:nvPr/>
          </p:nvSpPr>
          <p:spPr>
            <a:xfrm>
              <a:off x="70293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7" name="Group 172"/>
          <p:cNvGrpSpPr/>
          <p:nvPr/>
        </p:nvGrpSpPr>
        <p:grpSpPr>
          <a:xfrm>
            <a:off x="5068800" y="5070600"/>
            <a:ext cx="525600" cy="556920"/>
            <a:chOff x="5068800" y="5070600"/>
            <a:chExt cx="525600" cy="556920"/>
          </a:xfrm>
        </p:grpSpPr>
        <p:pic>
          <p:nvPicPr>
            <p:cNvPr id="349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068800" y="507060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9" name="Freeform 174"/>
            <p:cNvSpPr/>
            <p:nvPr/>
          </p:nvSpPr>
          <p:spPr>
            <a:xfrm flipH="1">
              <a:off x="5292720" y="512388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0" name="Group 340"/>
          <p:cNvGrpSpPr/>
          <p:nvPr/>
        </p:nvGrpSpPr>
        <p:grpSpPr>
          <a:xfrm>
            <a:off x="5580000" y="5092560"/>
            <a:ext cx="525600" cy="557280"/>
            <a:chOff x="5580000" y="5092560"/>
            <a:chExt cx="525600" cy="557280"/>
          </a:xfrm>
        </p:grpSpPr>
        <p:pic>
          <p:nvPicPr>
            <p:cNvPr id="350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580000" y="5092560"/>
              <a:ext cx="525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2" name="Freeform 342"/>
            <p:cNvSpPr/>
            <p:nvPr/>
          </p:nvSpPr>
          <p:spPr>
            <a:xfrm flipH="1">
              <a:off x="5803920" y="5145840"/>
              <a:ext cx="255600" cy="2552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3" name="Group 343"/>
          <p:cNvGrpSpPr/>
          <p:nvPr/>
        </p:nvGrpSpPr>
        <p:grpSpPr>
          <a:xfrm>
            <a:off x="6103800" y="5081760"/>
            <a:ext cx="525600" cy="556920"/>
            <a:chOff x="6103800" y="5081760"/>
            <a:chExt cx="525600" cy="556920"/>
          </a:xfrm>
        </p:grpSpPr>
        <p:pic>
          <p:nvPicPr>
            <p:cNvPr id="350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103800" y="5081760"/>
              <a:ext cx="5256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5" name="Freeform 345"/>
            <p:cNvSpPr/>
            <p:nvPr/>
          </p:nvSpPr>
          <p:spPr>
            <a:xfrm flipH="1">
              <a:off x="6327720" y="5135040"/>
              <a:ext cx="255600" cy="2548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6" name="Group 308"/>
          <p:cNvGrpSpPr/>
          <p:nvPr/>
        </p:nvGrpSpPr>
        <p:grpSpPr>
          <a:xfrm>
            <a:off x="6719760" y="4941720"/>
            <a:ext cx="1859760" cy="810720"/>
            <a:chOff x="6719760" y="4941720"/>
            <a:chExt cx="1859760" cy="810720"/>
          </a:xfrm>
        </p:grpSpPr>
        <p:sp>
          <p:nvSpPr>
            <p:cNvPr id="3507" name="Rectangle 307"/>
            <p:cNvSpPr/>
            <p:nvPr/>
          </p:nvSpPr>
          <p:spPr>
            <a:xfrm>
              <a:off x="671976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Text Box 97"/>
            <p:cNvSpPr/>
            <p:nvPr/>
          </p:nvSpPr>
          <p:spPr>
            <a:xfrm>
              <a:off x="726660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9" name="Group 307"/>
          <p:cNvGrpSpPr/>
          <p:nvPr/>
        </p:nvGrpSpPr>
        <p:grpSpPr>
          <a:xfrm>
            <a:off x="6784920" y="5027760"/>
            <a:ext cx="378000" cy="576000"/>
            <a:chOff x="6784920" y="5027760"/>
            <a:chExt cx="378000" cy="576000"/>
          </a:xfrm>
        </p:grpSpPr>
        <p:sp>
          <p:nvSpPr>
            <p:cNvPr id="3510" name="Freeform 308"/>
            <p:cNvSpPr/>
            <p:nvPr/>
          </p:nvSpPr>
          <p:spPr>
            <a:xfrm>
              <a:off x="70840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Rectangle 309"/>
            <p:cNvSpPr/>
            <p:nvPr/>
          </p:nvSpPr>
          <p:spPr>
            <a:xfrm>
              <a:off x="680220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Freeform 310"/>
            <p:cNvSpPr/>
            <p:nvPr/>
          </p:nvSpPr>
          <p:spPr>
            <a:xfrm>
              <a:off x="709812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Freeform 311"/>
            <p:cNvSpPr/>
            <p:nvPr/>
          </p:nvSpPr>
          <p:spPr>
            <a:xfrm>
              <a:off x="70884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Rectangle 312"/>
            <p:cNvSpPr/>
            <p:nvPr/>
          </p:nvSpPr>
          <p:spPr>
            <a:xfrm>
              <a:off x="680400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5" name="Group 313"/>
            <p:cNvGrpSpPr/>
            <p:nvPr/>
          </p:nvGrpSpPr>
          <p:grpSpPr>
            <a:xfrm>
              <a:off x="6946560" y="5085000"/>
              <a:ext cx="154080" cy="34560"/>
              <a:chOff x="6946560" y="5085000"/>
              <a:chExt cx="154080" cy="34560"/>
            </a:xfrm>
          </p:grpSpPr>
          <p:sp>
            <p:nvSpPr>
              <p:cNvPr id="3516" name="AutoShape 314"/>
              <p:cNvSpPr/>
              <p:nvPr/>
            </p:nvSpPr>
            <p:spPr>
              <a:xfrm>
                <a:off x="69465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AutoShape 315"/>
              <p:cNvSpPr/>
              <p:nvPr/>
            </p:nvSpPr>
            <p:spPr>
              <a:xfrm>
                <a:off x="69494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8" name="Rectangle 316"/>
            <p:cNvSpPr/>
            <p:nvPr/>
          </p:nvSpPr>
          <p:spPr>
            <a:xfrm>
              <a:off x="68072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9" name="Group 317"/>
            <p:cNvGrpSpPr/>
            <p:nvPr/>
          </p:nvGrpSpPr>
          <p:grpSpPr>
            <a:xfrm>
              <a:off x="6945840" y="5163480"/>
              <a:ext cx="154080" cy="32040"/>
              <a:chOff x="6945840" y="5163480"/>
              <a:chExt cx="154080" cy="32040"/>
            </a:xfrm>
          </p:grpSpPr>
          <p:sp>
            <p:nvSpPr>
              <p:cNvPr id="3520" name="AutoShape 318"/>
              <p:cNvSpPr/>
              <p:nvPr/>
            </p:nvSpPr>
            <p:spPr>
              <a:xfrm>
                <a:off x="694584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AutoShape 319"/>
              <p:cNvSpPr/>
              <p:nvPr/>
            </p:nvSpPr>
            <p:spPr>
              <a:xfrm>
                <a:off x="694872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2" name="Rectangle 320"/>
            <p:cNvSpPr/>
            <p:nvPr/>
          </p:nvSpPr>
          <p:spPr>
            <a:xfrm>
              <a:off x="6805440" y="52516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Rectangle 321"/>
            <p:cNvSpPr/>
            <p:nvPr/>
          </p:nvSpPr>
          <p:spPr>
            <a:xfrm>
              <a:off x="6808680" y="53229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4" name="Group 322"/>
            <p:cNvGrpSpPr/>
            <p:nvPr/>
          </p:nvGrpSpPr>
          <p:grpSpPr>
            <a:xfrm>
              <a:off x="6942600" y="5315760"/>
              <a:ext cx="154440" cy="36000"/>
              <a:chOff x="6942600" y="5315760"/>
              <a:chExt cx="154440" cy="36000"/>
            </a:xfrm>
          </p:grpSpPr>
          <p:sp>
            <p:nvSpPr>
              <p:cNvPr id="3525" name="AutoShape 323"/>
              <p:cNvSpPr/>
              <p:nvPr/>
            </p:nvSpPr>
            <p:spPr>
              <a:xfrm>
                <a:off x="6942600" y="53157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AutoShape 324"/>
              <p:cNvSpPr/>
              <p:nvPr/>
            </p:nvSpPr>
            <p:spPr>
              <a:xfrm>
                <a:off x="6945480" y="53204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7" name="Freeform 325"/>
            <p:cNvSpPr/>
            <p:nvPr/>
          </p:nvSpPr>
          <p:spPr>
            <a:xfrm>
              <a:off x="70894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8" name="Group 326"/>
            <p:cNvGrpSpPr/>
            <p:nvPr/>
          </p:nvGrpSpPr>
          <p:grpSpPr>
            <a:xfrm>
              <a:off x="6943680" y="5243760"/>
              <a:ext cx="154440" cy="33120"/>
              <a:chOff x="6943680" y="5243760"/>
              <a:chExt cx="154440" cy="33120"/>
            </a:xfrm>
          </p:grpSpPr>
          <p:sp>
            <p:nvSpPr>
              <p:cNvPr id="3529" name="AutoShape 327"/>
              <p:cNvSpPr/>
              <p:nvPr/>
            </p:nvSpPr>
            <p:spPr>
              <a:xfrm>
                <a:off x="6943680" y="524376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AutoShape 328"/>
              <p:cNvSpPr/>
              <p:nvPr/>
            </p:nvSpPr>
            <p:spPr>
              <a:xfrm>
                <a:off x="6946560" y="524664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1" name="Rectangle 329"/>
            <p:cNvSpPr/>
            <p:nvPr/>
          </p:nvSpPr>
          <p:spPr>
            <a:xfrm>
              <a:off x="70790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Freeform 330"/>
            <p:cNvSpPr/>
            <p:nvPr/>
          </p:nvSpPr>
          <p:spPr>
            <a:xfrm>
              <a:off x="70959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Freeform 331"/>
            <p:cNvSpPr/>
            <p:nvPr/>
          </p:nvSpPr>
          <p:spPr>
            <a:xfrm>
              <a:off x="70966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Oval 332"/>
            <p:cNvSpPr/>
            <p:nvPr/>
          </p:nvSpPr>
          <p:spPr>
            <a:xfrm>
              <a:off x="71503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Freeform 333"/>
            <p:cNvSpPr/>
            <p:nvPr/>
          </p:nvSpPr>
          <p:spPr>
            <a:xfrm>
              <a:off x="709308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AutoShape 334"/>
            <p:cNvSpPr/>
            <p:nvPr/>
          </p:nvSpPr>
          <p:spPr>
            <a:xfrm>
              <a:off x="6784920" y="556920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AutoShape 335"/>
            <p:cNvSpPr/>
            <p:nvPr/>
          </p:nvSpPr>
          <p:spPr>
            <a:xfrm>
              <a:off x="6802200" y="55771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Oval 336"/>
            <p:cNvSpPr/>
            <p:nvPr/>
          </p:nvSpPr>
          <p:spPr>
            <a:xfrm>
              <a:off x="6829200" y="5497560"/>
              <a:ext cx="4140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Oval 337"/>
            <p:cNvSpPr/>
            <p:nvPr/>
          </p:nvSpPr>
          <p:spPr>
            <a:xfrm>
              <a:off x="687672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Oval 338"/>
            <p:cNvSpPr/>
            <p:nvPr/>
          </p:nvSpPr>
          <p:spPr>
            <a:xfrm>
              <a:off x="69231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Rectangle 339"/>
            <p:cNvSpPr/>
            <p:nvPr/>
          </p:nvSpPr>
          <p:spPr>
            <a:xfrm>
              <a:off x="702936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6613B4-6A5B-46A4-9123-0CE544BB6A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6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9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50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2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1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62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63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8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69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1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2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73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5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7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78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0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82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4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96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7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ED9D66-FE6B-4F34-9B87-45A7252E1C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3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D9F4C02-86CE-45A5-A580-1CC21E480D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6" name="Picture 48" descr="underline_base"/>
          <p:cNvPicPr/>
          <p:nvPr/>
        </p:nvPicPr>
        <p:blipFill>
          <a:blip r:embed="rId1"/>
          <a:stretch/>
        </p:blipFill>
        <p:spPr>
          <a:xfrm>
            <a:off x="414360" y="8352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3607" name="Freeform 46"/>
          <p:cNvSpPr/>
          <p:nvPr/>
        </p:nvSpPr>
        <p:spPr>
          <a:xfrm>
            <a:off x="6161040" y="2220840"/>
            <a:ext cx="1100160" cy="282600"/>
          </a:xfrm>
          <a:custGeom>
            <a:avLst/>
            <a:gdLst>
              <a:gd name="textAreaLeft" fmla="*/ 0 w 1100160"/>
              <a:gd name="textAreaRight" fmla="*/ 1100520 w 1100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93" h="178">
                <a:moveTo>
                  <a:pt x="0" y="116"/>
                </a:moveTo>
                <a:lnTo>
                  <a:pt x="247" y="0"/>
                </a:lnTo>
                <a:lnTo>
                  <a:pt x="693" y="0"/>
                </a:lnTo>
                <a:lnTo>
                  <a:pt x="137" y="178"/>
                </a:lnTo>
                <a:lnTo>
                  <a:pt x="0" y="11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reeform 43"/>
          <p:cNvSpPr/>
          <p:nvPr/>
        </p:nvSpPr>
        <p:spPr>
          <a:xfrm>
            <a:off x="2602080" y="2220840"/>
            <a:ext cx="1784160" cy="282600"/>
          </a:xfrm>
          <a:custGeom>
            <a:avLst/>
            <a:gdLst>
              <a:gd name="textAreaLeft" fmla="*/ 0 w 1784160"/>
              <a:gd name="textAreaRight" fmla="*/ 1784520 w 1784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124" h="178">
                <a:moveTo>
                  <a:pt x="0" y="178"/>
                </a:moveTo>
                <a:lnTo>
                  <a:pt x="41" y="7"/>
                </a:lnTo>
                <a:lnTo>
                  <a:pt x="1124" y="0"/>
                </a:lnTo>
                <a:lnTo>
                  <a:pt x="247" y="171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380880" y="2062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: the file transfer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0" name="Text Box 16"/>
          <p:cNvSpPr/>
          <p:nvPr/>
        </p:nvSpPr>
        <p:spPr>
          <a:xfrm>
            <a:off x="4645080" y="125568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l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1" name="Group 17"/>
          <p:cNvGrpSpPr/>
          <p:nvPr/>
        </p:nvGrpSpPr>
        <p:grpSpPr>
          <a:xfrm>
            <a:off x="6539400" y="1411200"/>
            <a:ext cx="744480" cy="828720"/>
            <a:chOff x="6539400" y="1411200"/>
            <a:chExt cx="744480" cy="828720"/>
          </a:xfrm>
        </p:grpSpPr>
        <p:sp>
          <p:nvSpPr>
            <p:cNvPr id="3612" name="Rectangle 18"/>
            <p:cNvSpPr/>
            <p:nvPr/>
          </p:nvSpPr>
          <p:spPr>
            <a:xfrm>
              <a:off x="6562440" y="141120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Text Box 19"/>
            <p:cNvSpPr/>
            <p:nvPr/>
          </p:nvSpPr>
          <p:spPr>
            <a:xfrm>
              <a:off x="6539400" y="1533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4" name="Group 20"/>
          <p:cNvGrpSpPr/>
          <p:nvPr/>
        </p:nvGrpSpPr>
        <p:grpSpPr>
          <a:xfrm>
            <a:off x="2583000" y="1401840"/>
            <a:ext cx="1788480" cy="851040"/>
            <a:chOff x="2583000" y="1401840"/>
            <a:chExt cx="1788480" cy="851040"/>
          </a:xfrm>
        </p:grpSpPr>
        <p:sp>
          <p:nvSpPr>
            <p:cNvPr id="3615" name="Rectangle 21"/>
            <p:cNvSpPr/>
            <p:nvPr/>
          </p:nvSpPr>
          <p:spPr>
            <a:xfrm>
              <a:off x="3666960" y="1401840"/>
              <a:ext cx="7045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Rectangle 22"/>
            <p:cNvSpPr/>
            <p:nvPr/>
          </p:nvSpPr>
          <p:spPr>
            <a:xfrm>
              <a:off x="2676240" y="1411560"/>
              <a:ext cx="96156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Text Box 23"/>
            <p:cNvSpPr/>
            <p:nvPr/>
          </p:nvSpPr>
          <p:spPr>
            <a:xfrm>
              <a:off x="2583000" y="1428840"/>
              <a:ext cx="117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Text Box 24"/>
            <p:cNvSpPr/>
            <p:nvPr/>
          </p:nvSpPr>
          <p:spPr>
            <a:xfrm>
              <a:off x="3687840" y="152424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9" name="Text Box 32"/>
          <p:cNvSpPr/>
          <p:nvPr/>
        </p:nvSpPr>
        <p:spPr>
          <a:xfrm>
            <a:off x="3881520" y="2522520"/>
            <a:ext cx="107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33"/>
          <p:cNvSpPr/>
          <p:nvPr/>
        </p:nvSpPr>
        <p:spPr>
          <a:xfrm>
            <a:off x="3219480" y="2239920"/>
            <a:ext cx="32400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Line 34"/>
          <p:cNvSpPr/>
          <p:nvPr/>
        </p:nvSpPr>
        <p:spPr>
          <a:xfrm flipH="1">
            <a:off x="3714840" y="22305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Text Box 41"/>
          <p:cNvSpPr/>
          <p:nvPr/>
        </p:nvSpPr>
        <p:spPr>
          <a:xfrm>
            <a:off x="7161120" y="233352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42"/>
          <p:cNvSpPr/>
          <p:nvPr/>
        </p:nvSpPr>
        <p:spPr>
          <a:xfrm>
            <a:off x="6915240" y="2239920"/>
            <a:ext cx="0" cy="428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4" name="Picture 43" descr="Alice"/>
          <p:cNvPicPr/>
          <p:nvPr/>
        </p:nvPicPr>
        <p:blipFill>
          <a:blip r:embed="rId2"/>
          <a:stretch/>
        </p:blipFill>
        <p:spPr>
          <a:xfrm>
            <a:off x="1490760" y="145404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3625" name="Text Box 44"/>
          <p:cNvSpPr/>
          <p:nvPr/>
        </p:nvSpPr>
        <p:spPr>
          <a:xfrm>
            <a:off x="1379520" y="216216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45"/>
          <p:cNvSpPr/>
          <p:nvPr/>
        </p:nvSpPr>
        <p:spPr>
          <a:xfrm>
            <a:off x="2028960" y="184932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AutoShape 327"/>
          <p:cNvSpPr/>
          <p:nvPr/>
        </p:nvSpPr>
        <p:spPr>
          <a:xfrm>
            <a:off x="3333600" y="2673360"/>
            <a:ext cx="570240" cy="428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AutoShape 327"/>
          <p:cNvSpPr/>
          <p:nvPr/>
        </p:nvSpPr>
        <p:spPr>
          <a:xfrm>
            <a:off x="6665760" y="2629080"/>
            <a:ext cx="570240" cy="42840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Rectangle 3"/>
          <p:cNvSpPr/>
          <p:nvPr/>
        </p:nvSpPr>
        <p:spPr>
          <a:xfrm>
            <a:off x="744480" y="3751200"/>
            <a:ext cx="80136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file to/from remote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side that initiates transfer (either to/from rem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remot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: RFC 9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tp server: port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49"/>
          <p:cNvSpPr/>
          <p:nvPr/>
        </p:nvSpPr>
        <p:spPr>
          <a:xfrm>
            <a:off x="4365720" y="1714680"/>
            <a:ext cx="218736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1" name="Group 51"/>
          <p:cNvGrpSpPr/>
          <p:nvPr/>
        </p:nvGrpSpPr>
        <p:grpSpPr>
          <a:xfrm>
            <a:off x="6008760" y="2327400"/>
            <a:ext cx="476280" cy="749160"/>
            <a:chOff x="6008760" y="2327400"/>
            <a:chExt cx="476280" cy="749160"/>
          </a:xfrm>
        </p:grpSpPr>
        <p:sp>
          <p:nvSpPr>
            <p:cNvPr id="3632" name="Freeform 52"/>
            <p:cNvSpPr/>
            <p:nvPr/>
          </p:nvSpPr>
          <p:spPr>
            <a:xfrm>
              <a:off x="6385320" y="2328480"/>
              <a:ext cx="94320" cy="7149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714960"/>
                <a:gd name="textAreaBottom" fmla="*/ 715320 h 7149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Rectangle 53"/>
            <p:cNvSpPr/>
            <p:nvPr/>
          </p:nvSpPr>
          <p:spPr>
            <a:xfrm>
              <a:off x="6031080" y="2327400"/>
              <a:ext cx="348840" cy="714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54"/>
            <p:cNvSpPr/>
            <p:nvPr/>
          </p:nvSpPr>
          <p:spPr>
            <a:xfrm>
              <a:off x="6403320" y="2371320"/>
              <a:ext cx="56160" cy="6613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61320"/>
                <a:gd name="textAreaBottom" fmla="*/ 661680 h 661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55"/>
            <p:cNvSpPr/>
            <p:nvPr/>
          </p:nvSpPr>
          <p:spPr>
            <a:xfrm>
              <a:off x="6390720" y="2706120"/>
              <a:ext cx="87840" cy="590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Rectangle 56"/>
            <p:cNvSpPr/>
            <p:nvPr/>
          </p:nvSpPr>
          <p:spPr>
            <a:xfrm>
              <a:off x="6032160" y="240984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7" name="Group 57"/>
            <p:cNvGrpSpPr/>
            <p:nvPr/>
          </p:nvGrpSpPr>
          <p:grpSpPr>
            <a:xfrm>
              <a:off x="6212160" y="2401920"/>
              <a:ext cx="194040" cy="45000"/>
              <a:chOff x="6212160" y="2401920"/>
              <a:chExt cx="194040" cy="45000"/>
            </a:xfrm>
          </p:grpSpPr>
          <p:sp>
            <p:nvSpPr>
              <p:cNvPr id="3638" name="AutoShape 58"/>
              <p:cNvSpPr/>
              <p:nvPr/>
            </p:nvSpPr>
            <p:spPr>
              <a:xfrm>
                <a:off x="6212160" y="2401920"/>
                <a:ext cx="1940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AutoShape 59"/>
              <p:cNvSpPr/>
              <p:nvPr/>
            </p:nvSpPr>
            <p:spPr>
              <a:xfrm>
                <a:off x="6216840" y="2406240"/>
                <a:ext cx="181440" cy="3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0" name="Rectangle 60"/>
            <p:cNvSpPr/>
            <p:nvPr/>
          </p:nvSpPr>
          <p:spPr>
            <a:xfrm>
              <a:off x="6037200" y="251136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1" name="Group 61"/>
            <p:cNvGrpSpPr/>
            <p:nvPr/>
          </p:nvGrpSpPr>
          <p:grpSpPr>
            <a:xfrm>
              <a:off x="6211440" y="2503800"/>
              <a:ext cx="194040" cy="41760"/>
              <a:chOff x="6211440" y="2503800"/>
              <a:chExt cx="194040" cy="41760"/>
            </a:xfrm>
          </p:grpSpPr>
          <p:sp>
            <p:nvSpPr>
              <p:cNvPr id="3642" name="AutoShape 62"/>
              <p:cNvSpPr/>
              <p:nvPr/>
            </p:nvSpPr>
            <p:spPr>
              <a:xfrm>
                <a:off x="6211440" y="2503800"/>
                <a:ext cx="1940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AutoShape 63"/>
              <p:cNvSpPr/>
              <p:nvPr/>
            </p:nvSpPr>
            <p:spPr>
              <a:xfrm>
                <a:off x="6216120" y="2508480"/>
                <a:ext cx="1846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4" name="Rectangle 64"/>
            <p:cNvSpPr/>
            <p:nvPr/>
          </p:nvSpPr>
          <p:spPr>
            <a:xfrm>
              <a:off x="6033960" y="2617920"/>
              <a:ext cx="2001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Rectangle 65"/>
            <p:cNvSpPr/>
            <p:nvPr/>
          </p:nvSpPr>
          <p:spPr>
            <a:xfrm>
              <a:off x="6038640" y="2711520"/>
              <a:ext cx="19836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6" name="Group 66"/>
            <p:cNvGrpSpPr/>
            <p:nvPr/>
          </p:nvGrpSpPr>
          <p:grpSpPr>
            <a:xfrm>
              <a:off x="6207480" y="2702160"/>
              <a:ext cx="194400" cy="47160"/>
              <a:chOff x="6207480" y="2702160"/>
              <a:chExt cx="194400" cy="47160"/>
            </a:xfrm>
          </p:grpSpPr>
          <p:sp>
            <p:nvSpPr>
              <p:cNvPr id="3647" name="AutoShape 67"/>
              <p:cNvSpPr/>
              <p:nvPr/>
            </p:nvSpPr>
            <p:spPr>
              <a:xfrm>
                <a:off x="6207480" y="2702160"/>
                <a:ext cx="194400" cy="47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AutoShape 68"/>
              <p:cNvSpPr/>
              <p:nvPr/>
            </p:nvSpPr>
            <p:spPr>
              <a:xfrm>
                <a:off x="6212160" y="2706840"/>
                <a:ext cx="18504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9" name="Freeform 69"/>
            <p:cNvSpPr/>
            <p:nvPr/>
          </p:nvSpPr>
          <p:spPr>
            <a:xfrm>
              <a:off x="6392160" y="2616480"/>
              <a:ext cx="87480" cy="58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0" name="Group 70"/>
            <p:cNvGrpSpPr/>
            <p:nvPr/>
          </p:nvGrpSpPr>
          <p:grpSpPr>
            <a:xfrm>
              <a:off x="6208920" y="2608200"/>
              <a:ext cx="194400" cy="43200"/>
              <a:chOff x="6208920" y="2608200"/>
              <a:chExt cx="194400" cy="43200"/>
            </a:xfrm>
          </p:grpSpPr>
          <p:sp>
            <p:nvSpPr>
              <p:cNvPr id="3651" name="AutoShape 71"/>
              <p:cNvSpPr/>
              <p:nvPr/>
            </p:nvSpPr>
            <p:spPr>
              <a:xfrm>
                <a:off x="6208920" y="2608200"/>
                <a:ext cx="19440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AutoShape 72"/>
              <p:cNvSpPr/>
              <p:nvPr/>
            </p:nvSpPr>
            <p:spPr>
              <a:xfrm>
                <a:off x="6213600" y="2612880"/>
                <a:ext cx="18504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3" name="Rectangle 73"/>
            <p:cNvSpPr/>
            <p:nvPr/>
          </p:nvSpPr>
          <p:spPr>
            <a:xfrm>
              <a:off x="6380280" y="2327400"/>
              <a:ext cx="22320" cy="715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74"/>
            <p:cNvSpPr/>
            <p:nvPr/>
          </p:nvSpPr>
          <p:spPr>
            <a:xfrm>
              <a:off x="6400080" y="2508120"/>
              <a:ext cx="79200" cy="66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75"/>
            <p:cNvSpPr/>
            <p:nvPr/>
          </p:nvSpPr>
          <p:spPr>
            <a:xfrm>
              <a:off x="6401160" y="2405880"/>
              <a:ext cx="81360" cy="7488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Oval 76"/>
            <p:cNvSpPr/>
            <p:nvPr/>
          </p:nvSpPr>
          <p:spPr>
            <a:xfrm>
              <a:off x="6469200" y="3009960"/>
              <a:ext cx="15840" cy="2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77"/>
            <p:cNvSpPr/>
            <p:nvPr/>
          </p:nvSpPr>
          <p:spPr>
            <a:xfrm>
              <a:off x="6396840" y="3010680"/>
              <a:ext cx="81720" cy="622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AutoShape 78"/>
            <p:cNvSpPr/>
            <p:nvPr/>
          </p:nvSpPr>
          <p:spPr>
            <a:xfrm>
              <a:off x="6008760" y="3030840"/>
              <a:ext cx="399960" cy="457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AutoShape 79"/>
            <p:cNvSpPr/>
            <p:nvPr/>
          </p:nvSpPr>
          <p:spPr>
            <a:xfrm>
              <a:off x="6031080" y="3041640"/>
              <a:ext cx="357120" cy="2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Oval 80"/>
            <p:cNvSpPr/>
            <p:nvPr/>
          </p:nvSpPr>
          <p:spPr>
            <a:xfrm>
              <a:off x="6064200" y="2938320"/>
              <a:ext cx="5400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Oval 81"/>
            <p:cNvSpPr/>
            <p:nvPr/>
          </p:nvSpPr>
          <p:spPr>
            <a:xfrm>
              <a:off x="6124680" y="2938320"/>
              <a:ext cx="54000" cy="44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Oval 82"/>
            <p:cNvSpPr/>
            <p:nvPr/>
          </p:nvSpPr>
          <p:spPr>
            <a:xfrm>
              <a:off x="6183360" y="2938320"/>
              <a:ext cx="522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Rectangle 83"/>
            <p:cNvSpPr/>
            <p:nvPr/>
          </p:nvSpPr>
          <p:spPr>
            <a:xfrm>
              <a:off x="6316560" y="2766960"/>
              <a:ext cx="28440" cy="2379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4" name="Group 84"/>
          <p:cNvGrpSpPr/>
          <p:nvPr/>
        </p:nvGrpSpPr>
        <p:grpSpPr>
          <a:xfrm>
            <a:off x="2220840" y="2352600"/>
            <a:ext cx="830160" cy="849240"/>
            <a:chOff x="2220840" y="2352600"/>
            <a:chExt cx="830160" cy="849240"/>
          </a:xfrm>
        </p:grpSpPr>
        <p:pic>
          <p:nvPicPr>
            <p:cNvPr id="3665" name="Picture 8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220840" y="2352600"/>
              <a:ext cx="8301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6" name="Freeform 86"/>
            <p:cNvSpPr/>
            <p:nvPr/>
          </p:nvSpPr>
          <p:spPr>
            <a:xfrm flipH="1">
              <a:off x="2573640" y="2433960"/>
              <a:ext cx="403560" cy="388800"/>
            </a:xfrm>
            <a:custGeom>
              <a:avLst/>
              <a:gdLst>
                <a:gd name="textAreaLeft" fmla="*/ -360 w 403560"/>
                <a:gd name="textAreaRight" fmla="*/ 403560 w 4035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A5F112-7D9D-4FE3-A408-75603640B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336600" y="163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TP: separate control, data connection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99600" y="1504800"/>
            <a:ext cx="431820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client contacts FTP server at port 21, using TCP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authorized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browses remote directory, sends commands over control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server receives file transfer command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pe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data connection (for file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fter transferring one file, server closes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1" name="Text Box 15"/>
          <p:cNvSpPr/>
          <p:nvPr/>
        </p:nvSpPr>
        <p:spPr>
          <a:xfrm>
            <a:off x="4841280" y="2533680"/>
            <a:ext cx="712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Text Box 16"/>
          <p:cNvSpPr/>
          <p:nvPr/>
        </p:nvSpPr>
        <p:spPr>
          <a:xfrm>
            <a:off x="7858800" y="2543040"/>
            <a:ext cx="81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Line 17"/>
          <p:cNvSpPr/>
          <p:nvPr/>
        </p:nvSpPr>
        <p:spPr>
          <a:xfrm>
            <a:off x="5508720" y="2011320"/>
            <a:ext cx="256212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Line 18"/>
          <p:cNvSpPr/>
          <p:nvPr/>
        </p:nvSpPr>
        <p:spPr>
          <a:xfrm flipV="1">
            <a:off x="5527800" y="2325240"/>
            <a:ext cx="2562120" cy="972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Text Box 19"/>
          <p:cNvSpPr/>
          <p:nvPr/>
        </p:nvSpPr>
        <p:spPr>
          <a:xfrm>
            <a:off x="5580000" y="147312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control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20"/>
          <p:cNvSpPr/>
          <p:nvPr/>
        </p:nvSpPr>
        <p:spPr>
          <a:xfrm>
            <a:off x="5554800" y="2400480"/>
            <a:ext cx="2409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TCP data conn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server port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Rectangle 21"/>
          <p:cNvSpPr/>
          <p:nvPr/>
        </p:nvSpPr>
        <p:spPr>
          <a:xfrm>
            <a:off x="4703760" y="3425760"/>
            <a:ext cx="406728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opens another TCP data connection to transfer anoth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connection: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ut of band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 server maintain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urrent directory, earlie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8" name="Picture 28" descr="underline_base"/>
          <p:cNvPicPr/>
          <p:nvPr/>
        </p:nvPicPr>
        <p:blipFill>
          <a:blip r:embed="rId1"/>
          <a:stretch/>
        </p:blipFill>
        <p:spPr>
          <a:xfrm>
            <a:off x="366840" y="8683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3679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0" name="Group 32"/>
          <p:cNvGrpSpPr/>
          <p:nvPr/>
        </p:nvGrpSpPr>
        <p:grpSpPr>
          <a:xfrm>
            <a:off x="8129520" y="1674720"/>
            <a:ext cx="444240" cy="728640"/>
            <a:chOff x="8129520" y="1674720"/>
            <a:chExt cx="444240" cy="728640"/>
          </a:xfrm>
        </p:grpSpPr>
        <p:sp>
          <p:nvSpPr>
            <p:cNvPr id="3681" name="Freeform 33"/>
            <p:cNvSpPr/>
            <p:nvPr/>
          </p:nvSpPr>
          <p:spPr>
            <a:xfrm>
              <a:off x="8481600" y="1675800"/>
              <a:ext cx="88200" cy="695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695520"/>
                <a:gd name="textAreaBottom" fmla="*/ 695880 h 6955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Rectangle 34"/>
            <p:cNvSpPr/>
            <p:nvPr/>
          </p:nvSpPr>
          <p:spPr>
            <a:xfrm>
              <a:off x="8150040" y="1674720"/>
              <a:ext cx="326880" cy="6951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5"/>
            <p:cNvSpPr/>
            <p:nvPr/>
          </p:nvSpPr>
          <p:spPr>
            <a:xfrm>
              <a:off x="8498160" y="1717560"/>
              <a:ext cx="52560" cy="643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43320"/>
                <a:gd name="textAreaBottom" fmla="*/ 643680 h 6433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6"/>
            <p:cNvSpPr/>
            <p:nvPr/>
          </p:nvSpPr>
          <p:spPr>
            <a:xfrm>
              <a:off x="8486640" y="2043000"/>
              <a:ext cx="82080" cy="572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Rectangle 37"/>
            <p:cNvSpPr/>
            <p:nvPr/>
          </p:nvSpPr>
          <p:spPr>
            <a:xfrm>
              <a:off x="8151480" y="175536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38"/>
            <p:cNvGrpSpPr/>
            <p:nvPr/>
          </p:nvGrpSpPr>
          <p:grpSpPr>
            <a:xfrm>
              <a:off x="8319600" y="1747440"/>
              <a:ext cx="181080" cy="43920"/>
              <a:chOff x="8319600" y="1747440"/>
              <a:chExt cx="181080" cy="43920"/>
            </a:xfrm>
          </p:grpSpPr>
          <p:sp>
            <p:nvSpPr>
              <p:cNvPr id="3687" name="AutoShape 39"/>
              <p:cNvSpPr/>
              <p:nvPr/>
            </p:nvSpPr>
            <p:spPr>
              <a:xfrm>
                <a:off x="8319600" y="1747440"/>
                <a:ext cx="18108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AutoShape 40"/>
              <p:cNvSpPr/>
              <p:nvPr/>
            </p:nvSpPr>
            <p:spPr>
              <a:xfrm>
                <a:off x="8324280" y="1752120"/>
                <a:ext cx="171720" cy="3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9" name="Rectangle 41"/>
            <p:cNvSpPr/>
            <p:nvPr/>
          </p:nvSpPr>
          <p:spPr>
            <a:xfrm>
              <a:off x="8156520" y="185400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0" name="Group 42"/>
            <p:cNvGrpSpPr/>
            <p:nvPr/>
          </p:nvGrpSpPr>
          <p:grpSpPr>
            <a:xfrm>
              <a:off x="8318880" y="1846440"/>
              <a:ext cx="181080" cy="40680"/>
              <a:chOff x="8318880" y="1846440"/>
              <a:chExt cx="181080" cy="40680"/>
            </a:xfrm>
          </p:grpSpPr>
          <p:sp>
            <p:nvSpPr>
              <p:cNvPr id="3691" name="AutoShape 43"/>
              <p:cNvSpPr/>
              <p:nvPr/>
            </p:nvSpPr>
            <p:spPr>
              <a:xfrm>
                <a:off x="8318880" y="1846440"/>
                <a:ext cx="1810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AutoShape 44"/>
              <p:cNvSpPr/>
              <p:nvPr/>
            </p:nvSpPr>
            <p:spPr>
              <a:xfrm>
                <a:off x="8323560" y="1850760"/>
                <a:ext cx="1717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3" name="Rectangle 45"/>
            <p:cNvSpPr/>
            <p:nvPr/>
          </p:nvSpPr>
          <p:spPr>
            <a:xfrm>
              <a:off x="8152920" y="195732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Rectangle 46"/>
            <p:cNvSpPr/>
            <p:nvPr/>
          </p:nvSpPr>
          <p:spPr>
            <a:xfrm>
              <a:off x="8156520" y="2048040"/>
              <a:ext cx="1857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5" name="Group 47"/>
            <p:cNvGrpSpPr/>
            <p:nvPr/>
          </p:nvGrpSpPr>
          <p:grpSpPr>
            <a:xfrm>
              <a:off x="8315280" y="2039040"/>
              <a:ext cx="181440" cy="45720"/>
              <a:chOff x="8315280" y="2039040"/>
              <a:chExt cx="181440" cy="45720"/>
            </a:xfrm>
          </p:grpSpPr>
          <p:sp>
            <p:nvSpPr>
              <p:cNvPr id="3696" name="AutoShape 48"/>
              <p:cNvSpPr/>
              <p:nvPr/>
            </p:nvSpPr>
            <p:spPr>
              <a:xfrm>
                <a:off x="8315280" y="2039040"/>
                <a:ext cx="181440" cy="45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AutoShape 49"/>
              <p:cNvSpPr/>
              <p:nvPr/>
            </p:nvSpPr>
            <p:spPr>
              <a:xfrm>
                <a:off x="8319960" y="2044080"/>
                <a:ext cx="172080" cy="3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8" name="Freeform 50"/>
            <p:cNvSpPr/>
            <p:nvPr/>
          </p:nvSpPr>
          <p:spPr>
            <a:xfrm>
              <a:off x="8487720" y="1955880"/>
              <a:ext cx="81720" cy="5688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9" name="Group 51"/>
            <p:cNvGrpSpPr/>
            <p:nvPr/>
          </p:nvGrpSpPr>
          <p:grpSpPr>
            <a:xfrm>
              <a:off x="8316360" y="1947600"/>
              <a:ext cx="181440" cy="42120"/>
              <a:chOff x="8316360" y="1947600"/>
              <a:chExt cx="181440" cy="42120"/>
            </a:xfrm>
          </p:grpSpPr>
          <p:sp>
            <p:nvSpPr>
              <p:cNvPr id="3700" name="AutoShape 52"/>
              <p:cNvSpPr/>
              <p:nvPr/>
            </p:nvSpPr>
            <p:spPr>
              <a:xfrm>
                <a:off x="8316360" y="1947600"/>
                <a:ext cx="181440" cy="42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AutoShape 53"/>
              <p:cNvSpPr/>
              <p:nvPr/>
            </p:nvSpPr>
            <p:spPr>
              <a:xfrm>
                <a:off x="8321040" y="1952280"/>
                <a:ext cx="172080" cy="32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2" name="Rectangle 54"/>
            <p:cNvSpPr/>
            <p:nvPr/>
          </p:nvSpPr>
          <p:spPr>
            <a:xfrm>
              <a:off x="8475480" y="1674720"/>
              <a:ext cx="20520" cy="69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55"/>
            <p:cNvSpPr/>
            <p:nvPr/>
          </p:nvSpPr>
          <p:spPr>
            <a:xfrm>
              <a:off x="8495280" y="185040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56"/>
            <p:cNvSpPr/>
            <p:nvPr/>
          </p:nvSpPr>
          <p:spPr>
            <a:xfrm>
              <a:off x="8496360" y="1751040"/>
              <a:ext cx="75960" cy="727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Oval 57"/>
            <p:cNvSpPr/>
            <p:nvPr/>
          </p:nvSpPr>
          <p:spPr>
            <a:xfrm>
              <a:off x="8559720" y="2338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58"/>
            <p:cNvSpPr/>
            <p:nvPr/>
          </p:nvSpPr>
          <p:spPr>
            <a:xfrm>
              <a:off x="8492040" y="2339280"/>
              <a:ext cx="76320" cy="608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AutoShape 59"/>
            <p:cNvSpPr/>
            <p:nvPr/>
          </p:nvSpPr>
          <p:spPr>
            <a:xfrm>
              <a:off x="8129520" y="2359080"/>
              <a:ext cx="374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AutoShape 60"/>
            <p:cNvSpPr/>
            <p:nvPr/>
          </p:nvSpPr>
          <p:spPr>
            <a:xfrm>
              <a:off x="8150040" y="2368440"/>
              <a:ext cx="333720" cy="2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Oval 61"/>
            <p:cNvSpPr/>
            <p:nvPr/>
          </p:nvSpPr>
          <p:spPr>
            <a:xfrm>
              <a:off x="8181720" y="2268360"/>
              <a:ext cx="49320" cy="442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Oval 62"/>
            <p:cNvSpPr/>
            <p:nvPr/>
          </p:nvSpPr>
          <p:spPr>
            <a:xfrm>
              <a:off x="8237520" y="2270160"/>
              <a:ext cx="4932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Oval 63"/>
            <p:cNvSpPr/>
            <p:nvPr/>
          </p:nvSpPr>
          <p:spPr>
            <a:xfrm>
              <a:off x="8292960" y="2268360"/>
              <a:ext cx="4932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Rectangle 64"/>
            <p:cNvSpPr/>
            <p:nvPr/>
          </p:nvSpPr>
          <p:spPr>
            <a:xfrm>
              <a:off x="8416800" y="2101680"/>
              <a:ext cx="27000" cy="2314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3" name="Group 65"/>
          <p:cNvGrpSpPr/>
          <p:nvPr/>
        </p:nvGrpSpPr>
        <p:grpSpPr>
          <a:xfrm>
            <a:off x="4655880" y="1665360"/>
            <a:ext cx="873000" cy="893520"/>
            <a:chOff x="4655880" y="1665360"/>
            <a:chExt cx="873000" cy="893520"/>
          </a:xfrm>
        </p:grpSpPr>
        <p:pic>
          <p:nvPicPr>
            <p:cNvPr id="3714" name="Picture 66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655880" y="1665360"/>
              <a:ext cx="87300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5" name="Freeform 67"/>
            <p:cNvSpPr/>
            <p:nvPr/>
          </p:nvSpPr>
          <p:spPr>
            <a:xfrm flipH="1">
              <a:off x="5027400" y="1750680"/>
              <a:ext cx="424440" cy="408960"/>
            </a:xfrm>
            <a:custGeom>
              <a:avLst/>
              <a:gdLst>
                <a:gd name="textAreaLeft" fmla="*/ -360 w 424440"/>
                <a:gd name="textAreaRight" fmla="*/ 424440 w 424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E14434-C314-4DBE-B9AA-27C3B09A3D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8" name="Picture 11" descr="underline_base"/>
          <p:cNvPicPr/>
          <p:nvPr/>
        </p:nvPicPr>
        <p:blipFill>
          <a:blip r:embed="rId1"/>
          <a:stretch/>
        </p:blipFill>
        <p:spPr>
          <a:xfrm>
            <a:off x="407880" y="892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336600" y="271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FTP commands, respons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53316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command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t as ASCII text over control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urn list of file in current direct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ieves (gets)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s (puts) file onto remote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851000" y="13334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ample return co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us code and phrase (as in HTTP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5 C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 open data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53C96E-7274-4BB3-A104-A60ABF0C06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7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D8542EC-C361-4CD0-BC57-CFA72B95F6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480" indent="-267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2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3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734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5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736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4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6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747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748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749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4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755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6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7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8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759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0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3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764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5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6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7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768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9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0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1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782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7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788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9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0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1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792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3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4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6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797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8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9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0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801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2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3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4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815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0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821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3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4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825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6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7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9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830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1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2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3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834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5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6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2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7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8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849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4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865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0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881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6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8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899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1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902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4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905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7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908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909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0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1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3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914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915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6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7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9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920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921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2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3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5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926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927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8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9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1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932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933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4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5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7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938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939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0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1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A448208-3FE5-4330-AF75-B6E913EA3F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5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5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6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9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70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71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71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72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72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73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73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4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4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5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5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5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6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6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7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7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8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8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9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9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80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80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81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81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81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82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3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83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83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4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5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5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5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5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6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6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6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7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7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8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8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9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90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90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91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91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93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3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4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5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6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8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9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100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100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101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85104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103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23800" y="1116000"/>
            <a:ext cx="41911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3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103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4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5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AECE76-2955-427A-AB47-3C7734DE04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47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948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949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4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955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7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8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959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3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964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6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7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968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0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1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982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7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988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0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1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992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4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6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997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9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4001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4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4015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0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4021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3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4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4025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7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9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4030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2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4034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7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8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4049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4065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4081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8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4099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4102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4105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4108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4109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0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1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4114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4115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6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7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4120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4121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2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3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4126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4127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8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9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4132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4133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4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5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4138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4139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0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1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B24763-B821-4ACF-9A2E-75F2F3A390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5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, F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45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4840" indent="-294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566EDC7-6438-42DF-B255-8D9E025D18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0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4151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4152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3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6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4157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2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163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5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6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167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9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1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172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4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5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176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8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9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190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5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196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8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9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200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2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4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205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7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8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209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1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2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26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227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2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43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244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245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0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1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272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273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4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7811AF-11C0-410B-9FCB-CC7E988DC0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9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280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1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8E8788B-44DB-4776-9258-CFC41E8541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4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200EC2-83F3-46EF-BF77-8BE1804166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92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871147-4D67-47AE-98A5-AC19BA884B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4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46D4E24-177C-45AA-BA3C-E7DDF643C7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308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3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314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6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7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318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0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2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323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5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6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327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9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341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6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347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9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0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351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3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5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356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8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9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360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1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2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73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sg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-2286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3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76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377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8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379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0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1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2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3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4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5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6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7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8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9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0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1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2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3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8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399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3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414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415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9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420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421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2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3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5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426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427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8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9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17E41A-295D-40A2-AA3A-DD9D6DB884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3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434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6" name="Text Box 7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ED5E62-4CDC-437F-AB7D-AE98B8D80A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4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D22D69-D57C-4D35-86C6-156AD386FD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D60D985-019D-4EDA-99FE-B1E7B1DEEB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3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7F2C7A8-85A2-4CDB-9F8C-C8AD5F6F0C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6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11F174-3A20-4EC6-86F2-63C3632ED8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65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466" name="Text Box 11"/>
          <p:cNvSpPr/>
          <p:nvPr/>
        </p:nvSpPr>
        <p:spPr>
          <a:xfrm>
            <a:off x="486612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</a:t>
            </a:r>
            <a:r>
              <a:rPr b="0" i="1" lang="ja-JP" sz="28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B0AF638-9006-40BA-AA1A-BC97DA55DF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9" name="Group 23"/>
          <p:cNvGrpSpPr/>
          <p:nvPr/>
        </p:nvGrpSpPr>
        <p:grpSpPr>
          <a:xfrm>
            <a:off x="440280" y="1193760"/>
            <a:ext cx="8201160" cy="2445840"/>
            <a:chOff x="440280" y="1193760"/>
            <a:chExt cx="8201160" cy="2445840"/>
          </a:xfrm>
        </p:grpSpPr>
        <p:sp>
          <p:nvSpPr>
            <p:cNvPr id="4470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Text Box 14"/>
            <p:cNvSpPr/>
            <p:nvPr/>
          </p:nvSpPr>
          <p:spPr>
            <a:xfrm>
              <a:off x="44028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9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490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973DF4A-3B02-47E4-942C-2D807B36DE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6" name="Rectangle 20"/>
          <p:cNvSpPr/>
          <p:nvPr/>
        </p:nvSpPr>
        <p:spPr>
          <a:xfrm>
            <a:off x="6186600" y="5022720"/>
            <a:ext cx="26812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8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499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0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511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2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3" name="Straight Arrow Connector 24"/>
          <p:cNvCxnSpPr>
            <a:stCxn id="4512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EC2A28C-4FA4-4EAE-8BD0-3B258A13B9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8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921644-6220-4963-918F-37DAE83EF4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23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1C567F-8093-4222-922F-F54F377B4F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6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27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6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37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9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3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4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55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7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58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9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0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1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6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67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0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1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3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76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9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0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2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3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4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9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0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2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3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4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6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09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2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3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4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5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6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27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2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3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4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5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6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37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8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9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2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5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46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8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9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0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66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9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0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2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75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8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79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1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B657999-99AA-415D-BCA9-F991B9A4A2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recursive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9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710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2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8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719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1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722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3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725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6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728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3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734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6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7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738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0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2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743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5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6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747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9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761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6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767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8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9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0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771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3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5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776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8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9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780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2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794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9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800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2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3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804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6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8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809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1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2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813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5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6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827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2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833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5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6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837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9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1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842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4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5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846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8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D203BE8-E7EF-4F28-9F02-CE44931950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1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862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3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9BDB19D-7CC7-4BB1-95E4-177F4A75D8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7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7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8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10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12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13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13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4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4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4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5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5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6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6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7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7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8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8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9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9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20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20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20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21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21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22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22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23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23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23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4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5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5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6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6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7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7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7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8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8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8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9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9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30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31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32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32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33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33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4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6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7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8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9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40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42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42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43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45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2826B95-E3B3-44C6-AF53-ECD96203F8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b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8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9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4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BC0E891-0760-441D-A4E6-B8292CC1FC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7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878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79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0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g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1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882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1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3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04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7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08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CC0DE7-9EE1-4F30-AF7E-CE461150AE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Text Box 4"/>
          <p:cNvSpPr/>
          <p:nvPr/>
        </p:nvSpPr>
        <p:spPr>
          <a:xfrm>
            <a:off x="750960" y="3702600"/>
            <a:ext cx="27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Text Box 5"/>
          <p:cNvSpPr/>
          <p:nvPr/>
        </p:nvSpPr>
        <p:spPr>
          <a:xfrm>
            <a:off x="922320" y="4295520"/>
            <a:ext cx="2168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Text Box 6"/>
          <p:cNvSpPr/>
          <p:nvPr/>
        </p:nvSpPr>
        <p:spPr>
          <a:xfrm>
            <a:off x="247320" y="5077440"/>
            <a:ext cx="338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Text Box 7"/>
          <p:cNvSpPr/>
          <p:nvPr/>
        </p:nvSpPr>
        <p:spPr>
          <a:xfrm>
            <a:off x="193680" y="5796720"/>
            <a:ext cx="338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7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918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7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1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942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3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944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948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DFF05E-317A-4713-9F6D-F2AFF454E6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3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57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400" indent="-28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Comic Sans MS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8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388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388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8000" indent="-288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9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C355ECE-F964-4491-AD39-B2177685E0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1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105084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893975-A4DE-413F-A315-2061AFC280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967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CF41291-44E8-4497-9021-D147B684AE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0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971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2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973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5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6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987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8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89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8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5009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0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1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2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3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4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5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6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7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8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0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1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25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6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5027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8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1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5032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3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4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5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6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5037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0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5041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2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3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5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5046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9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5050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1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2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3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4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5055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8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5059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0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1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3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5064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5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6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7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5068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9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0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1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2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5073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4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5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6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5077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8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9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1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2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5083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6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5087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9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0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1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5092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5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5096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7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8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9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0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5101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4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5105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6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7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9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5110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13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5114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5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6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8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5119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2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5123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5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6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5127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0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5131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2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3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5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5136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5137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8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0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1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2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3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5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6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49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50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5151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5152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1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2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164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65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6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167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8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9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170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1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2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173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4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5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176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7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78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9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180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1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82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183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5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6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7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8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189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0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1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2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193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5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6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7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198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9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0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1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202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3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4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5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6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7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8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9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0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1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2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4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5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216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7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8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9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0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1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222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3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4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25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226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7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8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0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231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3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4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235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7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4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8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249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0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1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52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53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4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5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6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7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9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260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1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2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3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4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5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6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8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9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0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1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2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273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4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5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6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7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8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0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1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2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83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284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5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6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7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8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9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90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1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2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3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4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5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6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297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8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9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0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1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3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4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5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6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7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308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9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0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1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2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3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4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5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8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9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0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321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2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3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324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5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6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27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8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9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0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1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2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3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4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335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6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7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8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9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0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41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2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3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4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5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6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9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2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F7574B0-026A-47CC-A4CC-3823147FF6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199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7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0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371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2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373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1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8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389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395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8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399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0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1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3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404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5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6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7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408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9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0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1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422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3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4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425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6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7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428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9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0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431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2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06D69DB-2C1B-4ADA-87E9-66EB5C8656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6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N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7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Text Box 51"/>
          <p:cNvSpPr/>
          <p:nvPr/>
        </p:nvSpPr>
        <p:spPr>
          <a:xfrm>
            <a:off x="855720" y="4662360"/>
            <a:ext cx="35733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1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442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1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462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7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468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9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0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1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472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3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4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6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477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9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0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481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2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3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95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98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501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504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B5EBAD1-65BF-48AA-AF93-161553046A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0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2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51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ting max download rate) is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7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538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544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548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553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557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571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574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577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580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38CAE97-8BFC-4E4B-BE0D-55F1A364F0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5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5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7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9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1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51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51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52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52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53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53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4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4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4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5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5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6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6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7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7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8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8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9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9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9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60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60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61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61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62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62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3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3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63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63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5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5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5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5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6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6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6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6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7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7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8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8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70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70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71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71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72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73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4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5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7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8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9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80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81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82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3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5248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83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A1F2842-F3BC-4E74-80AF-804FDA0623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4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6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5"/>
          <p:cNvSpPr/>
          <p:nvPr/>
        </p:nvSpPr>
        <p:spPr>
          <a:xfrm>
            <a:off x="11880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8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66A1FEB-40D6-491A-9323-4D88948AFF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92" name="Text Box 37"/>
          <p:cNvSpPr/>
          <p:nvPr/>
        </p:nvSpPr>
        <p:spPr>
          <a:xfrm>
            <a:off x="-186840" y="2338560"/>
            <a:ext cx="383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7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608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0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611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2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613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6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7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618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3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624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5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6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7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628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9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0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633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5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6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637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8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9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0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651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2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3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654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5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6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657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8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9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660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1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2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663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4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5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666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7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8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669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0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1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672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3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4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675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6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5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5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2DBBF6-B486-4F9F-8B03-9E74260872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0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1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682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4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695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696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700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5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706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7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8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9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710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1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2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4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715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6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7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8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719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0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1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2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733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4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5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736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7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8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739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0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1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742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3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4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745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7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748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9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751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2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3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754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5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6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757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8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60056EE-C632-442B-8AE1-9FFAF61DCF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2" name="PlaceHolder 2"/>
          <p:cNvSpPr>
            <a:spLocks noGrp="1"/>
          </p:cNvSpPr>
          <p:nvPr>
            <p:ph/>
          </p:nvPr>
        </p:nvSpPr>
        <p:spPr>
          <a:xfrm>
            <a:off x="23148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3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4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C2FB71-3F24-4058-93C6-1559A9FD8B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768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769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5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776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7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Text Box 26"/>
          <p:cNvSpPr/>
          <p:nvPr/>
        </p:nvSpPr>
        <p:spPr>
          <a:xfrm>
            <a:off x="-119160" y="1320840"/>
            <a:ext cx="59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Text Box 27"/>
          <p:cNvSpPr/>
          <p:nvPr/>
        </p:nvSpPr>
        <p:spPr>
          <a:xfrm>
            <a:off x="-746280" y="1663560"/>
            <a:ext cx="1021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Text Box 28"/>
          <p:cNvSpPr/>
          <p:nvPr/>
        </p:nvSpPr>
        <p:spPr>
          <a:xfrm>
            <a:off x="-326520" y="2019240"/>
            <a:ext cx="74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Text Box 29"/>
          <p:cNvSpPr/>
          <p:nvPr/>
        </p:nvSpPr>
        <p:spPr>
          <a:xfrm>
            <a:off x="5040360" y="5335560"/>
            <a:ext cx="3591000" cy="13136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3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84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785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6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788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9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791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2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794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5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797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8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800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1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803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4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806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7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809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0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811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2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3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814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5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816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17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5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5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5" dur="500"/>
                                        <p:tgtEl>
                                          <p:spTgt spid="5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ributed Hash Table (DHT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9" name=""/>
          <p:cNvSpPr txBox="1"/>
          <p:nvPr/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T paradig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rcular DHT and overlay network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 chur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20" name="Picture 18" descr="underline_base"/>
          <p:cNvPicPr/>
          <p:nvPr/>
        </p:nvPicPr>
        <p:blipFill>
          <a:blip r:embed="rId1"/>
          <a:stretch/>
        </p:blipFill>
        <p:spPr>
          <a:xfrm>
            <a:off x="457200" y="1066680"/>
            <a:ext cx="70866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1" name=""/>
          <p:cNvGraphicFramePr/>
          <p:nvPr/>
        </p:nvGraphicFramePr>
        <p:xfrm>
          <a:off x="1676520" y="2590920"/>
          <a:ext cx="5079960" cy="292572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hn Washing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-54-3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ana Louise 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1-55-3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iaoming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5-41-0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kesh Go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1-89-1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da Co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7-66-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a Kobay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7-23-0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822" name="TextBox 7"/>
          <p:cNvSpPr/>
          <p:nvPr/>
        </p:nvSpPr>
        <p:spPr>
          <a:xfrm>
            <a:off x="380880" y="1219320"/>
            <a:ext cx="87631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ple database with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(key, value)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i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ey: human name; value: social security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imple Databas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24" name="Picture 18" descr="underline_base"/>
          <p:cNvPicPr/>
          <p:nvPr/>
        </p:nvPicPr>
        <p:blipFill>
          <a:blip r:embed="rId1"/>
          <a:stretch/>
        </p:blipFill>
        <p:spPr>
          <a:xfrm>
            <a:off x="380880" y="838080"/>
            <a:ext cx="3886200" cy="152640"/>
          </a:xfrm>
          <a:prstGeom prst="rect">
            <a:avLst/>
          </a:prstGeom>
          <a:ln w="0">
            <a:noFill/>
          </a:ln>
        </p:spPr>
      </p:pic>
      <p:sp>
        <p:nvSpPr>
          <p:cNvPr id="5825" name="TextBox 6"/>
          <p:cNvSpPr/>
          <p:nvPr/>
        </p:nvSpPr>
        <p:spPr>
          <a:xfrm>
            <a:off x="380880" y="5257800"/>
            <a:ext cx="87631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key: movie title; value: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6" name=""/>
          <p:cNvGraphicFramePr/>
          <p:nvPr/>
        </p:nvGraphicFramePr>
        <p:xfrm>
          <a:off x="1066680" y="2819520"/>
          <a:ext cx="6705720" cy="292572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riginal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ohn Washing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962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-54-3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ana Louise 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00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1-55-3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iaoming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7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5-41-09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kesh Go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6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1-89-1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da Co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30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7-66-5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a Kobay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90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7-23-0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827" name="TextBox 7"/>
          <p:cNvSpPr/>
          <p:nvPr/>
        </p:nvSpPr>
        <p:spPr>
          <a:xfrm>
            <a:off x="380880" y="1143000"/>
            <a:ext cx="80773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re convenient to store and search on numerical representation of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key = hash(original k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ash Tab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29" name="Picture 18" descr="underline_base"/>
          <p:cNvPicPr/>
          <p:nvPr/>
        </p:nvPicPr>
        <p:blipFill>
          <a:blip r:embed="rId1"/>
          <a:stretch/>
        </p:blipFill>
        <p:spPr>
          <a:xfrm>
            <a:off x="380880" y="838080"/>
            <a:ext cx="26672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"/>
          <p:cNvSpPr txBox="1"/>
          <p:nvPr/>
        </p:nvSpPr>
        <p:spPr>
          <a:xfrm>
            <a:off x="304560" y="12193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tribute (key, value) pairs over millions of pe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irs are evenly distributed ov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y peer ca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uer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base with a ke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 returns value for the k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solve query, small number of messages exchanged among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eer only knows about a small number of other pe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bust to peers coming and going (chur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31" name="Picture 36" descr="underline_base"/>
          <p:cNvPicPr/>
          <p:nvPr/>
        </p:nvPicPr>
        <p:blipFill>
          <a:blip r:embed="rId1"/>
          <a:stretch/>
        </p:blipFill>
        <p:spPr>
          <a:xfrm>
            <a:off x="457200" y="914400"/>
            <a:ext cx="6858000" cy="152280"/>
          </a:xfrm>
          <a:prstGeom prst="rect">
            <a:avLst/>
          </a:prstGeom>
          <a:ln w="0">
            <a:noFill/>
          </a:ln>
        </p:spPr>
      </p:pic>
      <p:sp>
        <p:nvSpPr>
          <p:cNvPr id="5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istributed Hash Table (DHT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title"/>
          </p:nvPr>
        </p:nvSpPr>
        <p:spPr>
          <a:xfrm>
            <a:off x="511200" y="8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ssign key-value pairs to pe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34" name=""/>
          <p:cNvSpPr txBox="1"/>
          <p:nvPr/>
        </p:nvSpPr>
        <p:spPr>
          <a:xfrm>
            <a:off x="633240" y="1284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ule: assign key-value pair to the peer that has th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osest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ntion: closest is th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mediate successor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f the ke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ID space {0,1,2,3,…,63}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se 8 peers: 1,12,13,25,32,40,48,6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key = 51, then assigned to peer 6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key = 60, then assigned to peer 6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key = 61, then assigned to peer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35" name="Picture 36" descr="underline_base"/>
          <p:cNvPicPr/>
          <p:nvPr/>
        </p:nvPicPr>
        <p:blipFill>
          <a:blip r:embed="rId1"/>
          <a:stretch/>
        </p:blipFill>
        <p:spPr>
          <a:xfrm>
            <a:off x="442800" y="914400"/>
            <a:ext cx="74059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EB745B9-CE21-45A8-8688-2900763AE2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14"/>
          <p:cNvSpPr/>
          <p:nvPr/>
        </p:nvSpPr>
        <p:spPr>
          <a:xfrm>
            <a:off x="3893040" y="1463760"/>
            <a:ext cx="4280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6" name="Group 42"/>
          <p:cNvGrpSpPr/>
          <p:nvPr/>
        </p:nvGrpSpPr>
        <p:grpSpPr>
          <a:xfrm>
            <a:off x="384120" y="2819520"/>
            <a:ext cx="3884400" cy="3660480"/>
            <a:chOff x="384120" y="2819520"/>
            <a:chExt cx="3884400" cy="3660480"/>
          </a:xfrm>
        </p:grpSpPr>
        <p:sp>
          <p:nvSpPr>
            <p:cNvPr id="5837" name="Oval 3"/>
            <p:cNvSpPr/>
            <p:nvPr/>
          </p:nvSpPr>
          <p:spPr>
            <a:xfrm>
              <a:off x="2227680" y="59349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Oval 4"/>
            <p:cNvSpPr/>
            <p:nvPr/>
          </p:nvSpPr>
          <p:spPr>
            <a:xfrm>
              <a:off x="868680" y="40334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Oval 5"/>
            <p:cNvSpPr/>
            <p:nvPr/>
          </p:nvSpPr>
          <p:spPr>
            <a:xfrm>
              <a:off x="893160" y="51217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Oval 6"/>
            <p:cNvSpPr/>
            <p:nvPr/>
          </p:nvSpPr>
          <p:spPr>
            <a:xfrm>
              <a:off x="3422880" y="37288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Oval 7"/>
            <p:cNvSpPr/>
            <p:nvPr/>
          </p:nvSpPr>
          <p:spPr>
            <a:xfrm>
              <a:off x="3716280" y="46004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Oval 8"/>
            <p:cNvSpPr/>
            <p:nvPr/>
          </p:nvSpPr>
          <p:spPr>
            <a:xfrm>
              <a:off x="3437640" y="53355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Oval 9"/>
            <p:cNvSpPr/>
            <p:nvPr/>
          </p:nvSpPr>
          <p:spPr>
            <a:xfrm>
              <a:off x="1424880" y="56916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Oval 10"/>
            <p:cNvSpPr/>
            <p:nvPr/>
          </p:nvSpPr>
          <p:spPr>
            <a:xfrm>
              <a:off x="810000" y="31935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Text Box 11"/>
            <p:cNvSpPr/>
            <p:nvPr/>
          </p:nvSpPr>
          <p:spPr>
            <a:xfrm>
              <a:off x="2339280" y="2819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Rectangle 12"/>
            <p:cNvSpPr/>
            <p:nvPr/>
          </p:nvSpPr>
          <p:spPr>
            <a:xfrm>
              <a:off x="3551400" y="365760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Rectangle 13"/>
            <p:cNvSpPr/>
            <p:nvPr/>
          </p:nvSpPr>
          <p:spPr>
            <a:xfrm>
              <a:off x="3780000" y="449604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Rectangle 14"/>
            <p:cNvSpPr/>
            <p:nvPr/>
          </p:nvSpPr>
          <p:spPr>
            <a:xfrm>
              <a:off x="3551400" y="52581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Rectangle 15"/>
            <p:cNvSpPr/>
            <p:nvPr/>
          </p:nvSpPr>
          <p:spPr>
            <a:xfrm>
              <a:off x="2179800" y="602028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Rectangle 16"/>
            <p:cNvSpPr/>
            <p:nvPr/>
          </p:nvSpPr>
          <p:spPr>
            <a:xfrm>
              <a:off x="1113120" y="579168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Rectangle 17"/>
            <p:cNvSpPr/>
            <p:nvPr/>
          </p:nvSpPr>
          <p:spPr>
            <a:xfrm>
              <a:off x="455760" y="50295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Rectangle 18"/>
            <p:cNvSpPr/>
            <p:nvPr/>
          </p:nvSpPr>
          <p:spPr>
            <a:xfrm>
              <a:off x="384120" y="381024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Oval 28"/>
            <p:cNvSpPr/>
            <p:nvPr/>
          </p:nvSpPr>
          <p:spPr>
            <a:xfrm>
              <a:off x="2346480" y="31539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55" name=""/>
          <p:cNvSpPr txBox="1"/>
          <p:nvPr/>
        </p:nvSpPr>
        <p:spPr>
          <a:xfrm>
            <a:off x="30492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pe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war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mediate successo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decess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56" name="Picture 23" descr="underline_base"/>
          <p:cNvPicPr/>
          <p:nvPr/>
        </p:nvPicPr>
        <p:blipFill>
          <a:blip r:embed="rId1"/>
          <a:stretch/>
        </p:blipFill>
        <p:spPr>
          <a:xfrm>
            <a:off x="533520" y="838080"/>
            <a:ext cx="3251160" cy="228600"/>
          </a:xfrm>
          <a:prstGeom prst="rect">
            <a:avLst/>
          </a:prstGeom>
          <a:ln w="0">
            <a:noFill/>
          </a:ln>
        </p:spPr>
      </p:pic>
      <p:grpSp>
        <p:nvGrpSpPr>
          <p:cNvPr id="5857" name="Group 392"/>
          <p:cNvGrpSpPr/>
          <p:nvPr/>
        </p:nvGrpSpPr>
        <p:grpSpPr>
          <a:xfrm>
            <a:off x="5410080" y="555480"/>
            <a:ext cx="3551400" cy="5969160"/>
            <a:chOff x="5410080" y="555480"/>
            <a:chExt cx="3551400" cy="5969160"/>
          </a:xfrm>
        </p:grpSpPr>
        <p:grpSp>
          <p:nvGrpSpPr>
            <p:cNvPr id="5858" name="Group 390"/>
            <p:cNvGrpSpPr/>
            <p:nvPr/>
          </p:nvGrpSpPr>
          <p:grpSpPr>
            <a:xfrm>
              <a:off x="5410080" y="555480"/>
              <a:ext cx="3551400" cy="5526360"/>
              <a:chOff x="5410080" y="555480"/>
              <a:chExt cx="3551400" cy="5526360"/>
            </a:xfrm>
          </p:grpSpPr>
          <p:grpSp>
            <p:nvGrpSpPr>
              <p:cNvPr id="5859" name="Group 389"/>
              <p:cNvGrpSpPr/>
              <p:nvPr/>
            </p:nvGrpSpPr>
            <p:grpSpPr>
              <a:xfrm>
                <a:off x="5410080" y="555480"/>
                <a:ext cx="3551400" cy="5353560"/>
                <a:chOff x="5410080" y="555480"/>
                <a:chExt cx="3551400" cy="5353560"/>
              </a:xfrm>
            </p:grpSpPr>
            <p:grpSp>
              <p:nvGrpSpPr>
                <p:cNvPr id="5860" name="Group 1"/>
                <p:cNvGrpSpPr/>
                <p:nvPr/>
              </p:nvGrpSpPr>
              <p:grpSpPr>
                <a:xfrm>
                  <a:off x="5410080" y="1411920"/>
                  <a:ext cx="3551400" cy="4497120"/>
                  <a:chOff x="5410080" y="1411920"/>
                  <a:chExt cx="3551400" cy="4497120"/>
                </a:xfrm>
              </p:grpSpPr>
              <p:sp>
                <p:nvSpPr>
                  <p:cNvPr id="5861" name="Freeform 415"/>
                  <p:cNvSpPr/>
                  <p:nvPr/>
                </p:nvSpPr>
                <p:spPr>
                  <a:xfrm>
                    <a:off x="7211880" y="3393000"/>
                    <a:ext cx="1314360" cy="674640"/>
                  </a:xfrm>
                  <a:custGeom>
                    <a:avLst/>
                    <a:gdLst>
                      <a:gd name="textAreaLeft" fmla="*/ 0 w 1314360"/>
                      <a:gd name="textAreaRight" fmla="*/ 1314720 w 1314360"/>
                      <a:gd name="textAreaTop" fmla="*/ 0 h 674640"/>
                      <a:gd name="textAreaBottom" fmla="*/ 675000 h 674640"/>
                    </a:gdLst>
                    <a:ahLst/>
                    <a:rect l="textAreaLeft" t="textAreaTop" r="textAreaRight" b="textAreaBottom"/>
                    <a:pathLst>
                      <a:path w="828" h="425">
                        <a:moveTo>
                          <a:pt x="382" y="30"/>
                        </a:moveTo>
                        <a:cubicBezTo>
                          <a:pt x="350" y="29"/>
                          <a:pt x="413" y="30"/>
                          <a:pt x="370" y="30"/>
                        </a:cubicBezTo>
                        <a:cubicBezTo>
                          <a:pt x="327" y="30"/>
                          <a:pt x="187" y="16"/>
                          <a:pt x="126" y="32"/>
                        </a:cubicBezTo>
                        <a:cubicBezTo>
                          <a:pt x="65" y="48"/>
                          <a:pt x="12" y="86"/>
                          <a:pt x="6" y="126"/>
                        </a:cubicBezTo>
                        <a:cubicBezTo>
                          <a:pt x="0" y="166"/>
                          <a:pt x="44" y="231"/>
                          <a:pt x="92" y="274"/>
                        </a:cubicBezTo>
                        <a:cubicBezTo>
                          <a:pt x="140" y="317"/>
                          <a:pt x="217" y="360"/>
                          <a:pt x="292" y="384"/>
                        </a:cubicBezTo>
                        <a:cubicBezTo>
                          <a:pt x="367" y="408"/>
                          <a:pt x="472" y="425"/>
                          <a:pt x="540" y="416"/>
                        </a:cubicBezTo>
                        <a:cubicBezTo>
                          <a:pt x="608" y="407"/>
                          <a:pt x="659" y="371"/>
                          <a:pt x="698" y="330"/>
                        </a:cubicBezTo>
                        <a:cubicBezTo>
                          <a:pt x="737" y="289"/>
                          <a:pt x="760" y="221"/>
                          <a:pt x="776" y="170"/>
                        </a:cubicBezTo>
                        <a:cubicBezTo>
                          <a:pt x="792" y="119"/>
                          <a:pt x="828" y="44"/>
                          <a:pt x="792" y="22"/>
                        </a:cubicBezTo>
                        <a:cubicBezTo>
                          <a:pt x="756" y="0"/>
                          <a:pt x="630" y="37"/>
                          <a:pt x="560" y="38"/>
                        </a:cubicBezTo>
                        <a:cubicBezTo>
                          <a:pt x="490" y="39"/>
                          <a:pt x="414" y="31"/>
                          <a:pt x="382" y="3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2" name="Freeform 416"/>
                  <p:cNvSpPr/>
                  <p:nvPr/>
                </p:nvSpPr>
                <p:spPr>
                  <a:xfrm>
                    <a:off x="7230960" y="1867320"/>
                    <a:ext cx="1730520" cy="1125360"/>
                  </a:xfrm>
                  <a:custGeom>
                    <a:avLst/>
                    <a:gdLst>
                      <a:gd name="textAreaLeft" fmla="*/ 0 w 1730520"/>
                      <a:gd name="textAreaRight" fmla="*/ 1730880 w 1730520"/>
                      <a:gd name="textAreaTop" fmla="*/ 0 h 1125360"/>
                      <a:gd name="textAreaBottom" fmla="*/ 1125720 h 1125360"/>
                    </a:gdLst>
                    <a:ahLst/>
                    <a:rect l="textAreaLeft" t="textAreaTop" r="textAreaRight" b="textAreaBottom"/>
                    <a:pathLst>
                      <a:path w="765" h="459">
                        <a:moveTo>
                          <a:pt x="424" y="10"/>
                        </a:moveTo>
                        <a:cubicBezTo>
                          <a:pt x="362" y="16"/>
                          <a:pt x="343" y="55"/>
                          <a:pt x="288" y="70"/>
                        </a:cubicBezTo>
                        <a:cubicBezTo>
                          <a:pt x="233" y="85"/>
                          <a:pt x="142" y="56"/>
                          <a:pt x="96" y="100"/>
                        </a:cubicBezTo>
                        <a:cubicBezTo>
                          <a:pt x="50" y="144"/>
                          <a:pt x="0" y="279"/>
                          <a:pt x="14" y="336"/>
                        </a:cubicBezTo>
                        <a:cubicBezTo>
                          <a:pt x="28" y="393"/>
                          <a:pt x="125" y="429"/>
                          <a:pt x="180" y="444"/>
                        </a:cubicBezTo>
                        <a:cubicBezTo>
                          <a:pt x="235" y="459"/>
                          <a:pt x="279" y="426"/>
                          <a:pt x="346" y="426"/>
                        </a:cubicBezTo>
                        <a:cubicBezTo>
                          <a:pt x="413" y="426"/>
                          <a:pt x="525" y="443"/>
                          <a:pt x="584" y="444"/>
                        </a:cubicBezTo>
                        <a:cubicBezTo>
                          <a:pt x="643" y="445"/>
                          <a:pt x="670" y="446"/>
                          <a:pt x="698" y="434"/>
                        </a:cubicBezTo>
                        <a:cubicBezTo>
                          <a:pt x="726" y="422"/>
                          <a:pt x="743" y="418"/>
                          <a:pt x="752" y="372"/>
                        </a:cubicBezTo>
                        <a:cubicBezTo>
                          <a:pt x="761" y="326"/>
                          <a:pt x="765" y="214"/>
                          <a:pt x="750" y="158"/>
                        </a:cubicBezTo>
                        <a:cubicBezTo>
                          <a:pt x="735" y="102"/>
                          <a:pt x="716" y="58"/>
                          <a:pt x="662" y="34"/>
                        </a:cubicBezTo>
                        <a:cubicBezTo>
                          <a:pt x="608" y="10"/>
                          <a:pt x="505" y="0"/>
                          <a:pt x="424" y="1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cc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3" name="Freeform 417"/>
                  <p:cNvSpPr/>
                  <p:nvPr/>
                </p:nvSpPr>
                <p:spPr>
                  <a:xfrm>
                    <a:off x="5410080" y="1575360"/>
                    <a:ext cx="1736640" cy="1071360"/>
                  </a:xfrm>
                  <a:custGeom>
                    <a:avLst/>
                    <a:gdLst>
                      <a:gd name="textAreaLeft" fmla="*/ 0 w 1736640"/>
                      <a:gd name="textAreaRight" fmla="*/ 1737000 w 1736640"/>
                      <a:gd name="textAreaTop" fmla="*/ 0 h 1071360"/>
                      <a:gd name="textAreaBottom" fmla="*/ 1071720 h 1071360"/>
                    </a:gdLst>
                    <a:ahLst/>
                    <a:rect l="textAreaLeft" t="textAreaTop" r="textAreaRight" b="textAreaBottom"/>
                    <a:pathLst>
                      <a:path w="1036" h="675">
                        <a:moveTo>
                          <a:pt x="648" y="11"/>
                        </a:moveTo>
                        <a:cubicBezTo>
                          <a:pt x="584" y="19"/>
                          <a:pt x="464" y="33"/>
                          <a:pt x="390" y="53"/>
                        </a:cubicBezTo>
                        <a:cubicBezTo>
                          <a:pt x="316" y="73"/>
                          <a:pt x="246" y="100"/>
                          <a:pt x="206" y="129"/>
                        </a:cubicBezTo>
                        <a:cubicBezTo>
                          <a:pt x="166" y="158"/>
                          <a:pt x="183" y="201"/>
                          <a:pt x="152" y="229"/>
                        </a:cubicBezTo>
                        <a:cubicBezTo>
                          <a:pt x="121" y="257"/>
                          <a:pt x="44" y="259"/>
                          <a:pt x="22" y="297"/>
                        </a:cubicBezTo>
                        <a:cubicBezTo>
                          <a:pt x="0" y="335"/>
                          <a:pt x="0" y="427"/>
                          <a:pt x="18" y="459"/>
                        </a:cubicBezTo>
                        <a:cubicBezTo>
                          <a:pt x="36" y="491"/>
                          <a:pt x="59" y="484"/>
                          <a:pt x="132" y="489"/>
                        </a:cubicBezTo>
                        <a:cubicBezTo>
                          <a:pt x="205" y="494"/>
                          <a:pt x="380" y="478"/>
                          <a:pt x="458" y="489"/>
                        </a:cubicBezTo>
                        <a:cubicBezTo>
                          <a:pt x="536" y="500"/>
                          <a:pt x="549" y="527"/>
                          <a:pt x="598" y="555"/>
                        </a:cubicBezTo>
                        <a:cubicBezTo>
                          <a:pt x="647" y="583"/>
                          <a:pt x="707" y="639"/>
                          <a:pt x="752" y="657"/>
                        </a:cubicBezTo>
                        <a:cubicBezTo>
                          <a:pt x="797" y="675"/>
                          <a:pt x="837" y="670"/>
                          <a:pt x="870" y="661"/>
                        </a:cubicBezTo>
                        <a:cubicBezTo>
                          <a:pt x="903" y="652"/>
                          <a:pt x="932" y="639"/>
                          <a:pt x="952" y="603"/>
                        </a:cubicBezTo>
                        <a:cubicBezTo>
                          <a:pt x="972" y="567"/>
                          <a:pt x="981" y="497"/>
                          <a:pt x="992" y="445"/>
                        </a:cubicBezTo>
                        <a:cubicBezTo>
                          <a:pt x="1003" y="393"/>
                          <a:pt x="1013" y="347"/>
                          <a:pt x="1018" y="291"/>
                        </a:cubicBezTo>
                        <a:cubicBezTo>
                          <a:pt x="1023" y="235"/>
                          <a:pt x="1036" y="153"/>
                          <a:pt x="1022" y="107"/>
                        </a:cubicBezTo>
                        <a:cubicBezTo>
                          <a:pt x="1008" y="61"/>
                          <a:pt x="975" y="34"/>
                          <a:pt x="934" y="17"/>
                        </a:cubicBezTo>
                        <a:cubicBezTo>
                          <a:pt x="893" y="0"/>
                          <a:pt x="824" y="4"/>
                          <a:pt x="776" y="3"/>
                        </a:cubicBezTo>
                        <a:cubicBezTo>
                          <a:pt x="728" y="2"/>
                          <a:pt x="712" y="3"/>
                          <a:pt x="648" y="11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64" name="Group 418"/>
                  <p:cNvGrpSpPr/>
                  <p:nvPr/>
                </p:nvGrpSpPr>
                <p:grpSpPr>
                  <a:xfrm>
                    <a:off x="5486040" y="2840400"/>
                    <a:ext cx="1459080" cy="932760"/>
                    <a:chOff x="5486040" y="2840400"/>
                    <a:chExt cx="1459080" cy="932760"/>
                  </a:xfrm>
                </p:grpSpPr>
                <p:sp>
                  <p:nvSpPr>
                    <p:cNvPr id="5865" name="Rectangle 419"/>
                    <p:cNvSpPr/>
                    <p:nvPr/>
                  </p:nvSpPr>
                  <p:spPr>
                    <a:xfrm>
                      <a:off x="5719680" y="3103920"/>
                      <a:ext cx="987120" cy="669240"/>
                    </a:xfrm>
                    <a:prstGeom prst="rect">
                      <a:avLst/>
                    </a:pr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6" name="AutoShape 420"/>
                    <p:cNvSpPr/>
                    <p:nvPr/>
                  </p:nvSpPr>
                  <p:spPr>
                    <a:xfrm>
                      <a:off x="5486040" y="2840400"/>
                      <a:ext cx="1459080" cy="3175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67" name="Line 421"/>
                  <p:cNvSpPr/>
                  <p:nvPr/>
                </p:nvSpPr>
                <p:spPr>
                  <a:xfrm>
                    <a:off x="7604280" y="3678840"/>
                    <a:ext cx="163440" cy="12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8" name="Line 422"/>
                  <p:cNvSpPr/>
                  <p:nvPr/>
                </p:nvSpPr>
                <p:spPr>
                  <a:xfrm>
                    <a:off x="7701120" y="3599280"/>
                    <a:ext cx="279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9" name="Line 423"/>
                  <p:cNvSpPr/>
                  <p:nvPr/>
                </p:nvSpPr>
                <p:spPr>
                  <a:xfrm flipV="1">
                    <a:off x="7937640" y="3684600"/>
                    <a:ext cx="13464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Line 424"/>
                  <p:cNvSpPr/>
                  <p:nvPr/>
                </p:nvSpPr>
                <p:spPr>
                  <a:xfrm>
                    <a:off x="6635520" y="3605760"/>
                    <a:ext cx="679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1" name="Line 425"/>
                  <p:cNvSpPr/>
                  <p:nvPr/>
                </p:nvSpPr>
                <p:spPr>
                  <a:xfrm>
                    <a:off x="6931080" y="2453040"/>
                    <a:ext cx="509400" cy="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2" name="Line 426"/>
                  <p:cNvSpPr/>
                  <p:nvPr/>
                </p:nvSpPr>
                <p:spPr>
                  <a:xfrm>
                    <a:off x="6497640" y="2269080"/>
                    <a:ext cx="152280" cy="95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3" name="Freeform 427"/>
                  <p:cNvSpPr/>
                  <p:nvPr/>
                </p:nvSpPr>
                <p:spPr>
                  <a:xfrm>
                    <a:off x="5705280" y="4244040"/>
                    <a:ext cx="3080160" cy="1665000"/>
                  </a:xfrm>
                  <a:custGeom>
                    <a:avLst/>
                    <a:gdLst>
                      <a:gd name="textAreaLeft" fmla="*/ 0 w 3080160"/>
                      <a:gd name="textAreaRight" fmla="*/ 3080520 w 3080160"/>
                      <a:gd name="textAreaTop" fmla="*/ 0 h 1665000"/>
                      <a:gd name="textAreaBottom" fmla="*/ 1665360 h 1665000"/>
                    </a:gdLst>
                    <a:ahLst/>
                    <a:rect l="textAreaLeft" t="textAreaTop" r="textAreaRight" b="textAreaBottom"/>
                    <a:pathLst>
                      <a:path w="1940" h="1049">
                        <a:moveTo>
                          <a:pt x="952" y="26"/>
                        </a:moveTo>
                        <a:cubicBezTo>
                          <a:pt x="867" y="45"/>
                          <a:pt x="832" y="118"/>
                          <a:pt x="755" y="125"/>
                        </a:cubicBezTo>
                        <a:cubicBezTo>
                          <a:pt x="678" y="132"/>
                          <a:pt x="587" y="72"/>
                          <a:pt x="488" y="68"/>
                        </a:cubicBezTo>
                        <a:cubicBezTo>
                          <a:pt x="389" y="64"/>
                          <a:pt x="237" y="48"/>
                          <a:pt x="158" y="101"/>
                        </a:cubicBezTo>
                        <a:cubicBezTo>
                          <a:pt x="79" y="154"/>
                          <a:pt x="28" y="298"/>
                          <a:pt x="14" y="389"/>
                        </a:cubicBezTo>
                        <a:cubicBezTo>
                          <a:pt x="0" y="480"/>
                          <a:pt x="25" y="595"/>
                          <a:pt x="71" y="648"/>
                        </a:cubicBezTo>
                        <a:cubicBezTo>
                          <a:pt x="117" y="701"/>
                          <a:pt x="205" y="665"/>
                          <a:pt x="288" y="706"/>
                        </a:cubicBezTo>
                        <a:cubicBezTo>
                          <a:pt x="371" y="747"/>
                          <a:pt x="450" y="842"/>
                          <a:pt x="568" y="893"/>
                        </a:cubicBezTo>
                        <a:cubicBezTo>
                          <a:pt x="686" y="944"/>
                          <a:pt x="852" y="991"/>
                          <a:pt x="996" y="1014"/>
                        </a:cubicBezTo>
                        <a:cubicBezTo>
                          <a:pt x="1140" y="1036"/>
                          <a:pt x="1309" y="1049"/>
                          <a:pt x="1433" y="1031"/>
                        </a:cubicBezTo>
                        <a:cubicBezTo>
                          <a:pt x="1557" y="1012"/>
                          <a:pt x="1657" y="960"/>
                          <a:pt x="1739" y="907"/>
                        </a:cubicBezTo>
                        <a:cubicBezTo>
                          <a:pt x="1821" y="855"/>
                          <a:pt x="1906" y="824"/>
                          <a:pt x="1923" y="714"/>
                        </a:cubicBezTo>
                        <a:cubicBezTo>
                          <a:pt x="1940" y="604"/>
                          <a:pt x="1898" y="350"/>
                          <a:pt x="1839" y="251"/>
                        </a:cubicBezTo>
                        <a:cubicBezTo>
                          <a:pt x="1780" y="151"/>
                          <a:pt x="1662" y="153"/>
                          <a:pt x="1566" y="114"/>
                        </a:cubicBezTo>
                        <a:cubicBezTo>
                          <a:pt x="1470" y="76"/>
                          <a:pt x="1365" y="30"/>
                          <a:pt x="1263" y="15"/>
                        </a:cubicBezTo>
                        <a:cubicBezTo>
                          <a:pt x="1161" y="0"/>
                          <a:pt x="1037" y="8"/>
                          <a:pt x="952" y="26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4" name="Line 428"/>
                  <p:cNvSpPr/>
                  <p:nvPr/>
                </p:nvSpPr>
                <p:spPr>
                  <a:xfrm flipV="1">
                    <a:off x="8245440" y="4832640"/>
                    <a:ext cx="139680" cy="523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5" name="Line 429"/>
                  <p:cNvSpPr/>
                  <p:nvPr/>
                </p:nvSpPr>
                <p:spPr>
                  <a:xfrm>
                    <a:off x="8158320" y="5347080"/>
                    <a:ext cx="85680" cy="288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6" name="Line 430"/>
                  <p:cNvSpPr/>
                  <p:nvPr/>
                </p:nvSpPr>
                <p:spPr>
                  <a:xfrm>
                    <a:off x="8328240" y="5039280"/>
                    <a:ext cx="1141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7" name="Line 431"/>
                  <p:cNvSpPr/>
                  <p:nvPr/>
                </p:nvSpPr>
                <p:spPr>
                  <a:xfrm>
                    <a:off x="7566120" y="4563000"/>
                    <a:ext cx="390240" cy="183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8" name="Line 432"/>
                  <p:cNvSpPr/>
                  <p:nvPr/>
                </p:nvSpPr>
                <p:spPr>
                  <a:xfrm flipV="1">
                    <a:off x="6945120" y="4550040"/>
                    <a:ext cx="322200" cy="19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Line 433"/>
                  <p:cNvSpPr/>
                  <p:nvPr/>
                </p:nvSpPr>
                <p:spPr>
                  <a:xfrm>
                    <a:off x="6987960" y="4842360"/>
                    <a:ext cx="9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0" name="Line 435"/>
                  <p:cNvSpPr/>
                  <p:nvPr/>
                </p:nvSpPr>
                <p:spPr>
                  <a:xfrm>
                    <a:off x="6308640" y="4639320"/>
                    <a:ext cx="263520" cy="8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1" name="Line 436"/>
                  <p:cNvSpPr/>
                  <p:nvPr/>
                </p:nvSpPr>
                <p:spPr>
                  <a:xfrm flipV="1">
                    <a:off x="6049800" y="4848840"/>
                    <a:ext cx="41256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2" name="Line 439"/>
                  <p:cNvSpPr/>
                  <p:nvPr/>
                </p:nvSpPr>
                <p:spPr>
                  <a:xfrm flipH="1">
                    <a:off x="6475320" y="4935960"/>
                    <a:ext cx="142560" cy="198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3" name="Line 440"/>
                  <p:cNvSpPr/>
                  <p:nvPr/>
                </p:nvSpPr>
                <p:spPr>
                  <a:xfrm flipH="1" flipV="1">
                    <a:off x="6795720" y="4962960"/>
                    <a:ext cx="74520" cy="172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4" name="Line 441"/>
                  <p:cNvSpPr/>
                  <p:nvPr/>
                </p:nvSpPr>
                <p:spPr>
                  <a:xfrm>
                    <a:off x="6951600" y="4918680"/>
                    <a:ext cx="503280" cy="26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5" name="Line 443"/>
                  <p:cNvSpPr/>
                  <p:nvPr/>
                </p:nvSpPr>
                <p:spPr>
                  <a:xfrm>
                    <a:off x="6489720" y="3388320"/>
                    <a:ext cx="0" cy="13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6" name="Line 444"/>
                  <p:cNvSpPr/>
                  <p:nvPr/>
                </p:nvSpPr>
                <p:spPr>
                  <a:xfrm flipV="1">
                    <a:off x="7785000" y="2358000"/>
                    <a:ext cx="1238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7" name="Line 445"/>
                  <p:cNvSpPr/>
                  <p:nvPr/>
                </p:nvSpPr>
                <p:spPr>
                  <a:xfrm>
                    <a:off x="7613640" y="2530800"/>
                    <a:ext cx="0" cy="82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Line 446"/>
                  <p:cNvSpPr/>
                  <p:nvPr/>
                </p:nvSpPr>
                <p:spPr>
                  <a:xfrm flipV="1">
                    <a:off x="7785000" y="2427840"/>
                    <a:ext cx="263520" cy="288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9" name="Line 447"/>
                  <p:cNvSpPr/>
                  <p:nvPr/>
                </p:nvSpPr>
                <p:spPr>
                  <a:xfrm>
                    <a:off x="8150400" y="242604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0" name="Line 448"/>
                  <p:cNvSpPr/>
                  <p:nvPr/>
                </p:nvSpPr>
                <p:spPr>
                  <a:xfrm>
                    <a:off x="7804080" y="2732400"/>
                    <a:ext cx="18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1" name="Line 449"/>
                  <p:cNvSpPr/>
                  <p:nvPr/>
                </p:nvSpPr>
                <p:spPr>
                  <a:xfrm flipV="1">
                    <a:off x="6099120" y="3599280"/>
                    <a:ext cx="168120" cy="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2" name="Line 450"/>
                  <p:cNvSpPr/>
                  <p:nvPr/>
                </p:nvSpPr>
                <p:spPr>
                  <a:xfrm>
                    <a:off x="8358480" y="2723040"/>
                    <a:ext cx="177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3" name="Line 451"/>
                  <p:cNvSpPr/>
                  <p:nvPr/>
                </p:nvSpPr>
                <p:spPr>
                  <a:xfrm flipH="1">
                    <a:off x="7503840" y="2799360"/>
                    <a:ext cx="98280" cy="70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4" name="Line 452"/>
                  <p:cNvSpPr/>
                  <p:nvPr/>
                </p:nvSpPr>
                <p:spPr>
                  <a:xfrm flipH="1">
                    <a:off x="8096400" y="2799360"/>
                    <a:ext cx="110880" cy="726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5" name="Line 541"/>
                  <p:cNvSpPr/>
                  <p:nvPr/>
                </p:nvSpPr>
                <p:spPr>
                  <a:xfrm flipV="1">
                    <a:off x="7480440" y="3940560"/>
                    <a:ext cx="226800" cy="43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96" name="Group 590"/>
                  <p:cNvGrpSpPr/>
                  <p:nvPr/>
                </p:nvGrpSpPr>
                <p:grpSpPr>
                  <a:xfrm>
                    <a:off x="5982840" y="4399560"/>
                    <a:ext cx="414360" cy="372960"/>
                    <a:chOff x="5982840" y="4399560"/>
                    <a:chExt cx="414360" cy="372960"/>
                  </a:xfrm>
                </p:grpSpPr>
                <p:pic>
                  <p:nvPicPr>
                    <p:cNvPr id="5897" name="Picture 591" descr="desktop_computer_stylized_medium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flipH="1">
                      <a:off x="5982840" y="4399560"/>
                      <a:ext cx="4143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98" name="Freeform 592"/>
                    <p:cNvSpPr/>
                    <p:nvPr/>
                  </p:nvSpPr>
                  <p:spPr>
                    <a:xfrm flipH="1">
                      <a:off x="6159960" y="4435200"/>
                      <a:ext cx="195120" cy="171000"/>
                    </a:xfrm>
                    <a:custGeom>
                      <a:avLst/>
                      <a:gdLst>
                        <a:gd name="textAreaLeft" fmla="*/ 360 w 195120"/>
                        <a:gd name="textAreaRight" fmla="*/ 195840 w 195120"/>
                        <a:gd name="textAreaTop" fmla="*/ 0 h 171000"/>
                        <a:gd name="textAreaBottom" fmla="*/ 171360 h 171000"/>
                      </a:gdLst>
                      <a:ahLst/>
                      <a:rect l="textAreaLeft" t="textAreaTop" r="textAreaRight" b="textAreaBottom"/>
                      <a:pathLst>
                        <a:path w="356" h="368">
                          <a:moveTo>
                            <a:pt x="0" y="0"/>
                          </a:moveTo>
                          <a:lnTo>
                            <a:pt x="300" y="14"/>
                          </a:lnTo>
                          <a:lnTo>
                            <a:pt x="356" y="294"/>
                          </a:lnTo>
                          <a:lnTo>
                            <a:pt x="78" y="3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9" name="Group 593"/>
                  <p:cNvGrpSpPr/>
                  <p:nvPr/>
                </p:nvGrpSpPr>
                <p:grpSpPr>
                  <a:xfrm>
                    <a:off x="5665680" y="4820040"/>
                    <a:ext cx="482400" cy="406080"/>
                    <a:chOff x="5665680" y="4820040"/>
                    <a:chExt cx="482400" cy="406080"/>
                  </a:xfrm>
                </p:grpSpPr>
                <p:pic>
                  <p:nvPicPr>
                    <p:cNvPr id="5900" name="Picture 594" descr="desktop_computer_stylized_medium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flipH="1">
                      <a:off x="5665680" y="4820040"/>
                      <a:ext cx="48240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01" name="Freeform 595"/>
                    <p:cNvSpPr/>
                    <p:nvPr/>
                  </p:nvSpPr>
                  <p:spPr>
                    <a:xfrm flipH="1">
                      <a:off x="5871600" y="4858920"/>
                      <a:ext cx="227520" cy="186120"/>
                    </a:xfrm>
                    <a:custGeom>
                      <a:avLst/>
                      <a:gdLst>
                        <a:gd name="textAreaLeft" fmla="*/ 360 w 227520"/>
                        <a:gd name="textAreaRight" fmla="*/ 228240 w 227520"/>
                        <a:gd name="textAreaTop" fmla="*/ 0 h 186120"/>
                        <a:gd name="textAreaBottom" fmla="*/ 186480 h 186120"/>
                      </a:gdLst>
                      <a:ahLst/>
                      <a:rect l="textAreaLeft" t="textAreaTop" r="textAreaRight" b="textAreaBottom"/>
                      <a:pathLst>
                        <a:path w="356" h="368">
                          <a:moveTo>
                            <a:pt x="0" y="0"/>
                          </a:moveTo>
                          <a:lnTo>
                            <a:pt x="300" y="14"/>
                          </a:lnTo>
                          <a:lnTo>
                            <a:pt x="356" y="294"/>
                          </a:lnTo>
                          <a:lnTo>
                            <a:pt x="78" y="3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2" name="Group 596"/>
                  <p:cNvGrpSpPr/>
                  <p:nvPr/>
                </p:nvGrpSpPr>
                <p:grpSpPr>
                  <a:xfrm>
                    <a:off x="6143400" y="5121720"/>
                    <a:ext cx="426960" cy="349200"/>
                    <a:chOff x="6143400" y="5121720"/>
                    <a:chExt cx="426960" cy="349200"/>
                  </a:xfrm>
                </p:grpSpPr>
                <p:pic>
                  <p:nvPicPr>
                    <p:cNvPr id="5903" name="Picture 597" descr="desktop_computer_stylized_medium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 flipH="1">
                      <a:off x="6143400" y="5121720"/>
                      <a:ext cx="426960" cy="34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04" name="Freeform 598"/>
                    <p:cNvSpPr/>
                    <p:nvPr/>
                  </p:nvSpPr>
                  <p:spPr>
                    <a:xfrm flipH="1">
                      <a:off x="6325200" y="5155200"/>
                      <a:ext cx="201240" cy="159840"/>
                    </a:xfrm>
                    <a:custGeom>
                      <a:avLst/>
                      <a:gdLst>
                        <a:gd name="textAreaLeft" fmla="*/ -360 w 201240"/>
                        <a:gd name="textAreaRight" fmla="*/ 201240 w 201240"/>
                        <a:gd name="textAreaTop" fmla="*/ 0 h 159840"/>
                        <a:gd name="textAreaBottom" fmla="*/ 160200 h 159840"/>
                      </a:gdLst>
                      <a:ahLst/>
                      <a:rect l="textAreaLeft" t="textAreaTop" r="textAreaRight" b="textAreaBottom"/>
                      <a:pathLst>
                        <a:path w="356" h="368">
                          <a:moveTo>
                            <a:pt x="0" y="0"/>
                          </a:moveTo>
                          <a:lnTo>
                            <a:pt x="300" y="14"/>
                          </a:lnTo>
                          <a:lnTo>
                            <a:pt x="356" y="294"/>
                          </a:lnTo>
                          <a:lnTo>
                            <a:pt x="78" y="3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5" name="Group 599"/>
                  <p:cNvGrpSpPr/>
                  <p:nvPr/>
                </p:nvGrpSpPr>
                <p:grpSpPr>
                  <a:xfrm>
                    <a:off x="6757920" y="5104440"/>
                    <a:ext cx="426960" cy="350640"/>
                    <a:chOff x="6757920" y="5104440"/>
                    <a:chExt cx="426960" cy="350640"/>
                  </a:xfrm>
                </p:grpSpPr>
                <p:pic>
                  <p:nvPicPr>
                    <p:cNvPr id="5906" name="Picture 600" descr="desktop_computer_stylized_medium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57920" y="5104440"/>
                      <a:ext cx="42696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07" name="Freeform 601"/>
                    <p:cNvSpPr/>
                    <p:nvPr/>
                  </p:nvSpPr>
                  <p:spPr>
                    <a:xfrm>
                      <a:off x="6801480" y="5137920"/>
                      <a:ext cx="201240" cy="1605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160560"/>
                        <a:gd name="textAreaBottom" fmla="*/ 160920 h 160560"/>
                      </a:gdLst>
                      <a:ahLst/>
                      <a:rect l="textAreaLeft" t="textAreaTop" r="textAreaRight" b="textAreaBottom"/>
                      <a:pathLst>
                        <a:path w="356" h="368">
                          <a:moveTo>
                            <a:pt x="0" y="0"/>
                          </a:moveTo>
                          <a:lnTo>
                            <a:pt x="300" y="14"/>
                          </a:lnTo>
                          <a:lnTo>
                            <a:pt x="356" y="294"/>
                          </a:lnTo>
                          <a:lnTo>
                            <a:pt x="78" y="3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08" name="Picture 603" descr="car_icon_small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9840" y="1586520"/>
                    <a:ext cx="84924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909" name="Group 652"/>
                  <p:cNvGrpSpPr/>
                  <p:nvPr/>
                </p:nvGrpSpPr>
                <p:grpSpPr>
                  <a:xfrm>
                    <a:off x="5821200" y="1411920"/>
                    <a:ext cx="415800" cy="385560"/>
                    <a:chOff x="5821200" y="1411920"/>
                    <a:chExt cx="415800" cy="385560"/>
                  </a:xfrm>
                </p:grpSpPr>
                <p:pic>
                  <p:nvPicPr>
                    <p:cNvPr id="5910" name="Picture 653" descr="iphone_stylized_sma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980680" y="1469160"/>
                      <a:ext cx="13680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911" name="Picture 654" descr="antenna_radiation_stylized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821200" y="1411920"/>
                      <a:ext cx="415800" cy="8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5912" name="Group 665"/>
                  <p:cNvGrpSpPr/>
                  <p:nvPr/>
                </p:nvGrpSpPr>
                <p:grpSpPr>
                  <a:xfrm>
                    <a:off x="7898040" y="2261160"/>
                    <a:ext cx="389880" cy="168840"/>
                    <a:chOff x="7898040" y="2261160"/>
                    <a:chExt cx="389880" cy="168840"/>
                  </a:xfrm>
                </p:grpSpPr>
                <p:sp>
                  <p:nvSpPr>
                    <p:cNvPr id="5913" name="Oval 407"/>
                    <p:cNvSpPr/>
                    <p:nvPr/>
                  </p:nvSpPr>
                  <p:spPr>
                    <a:xfrm>
                      <a:off x="7899480" y="2335680"/>
                      <a:ext cx="387000" cy="94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4" name="Rectangle 410"/>
                    <p:cNvSpPr/>
                    <p:nvPr/>
                  </p:nvSpPr>
                  <p:spPr>
                    <a:xfrm>
                      <a:off x="7899480" y="2324880"/>
                      <a:ext cx="388440" cy="59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5" name="Oval 411"/>
                    <p:cNvSpPr/>
                    <p:nvPr/>
                  </p:nvSpPr>
                  <p:spPr>
                    <a:xfrm>
                      <a:off x="7898040" y="2261160"/>
                      <a:ext cx="387000" cy="110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16" name="Group 659"/>
                    <p:cNvGrpSpPr/>
                    <p:nvPr/>
                  </p:nvGrpSpPr>
                  <p:grpSpPr>
                    <a:xfrm>
                      <a:off x="7975440" y="2289240"/>
                      <a:ext cx="218880" cy="51480"/>
                      <a:chOff x="7975440" y="2289240"/>
                      <a:chExt cx="218880" cy="51480"/>
                    </a:xfrm>
                  </p:grpSpPr>
                  <p:sp>
                    <p:nvSpPr>
                      <p:cNvPr id="5917" name="Freeform 660"/>
                      <p:cNvSpPr/>
                      <p:nvPr/>
                    </p:nvSpPr>
                    <p:spPr>
                      <a:xfrm>
                        <a:off x="7975440" y="2289240"/>
                        <a:ext cx="218880" cy="5148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8" name="Freeform 661"/>
                      <p:cNvSpPr/>
                      <p:nvPr/>
                    </p:nvSpPr>
                    <p:spPr>
                      <a:xfrm>
                        <a:off x="7985160" y="2289240"/>
                        <a:ext cx="199080" cy="5148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19" name="Line 662"/>
                    <p:cNvSpPr/>
                    <p:nvPr/>
                  </p:nvSpPr>
                  <p:spPr>
                    <a:xfrm>
                      <a:off x="7899480" y="2312280"/>
                      <a:ext cx="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0" name="Line 663"/>
                    <p:cNvSpPr/>
                    <p:nvPr/>
                  </p:nvSpPr>
                  <p:spPr>
                    <a:xfrm>
                      <a:off x="8285040" y="2315880"/>
                      <a:ext cx="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1" name="Group 666"/>
                  <p:cNvGrpSpPr/>
                  <p:nvPr/>
                </p:nvGrpSpPr>
                <p:grpSpPr>
                  <a:xfrm>
                    <a:off x="7970760" y="2622960"/>
                    <a:ext cx="389880" cy="175680"/>
                    <a:chOff x="7970760" y="2622960"/>
                    <a:chExt cx="389880" cy="175680"/>
                  </a:xfrm>
                </p:grpSpPr>
                <p:sp>
                  <p:nvSpPr>
                    <p:cNvPr id="5922" name="Oval 407"/>
                    <p:cNvSpPr/>
                    <p:nvPr/>
                  </p:nvSpPr>
                  <p:spPr>
                    <a:xfrm>
                      <a:off x="7972200" y="2700360"/>
                      <a:ext cx="387000" cy="98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268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3" name="Rectangle 410"/>
                    <p:cNvSpPr/>
                    <p:nvPr/>
                  </p:nvSpPr>
                  <p:spPr>
                    <a:xfrm>
                      <a:off x="7972200" y="2689200"/>
                      <a:ext cx="388440" cy="61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4" name="Oval 411"/>
                    <p:cNvSpPr/>
                    <p:nvPr/>
                  </p:nvSpPr>
                  <p:spPr>
                    <a:xfrm>
                      <a:off x="7970760" y="2622960"/>
                      <a:ext cx="387000" cy="114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560" bIns="345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25" name="Group 670"/>
                    <p:cNvGrpSpPr/>
                    <p:nvPr/>
                  </p:nvGrpSpPr>
                  <p:grpSpPr>
                    <a:xfrm>
                      <a:off x="8048160" y="2652120"/>
                      <a:ext cx="218880" cy="53640"/>
                      <a:chOff x="8048160" y="2652120"/>
                      <a:chExt cx="218880" cy="53640"/>
                    </a:xfrm>
                  </p:grpSpPr>
                  <p:sp>
                    <p:nvSpPr>
                      <p:cNvPr id="5926" name="Freeform 671"/>
                      <p:cNvSpPr/>
                      <p:nvPr/>
                    </p:nvSpPr>
                    <p:spPr>
                      <a:xfrm>
                        <a:off x="8048160" y="2652120"/>
                        <a:ext cx="218880" cy="5364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3640"/>
                          <a:gd name="textAreaBottom" fmla="*/ 54000 h 5364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7" name="Freeform 672"/>
                      <p:cNvSpPr/>
                      <p:nvPr/>
                    </p:nvSpPr>
                    <p:spPr>
                      <a:xfrm>
                        <a:off x="8057880" y="2652120"/>
                        <a:ext cx="199080" cy="5364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3640"/>
                          <a:gd name="textAreaBottom" fmla="*/ 54000 h 5364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28" name="Line 673"/>
                    <p:cNvSpPr/>
                    <p:nvPr/>
                  </p:nvSpPr>
                  <p:spPr>
                    <a:xfrm>
                      <a:off x="7972200" y="2676240"/>
                      <a:ext cx="0" cy="78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9" name="Line 674"/>
                    <p:cNvSpPr/>
                    <p:nvPr/>
                  </p:nvSpPr>
                  <p:spPr>
                    <a:xfrm>
                      <a:off x="8357760" y="2679840"/>
                      <a:ext cx="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0" name="Group 675"/>
                  <p:cNvGrpSpPr/>
                  <p:nvPr/>
                </p:nvGrpSpPr>
                <p:grpSpPr>
                  <a:xfrm>
                    <a:off x="7412040" y="2359440"/>
                    <a:ext cx="389880" cy="168840"/>
                    <a:chOff x="7412040" y="2359440"/>
                    <a:chExt cx="389880" cy="168840"/>
                  </a:xfrm>
                </p:grpSpPr>
                <p:sp>
                  <p:nvSpPr>
                    <p:cNvPr id="5931" name="Oval 407"/>
                    <p:cNvSpPr/>
                    <p:nvPr/>
                  </p:nvSpPr>
                  <p:spPr>
                    <a:xfrm>
                      <a:off x="7413480" y="2433960"/>
                      <a:ext cx="387000" cy="94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2" name="Rectangle 410"/>
                    <p:cNvSpPr/>
                    <p:nvPr/>
                  </p:nvSpPr>
                  <p:spPr>
                    <a:xfrm>
                      <a:off x="7413480" y="2423160"/>
                      <a:ext cx="388440" cy="59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3" name="Oval 411"/>
                    <p:cNvSpPr/>
                    <p:nvPr/>
                  </p:nvSpPr>
                  <p:spPr>
                    <a:xfrm>
                      <a:off x="7412040" y="2359440"/>
                      <a:ext cx="387000" cy="110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34" name="Group 679"/>
                    <p:cNvGrpSpPr/>
                    <p:nvPr/>
                  </p:nvGrpSpPr>
                  <p:grpSpPr>
                    <a:xfrm>
                      <a:off x="7489440" y="2387520"/>
                      <a:ext cx="218880" cy="51480"/>
                      <a:chOff x="7489440" y="2387520"/>
                      <a:chExt cx="218880" cy="51480"/>
                    </a:xfrm>
                  </p:grpSpPr>
                  <p:sp>
                    <p:nvSpPr>
                      <p:cNvPr id="5935" name="Freeform 680"/>
                      <p:cNvSpPr/>
                      <p:nvPr/>
                    </p:nvSpPr>
                    <p:spPr>
                      <a:xfrm>
                        <a:off x="7489440" y="2387520"/>
                        <a:ext cx="218880" cy="5148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6" name="Freeform 681"/>
                      <p:cNvSpPr/>
                      <p:nvPr/>
                    </p:nvSpPr>
                    <p:spPr>
                      <a:xfrm>
                        <a:off x="7499160" y="2387520"/>
                        <a:ext cx="199080" cy="5148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37" name="Line 682"/>
                    <p:cNvSpPr/>
                    <p:nvPr/>
                  </p:nvSpPr>
                  <p:spPr>
                    <a:xfrm>
                      <a:off x="7413480" y="2410560"/>
                      <a:ext cx="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8" name="Line 683"/>
                    <p:cNvSpPr/>
                    <p:nvPr/>
                  </p:nvSpPr>
                  <p:spPr>
                    <a:xfrm>
                      <a:off x="7799040" y="2414160"/>
                      <a:ext cx="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9" name="Group 684"/>
                  <p:cNvGrpSpPr/>
                  <p:nvPr/>
                </p:nvGrpSpPr>
                <p:grpSpPr>
                  <a:xfrm>
                    <a:off x="7423200" y="2622960"/>
                    <a:ext cx="389880" cy="168840"/>
                    <a:chOff x="7423200" y="2622960"/>
                    <a:chExt cx="389880" cy="168840"/>
                  </a:xfrm>
                </p:grpSpPr>
                <p:sp>
                  <p:nvSpPr>
                    <p:cNvPr id="5940" name="Oval 407"/>
                    <p:cNvSpPr/>
                    <p:nvPr/>
                  </p:nvSpPr>
                  <p:spPr>
                    <a:xfrm>
                      <a:off x="7424640" y="2697480"/>
                      <a:ext cx="387000" cy="94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1" name="Rectangle 410"/>
                    <p:cNvSpPr/>
                    <p:nvPr/>
                  </p:nvSpPr>
                  <p:spPr>
                    <a:xfrm>
                      <a:off x="7424640" y="2686680"/>
                      <a:ext cx="388440" cy="59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2" name="Oval 411"/>
                    <p:cNvSpPr/>
                    <p:nvPr/>
                  </p:nvSpPr>
                  <p:spPr>
                    <a:xfrm>
                      <a:off x="7423200" y="2622960"/>
                      <a:ext cx="387000" cy="110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43" name="Group 688"/>
                    <p:cNvGrpSpPr/>
                    <p:nvPr/>
                  </p:nvGrpSpPr>
                  <p:grpSpPr>
                    <a:xfrm>
                      <a:off x="7500600" y="2651040"/>
                      <a:ext cx="218880" cy="51480"/>
                      <a:chOff x="7500600" y="2651040"/>
                      <a:chExt cx="218880" cy="51480"/>
                    </a:xfrm>
                  </p:grpSpPr>
                  <p:sp>
                    <p:nvSpPr>
                      <p:cNvPr id="5944" name="Freeform 689"/>
                      <p:cNvSpPr/>
                      <p:nvPr/>
                    </p:nvSpPr>
                    <p:spPr>
                      <a:xfrm>
                        <a:off x="7500600" y="2651040"/>
                        <a:ext cx="218880" cy="5148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5" name="Freeform 690"/>
                      <p:cNvSpPr/>
                      <p:nvPr/>
                    </p:nvSpPr>
                    <p:spPr>
                      <a:xfrm>
                        <a:off x="7510320" y="2651040"/>
                        <a:ext cx="199080" cy="5148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46" name="Line 691"/>
                    <p:cNvSpPr/>
                    <p:nvPr/>
                  </p:nvSpPr>
                  <p:spPr>
                    <a:xfrm>
                      <a:off x="7424640" y="2674080"/>
                      <a:ext cx="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7" name="Line 692"/>
                    <p:cNvSpPr/>
                    <p:nvPr/>
                  </p:nvSpPr>
                  <p:spPr>
                    <a:xfrm>
                      <a:off x="7810200" y="2677680"/>
                      <a:ext cx="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48" name="Line 693"/>
                  <p:cNvSpPr/>
                  <p:nvPr/>
                </p:nvSpPr>
                <p:spPr>
                  <a:xfrm>
                    <a:off x="8553600" y="2721600"/>
                    <a:ext cx="177480" cy="0"/>
                  </a:xfrm>
                  <a:prstGeom prst="line">
                    <a:avLst/>
                  </a:prstGeom>
                  <a:ln w="9360">
                    <a:solidFill>
                      <a:srgbClr val="808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49" name="Group 694"/>
                  <p:cNvGrpSpPr/>
                  <p:nvPr/>
                </p:nvGrpSpPr>
                <p:grpSpPr>
                  <a:xfrm>
                    <a:off x="7608960" y="3777120"/>
                    <a:ext cx="485280" cy="202320"/>
                    <a:chOff x="7608960" y="3777120"/>
                    <a:chExt cx="485280" cy="202320"/>
                  </a:xfrm>
                </p:grpSpPr>
                <p:sp>
                  <p:nvSpPr>
                    <p:cNvPr id="5950" name="Oval 407"/>
                    <p:cNvSpPr/>
                    <p:nvPr/>
                  </p:nvSpPr>
                  <p:spPr>
                    <a:xfrm>
                      <a:off x="7611120" y="3866400"/>
                      <a:ext cx="481320" cy="113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1" name="Rectangle 410"/>
                    <p:cNvSpPr/>
                    <p:nvPr/>
                  </p:nvSpPr>
                  <p:spPr>
                    <a:xfrm>
                      <a:off x="7611120" y="3853440"/>
                      <a:ext cx="483120" cy="70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760" bIns="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2" name="Oval 411"/>
                    <p:cNvSpPr/>
                    <p:nvPr/>
                  </p:nvSpPr>
                  <p:spPr>
                    <a:xfrm>
                      <a:off x="7608960" y="3777120"/>
                      <a:ext cx="481320" cy="132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53" name="Group 698"/>
                    <p:cNvGrpSpPr/>
                    <p:nvPr/>
                  </p:nvGrpSpPr>
                  <p:grpSpPr>
                    <a:xfrm>
                      <a:off x="7705440" y="3810960"/>
                      <a:ext cx="272520" cy="61920"/>
                      <a:chOff x="7705440" y="3810960"/>
                      <a:chExt cx="272520" cy="61920"/>
                    </a:xfrm>
                  </p:grpSpPr>
                  <p:sp>
                    <p:nvSpPr>
                      <p:cNvPr id="5954" name="Freeform 699"/>
                      <p:cNvSpPr/>
                      <p:nvPr/>
                    </p:nvSpPr>
                    <p:spPr>
                      <a:xfrm>
                        <a:off x="7705440" y="3810960"/>
                        <a:ext cx="272520" cy="61920"/>
                      </a:xfrm>
                      <a:custGeom>
                        <a:avLst/>
                        <a:gdLst>
                          <a:gd name="textAreaLeft" fmla="*/ 0 w 272520"/>
                          <a:gd name="textAreaRight" fmla="*/ 272880 w 27252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5" name="Freeform 700"/>
                      <p:cNvSpPr/>
                      <p:nvPr/>
                    </p:nvSpPr>
                    <p:spPr>
                      <a:xfrm>
                        <a:off x="7717680" y="3810960"/>
                        <a:ext cx="247680" cy="61920"/>
                      </a:xfrm>
                      <a:custGeom>
                        <a:avLst/>
                        <a:gdLst>
                          <a:gd name="textAreaLeft" fmla="*/ 0 w 247680"/>
                          <a:gd name="textAreaRight" fmla="*/ 248040 w 24768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56" name="Line 701"/>
                    <p:cNvSpPr/>
                    <p:nvPr/>
                  </p:nvSpPr>
                  <p:spPr>
                    <a:xfrm>
                      <a:off x="7611120" y="3838320"/>
                      <a:ext cx="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7" name="Line 702"/>
                    <p:cNvSpPr/>
                    <p:nvPr/>
                  </p:nvSpPr>
                  <p:spPr>
                    <a:xfrm>
                      <a:off x="8090280" y="3842640"/>
                      <a:ext cx="0" cy="87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8" name="Group 712"/>
                  <p:cNvGrpSpPr/>
                  <p:nvPr/>
                </p:nvGrpSpPr>
                <p:grpSpPr>
                  <a:xfrm>
                    <a:off x="7289640" y="3496320"/>
                    <a:ext cx="485280" cy="202320"/>
                    <a:chOff x="7289640" y="3496320"/>
                    <a:chExt cx="485280" cy="202320"/>
                  </a:xfrm>
                </p:grpSpPr>
                <p:sp>
                  <p:nvSpPr>
                    <p:cNvPr id="5959" name="Oval 407"/>
                    <p:cNvSpPr/>
                    <p:nvPr/>
                  </p:nvSpPr>
                  <p:spPr>
                    <a:xfrm>
                      <a:off x="7291800" y="3585600"/>
                      <a:ext cx="481320" cy="113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0" name="Rectangle 410"/>
                    <p:cNvSpPr/>
                    <p:nvPr/>
                  </p:nvSpPr>
                  <p:spPr>
                    <a:xfrm>
                      <a:off x="7291800" y="3572640"/>
                      <a:ext cx="483120" cy="70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760" bIns="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1" name="Oval 411"/>
                    <p:cNvSpPr/>
                    <p:nvPr/>
                  </p:nvSpPr>
                  <p:spPr>
                    <a:xfrm>
                      <a:off x="7289640" y="3496320"/>
                      <a:ext cx="481320" cy="132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62" name="Group 716"/>
                    <p:cNvGrpSpPr/>
                    <p:nvPr/>
                  </p:nvGrpSpPr>
                  <p:grpSpPr>
                    <a:xfrm>
                      <a:off x="7386120" y="3530160"/>
                      <a:ext cx="272520" cy="61920"/>
                      <a:chOff x="7386120" y="3530160"/>
                      <a:chExt cx="272520" cy="61920"/>
                    </a:xfrm>
                  </p:grpSpPr>
                  <p:sp>
                    <p:nvSpPr>
                      <p:cNvPr id="5963" name="Freeform 717"/>
                      <p:cNvSpPr/>
                      <p:nvPr/>
                    </p:nvSpPr>
                    <p:spPr>
                      <a:xfrm>
                        <a:off x="7386120" y="3530160"/>
                        <a:ext cx="272520" cy="61920"/>
                      </a:xfrm>
                      <a:custGeom>
                        <a:avLst/>
                        <a:gdLst>
                          <a:gd name="textAreaLeft" fmla="*/ 0 w 272520"/>
                          <a:gd name="textAreaRight" fmla="*/ 272880 w 27252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4" name="Freeform 718"/>
                      <p:cNvSpPr/>
                      <p:nvPr/>
                    </p:nvSpPr>
                    <p:spPr>
                      <a:xfrm>
                        <a:off x="7398360" y="3530160"/>
                        <a:ext cx="247680" cy="61920"/>
                      </a:xfrm>
                      <a:custGeom>
                        <a:avLst/>
                        <a:gdLst>
                          <a:gd name="textAreaLeft" fmla="*/ 0 w 247680"/>
                          <a:gd name="textAreaRight" fmla="*/ 248040 w 24768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65" name="Line 719"/>
                    <p:cNvSpPr/>
                    <p:nvPr/>
                  </p:nvSpPr>
                  <p:spPr>
                    <a:xfrm>
                      <a:off x="7291800" y="3557520"/>
                      <a:ext cx="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6" name="Line 720"/>
                    <p:cNvSpPr/>
                    <p:nvPr/>
                  </p:nvSpPr>
                  <p:spPr>
                    <a:xfrm>
                      <a:off x="7770960" y="3561840"/>
                      <a:ext cx="0" cy="87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7" name="Group 721"/>
                  <p:cNvGrpSpPr/>
                  <p:nvPr/>
                </p:nvGrpSpPr>
                <p:grpSpPr>
                  <a:xfrm>
                    <a:off x="7952040" y="3508920"/>
                    <a:ext cx="485280" cy="202320"/>
                    <a:chOff x="7952040" y="3508920"/>
                    <a:chExt cx="485280" cy="202320"/>
                  </a:xfrm>
                </p:grpSpPr>
                <p:sp>
                  <p:nvSpPr>
                    <p:cNvPr id="5968" name="Oval 407"/>
                    <p:cNvSpPr/>
                    <p:nvPr/>
                  </p:nvSpPr>
                  <p:spPr>
                    <a:xfrm>
                      <a:off x="7954200" y="3598200"/>
                      <a:ext cx="481320" cy="113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120" bIns="33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9" name="Rectangle 410"/>
                    <p:cNvSpPr/>
                    <p:nvPr/>
                  </p:nvSpPr>
                  <p:spPr>
                    <a:xfrm>
                      <a:off x="7954200" y="3585240"/>
                      <a:ext cx="483120" cy="70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3760" bIns="23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0" name="Oval 411"/>
                    <p:cNvSpPr/>
                    <p:nvPr/>
                  </p:nvSpPr>
                  <p:spPr>
                    <a:xfrm>
                      <a:off x="7952040" y="3508920"/>
                      <a:ext cx="481320" cy="132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71" name="Group 725"/>
                    <p:cNvGrpSpPr/>
                    <p:nvPr/>
                  </p:nvGrpSpPr>
                  <p:grpSpPr>
                    <a:xfrm>
                      <a:off x="8048520" y="3542760"/>
                      <a:ext cx="272520" cy="61920"/>
                      <a:chOff x="8048520" y="3542760"/>
                      <a:chExt cx="272520" cy="61920"/>
                    </a:xfrm>
                  </p:grpSpPr>
                  <p:sp>
                    <p:nvSpPr>
                      <p:cNvPr id="5972" name="Freeform 726"/>
                      <p:cNvSpPr/>
                      <p:nvPr/>
                    </p:nvSpPr>
                    <p:spPr>
                      <a:xfrm>
                        <a:off x="8048520" y="3542760"/>
                        <a:ext cx="272520" cy="61920"/>
                      </a:xfrm>
                      <a:custGeom>
                        <a:avLst/>
                        <a:gdLst>
                          <a:gd name="textAreaLeft" fmla="*/ 0 w 272520"/>
                          <a:gd name="textAreaRight" fmla="*/ 272880 w 27252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3" name="Freeform 727"/>
                      <p:cNvSpPr/>
                      <p:nvPr/>
                    </p:nvSpPr>
                    <p:spPr>
                      <a:xfrm>
                        <a:off x="8060760" y="3542760"/>
                        <a:ext cx="247680" cy="61920"/>
                      </a:xfrm>
                      <a:custGeom>
                        <a:avLst/>
                        <a:gdLst>
                          <a:gd name="textAreaLeft" fmla="*/ 0 w 247680"/>
                          <a:gd name="textAreaRight" fmla="*/ 248040 w 247680"/>
                          <a:gd name="textAreaTop" fmla="*/ 0 h 61920"/>
                          <a:gd name="textAreaBottom" fmla="*/ 62280 h 6192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74" name="Line 728"/>
                    <p:cNvSpPr/>
                    <p:nvPr/>
                  </p:nvSpPr>
                  <p:spPr>
                    <a:xfrm>
                      <a:off x="7954200" y="3570120"/>
                      <a:ext cx="0" cy="90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5" name="Line 729"/>
                    <p:cNvSpPr/>
                    <p:nvPr/>
                  </p:nvSpPr>
                  <p:spPr>
                    <a:xfrm>
                      <a:off x="8433360" y="3574440"/>
                      <a:ext cx="0" cy="87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6" name="Group 730"/>
                  <p:cNvGrpSpPr/>
                  <p:nvPr/>
                </p:nvGrpSpPr>
                <p:grpSpPr>
                  <a:xfrm>
                    <a:off x="7170840" y="4370760"/>
                    <a:ext cx="618480" cy="242280"/>
                    <a:chOff x="7170840" y="4370760"/>
                    <a:chExt cx="618480" cy="242280"/>
                  </a:xfrm>
                </p:grpSpPr>
                <p:sp>
                  <p:nvSpPr>
                    <p:cNvPr id="5977" name="Oval 407"/>
                    <p:cNvSpPr/>
                    <p:nvPr/>
                  </p:nvSpPr>
                  <p:spPr>
                    <a:xfrm>
                      <a:off x="7173360" y="4477680"/>
                      <a:ext cx="61380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8" name="Rectangle 410"/>
                    <p:cNvSpPr/>
                    <p:nvPr/>
                  </p:nvSpPr>
                  <p:spPr>
                    <a:xfrm>
                      <a:off x="7173360" y="4461840"/>
                      <a:ext cx="615960" cy="84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9" name="Oval 411"/>
                    <p:cNvSpPr/>
                    <p:nvPr/>
                  </p:nvSpPr>
                  <p:spPr>
                    <a:xfrm>
                      <a:off x="7170840" y="4370760"/>
                      <a:ext cx="613800" cy="157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80" name="Group 734"/>
                    <p:cNvGrpSpPr/>
                    <p:nvPr/>
                  </p:nvGrpSpPr>
                  <p:grpSpPr>
                    <a:xfrm>
                      <a:off x="7293960" y="4411080"/>
                      <a:ext cx="347400" cy="73800"/>
                      <a:chOff x="7293960" y="4411080"/>
                      <a:chExt cx="347400" cy="73800"/>
                    </a:xfrm>
                  </p:grpSpPr>
                  <p:sp>
                    <p:nvSpPr>
                      <p:cNvPr id="5981" name="Freeform 735"/>
                      <p:cNvSpPr/>
                      <p:nvPr/>
                    </p:nvSpPr>
                    <p:spPr>
                      <a:xfrm>
                        <a:off x="7293960" y="4411080"/>
                        <a:ext cx="347400" cy="73800"/>
                      </a:xfrm>
                      <a:custGeom>
                        <a:avLst/>
                        <a:gdLst>
                          <a:gd name="textAreaLeft" fmla="*/ 0 w 347400"/>
                          <a:gd name="textAreaRight" fmla="*/ 347760 w 34740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2" name="Freeform 736"/>
                      <p:cNvSpPr/>
                      <p:nvPr/>
                    </p:nvSpPr>
                    <p:spPr>
                      <a:xfrm>
                        <a:off x="7309440" y="4411080"/>
                        <a:ext cx="315720" cy="73800"/>
                      </a:xfrm>
                      <a:custGeom>
                        <a:avLst/>
                        <a:gdLst>
                          <a:gd name="textAreaLeft" fmla="*/ 0 w 315720"/>
                          <a:gd name="textAreaRight" fmla="*/ 316080 w 31572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83" name="Line 737"/>
                    <p:cNvSpPr/>
                    <p:nvPr/>
                  </p:nvSpPr>
                  <p:spPr>
                    <a:xfrm>
                      <a:off x="7173360" y="4444200"/>
                      <a:ext cx="0" cy="107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4" name="Line 738"/>
                    <p:cNvSpPr/>
                    <p:nvPr/>
                  </p:nvSpPr>
                  <p:spPr>
                    <a:xfrm>
                      <a:off x="7784640" y="4449240"/>
                      <a:ext cx="0" cy="104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5" name="Group 739"/>
                  <p:cNvGrpSpPr/>
                  <p:nvPr/>
                </p:nvGrpSpPr>
                <p:grpSpPr>
                  <a:xfrm>
                    <a:off x="7804080" y="4669200"/>
                    <a:ext cx="618480" cy="242280"/>
                    <a:chOff x="7804080" y="4669200"/>
                    <a:chExt cx="618480" cy="242280"/>
                  </a:xfrm>
                </p:grpSpPr>
                <p:sp>
                  <p:nvSpPr>
                    <p:cNvPr id="5986" name="Oval 407"/>
                    <p:cNvSpPr/>
                    <p:nvPr/>
                  </p:nvSpPr>
                  <p:spPr>
                    <a:xfrm>
                      <a:off x="7806600" y="4776120"/>
                      <a:ext cx="61380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7" name="Rectangle 410"/>
                    <p:cNvSpPr/>
                    <p:nvPr/>
                  </p:nvSpPr>
                  <p:spPr>
                    <a:xfrm>
                      <a:off x="7806600" y="4760280"/>
                      <a:ext cx="615960" cy="84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8" name="Oval 411"/>
                    <p:cNvSpPr/>
                    <p:nvPr/>
                  </p:nvSpPr>
                  <p:spPr>
                    <a:xfrm>
                      <a:off x="7804080" y="4669200"/>
                      <a:ext cx="613800" cy="157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89" name="Group 743"/>
                    <p:cNvGrpSpPr/>
                    <p:nvPr/>
                  </p:nvGrpSpPr>
                  <p:grpSpPr>
                    <a:xfrm>
                      <a:off x="7927200" y="4709520"/>
                      <a:ext cx="347400" cy="73800"/>
                      <a:chOff x="7927200" y="4709520"/>
                      <a:chExt cx="347400" cy="73800"/>
                    </a:xfrm>
                  </p:grpSpPr>
                  <p:sp>
                    <p:nvSpPr>
                      <p:cNvPr id="5990" name="Freeform 744"/>
                      <p:cNvSpPr/>
                      <p:nvPr/>
                    </p:nvSpPr>
                    <p:spPr>
                      <a:xfrm>
                        <a:off x="7927200" y="4709520"/>
                        <a:ext cx="347400" cy="73800"/>
                      </a:xfrm>
                      <a:custGeom>
                        <a:avLst/>
                        <a:gdLst>
                          <a:gd name="textAreaLeft" fmla="*/ 0 w 347400"/>
                          <a:gd name="textAreaRight" fmla="*/ 347760 w 34740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1" name="Freeform 745"/>
                      <p:cNvSpPr/>
                      <p:nvPr/>
                    </p:nvSpPr>
                    <p:spPr>
                      <a:xfrm>
                        <a:off x="7942680" y="4709520"/>
                        <a:ext cx="315720" cy="73800"/>
                      </a:xfrm>
                      <a:custGeom>
                        <a:avLst/>
                        <a:gdLst>
                          <a:gd name="textAreaLeft" fmla="*/ 0 w 315720"/>
                          <a:gd name="textAreaRight" fmla="*/ 316080 w 31572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92" name="Line 746"/>
                    <p:cNvSpPr/>
                    <p:nvPr/>
                  </p:nvSpPr>
                  <p:spPr>
                    <a:xfrm>
                      <a:off x="7806600" y="4742640"/>
                      <a:ext cx="0" cy="107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3" name="Line 747"/>
                    <p:cNvSpPr/>
                    <p:nvPr/>
                  </p:nvSpPr>
                  <p:spPr>
                    <a:xfrm>
                      <a:off x="8417880" y="4747680"/>
                      <a:ext cx="0" cy="104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4" name="Group 748"/>
                  <p:cNvGrpSpPr/>
                  <p:nvPr/>
                </p:nvGrpSpPr>
                <p:grpSpPr>
                  <a:xfrm>
                    <a:off x="6454800" y="4713840"/>
                    <a:ext cx="618480" cy="242280"/>
                    <a:chOff x="6454800" y="4713840"/>
                    <a:chExt cx="618480" cy="242280"/>
                  </a:xfrm>
                </p:grpSpPr>
                <p:sp>
                  <p:nvSpPr>
                    <p:cNvPr id="5995" name="Oval 407"/>
                    <p:cNvSpPr/>
                    <p:nvPr/>
                  </p:nvSpPr>
                  <p:spPr>
                    <a:xfrm>
                      <a:off x="6457320" y="4820760"/>
                      <a:ext cx="613800" cy="135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6" name="Rectangle 410"/>
                    <p:cNvSpPr/>
                    <p:nvPr/>
                  </p:nvSpPr>
                  <p:spPr>
                    <a:xfrm>
                      <a:off x="6457320" y="4804920"/>
                      <a:ext cx="615960" cy="84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7440" bIns="37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7" name="Oval 411"/>
                    <p:cNvSpPr/>
                    <p:nvPr/>
                  </p:nvSpPr>
                  <p:spPr>
                    <a:xfrm>
                      <a:off x="6454800" y="4713840"/>
                      <a:ext cx="613800" cy="1576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998" name="Group 752"/>
                    <p:cNvGrpSpPr/>
                    <p:nvPr/>
                  </p:nvGrpSpPr>
                  <p:grpSpPr>
                    <a:xfrm>
                      <a:off x="6577920" y="4754160"/>
                      <a:ext cx="347400" cy="73800"/>
                      <a:chOff x="6577920" y="4754160"/>
                      <a:chExt cx="347400" cy="73800"/>
                    </a:xfrm>
                  </p:grpSpPr>
                  <p:sp>
                    <p:nvSpPr>
                      <p:cNvPr id="5999" name="Freeform 753"/>
                      <p:cNvSpPr/>
                      <p:nvPr/>
                    </p:nvSpPr>
                    <p:spPr>
                      <a:xfrm>
                        <a:off x="6577920" y="4754160"/>
                        <a:ext cx="347400" cy="73800"/>
                      </a:xfrm>
                      <a:custGeom>
                        <a:avLst/>
                        <a:gdLst>
                          <a:gd name="textAreaLeft" fmla="*/ 0 w 347400"/>
                          <a:gd name="textAreaRight" fmla="*/ 347760 w 34740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0" name="Freeform 754"/>
                      <p:cNvSpPr/>
                      <p:nvPr/>
                    </p:nvSpPr>
                    <p:spPr>
                      <a:xfrm>
                        <a:off x="6593400" y="4754160"/>
                        <a:ext cx="315720" cy="73800"/>
                      </a:xfrm>
                      <a:custGeom>
                        <a:avLst/>
                        <a:gdLst>
                          <a:gd name="textAreaLeft" fmla="*/ 0 w 315720"/>
                          <a:gd name="textAreaRight" fmla="*/ 316080 w 315720"/>
                          <a:gd name="textAreaTop" fmla="*/ 0 h 73800"/>
                          <a:gd name="textAreaBottom" fmla="*/ 74160 h 7380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01" name="Line 755"/>
                    <p:cNvSpPr/>
                    <p:nvPr/>
                  </p:nvSpPr>
                  <p:spPr>
                    <a:xfrm>
                      <a:off x="6457320" y="4787280"/>
                      <a:ext cx="0" cy="107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2" name="Line 756"/>
                    <p:cNvSpPr/>
                    <p:nvPr/>
                  </p:nvSpPr>
                  <p:spPr>
                    <a:xfrm>
                      <a:off x="7068600" y="4792320"/>
                      <a:ext cx="0" cy="104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3" name="Group 757"/>
                  <p:cNvGrpSpPr/>
                  <p:nvPr/>
                </p:nvGrpSpPr>
                <p:grpSpPr>
                  <a:xfrm>
                    <a:off x="6260760" y="3505680"/>
                    <a:ext cx="389880" cy="168840"/>
                    <a:chOff x="6260760" y="3505680"/>
                    <a:chExt cx="389880" cy="168840"/>
                  </a:xfrm>
                </p:grpSpPr>
                <p:sp>
                  <p:nvSpPr>
                    <p:cNvPr id="6004" name="Oval 407"/>
                    <p:cNvSpPr/>
                    <p:nvPr/>
                  </p:nvSpPr>
                  <p:spPr>
                    <a:xfrm>
                      <a:off x="6262200" y="3580200"/>
                      <a:ext cx="387000" cy="94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5" name="Rectangle 410"/>
                    <p:cNvSpPr/>
                    <p:nvPr/>
                  </p:nvSpPr>
                  <p:spPr>
                    <a:xfrm>
                      <a:off x="6262200" y="3569400"/>
                      <a:ext cx="388440" cy="59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6" name="Oval 411"/>
                    <p:cNvSpPr/>
                    <p:nvPr/>
                  </p:nvSpPr>
                  <p:spPr>
                    <a:xfrm>
                      <a:off x="6260760" y="3505680"/>
                      <a:ext cx="387000" cy="110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07" name="Group 761"/>
                    <p:cNvGrpSpPr/>
                    <p:nvPr/>
                  </p:nvGrpSpPr>
                  <p:grpSpPr>
                    <a:xfrm>
                      <a:off x="6338160" y="3533760"/>
                      <a:ext cx="218880" cy="51480"/>
                      <a:chOff x="6338160" y="3533760"/>
                      <a:chExt cx="218880" cy="51480"/>
                    </a:xfrm>
                  </p:grpSpPr>
                  <p:sp>
                    <p:nvSpPr>
                      <p:cNvPr id="6008" name="Freeform 762"/>
                      <p:cNvSpPr/>
                      <p:nvPr/>
                    </p:nvSpPr>
                    <p:spPr>
                      <a:xfrm>
                        <a:off x="6338160" y="3533760"/>
                        <a:ext cx="218880" cy="5148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9" name="Freeform 763"/>
                      <p:cNvSpPr/>
                      <p:nvPr/>
                    </p:nvSpPr>
                    <p:spPr>
                      <a:xfrm>
                        <a:off x="6347880" y="3533760"/>
                        <a:ext cx="199080" cy="5148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10" name="Line 764"/>
                    <p:cNvSpPr/>
                    <p:nvPr/>
                  </p:nvSpPr>
                  <p:spPr>
                    <a:xfrm>
                      <a:off x="6262200" y="3556800"/>
                      <a:ext cx="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1" name="Line 765"/>
                    <p:cNvSpPr/>
                    <p:nvPr/>
                  </p:nvSpPr>
                  <p:spPr>
                    <a:xfrm>
                      <a:off x="6647760" y="3560400"/>
                      <a:ext cx="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2" name="Group 767"/>
                  <p:cNvGrpSpPr/>
                  <p:nvPr/>
                </p:nvGrpSpPr>
                <p:grpSpPr>
                  <a:xfrm>
                    <a:off x="6561000" y="2353320"/>
                    <a:ext cx="389880" cy="168840"/>
                    <a:chOff x="6561000" y="2353320"/>
                    <a:chExt cx="389880" cy="168840"/>
                  </a:xfrm>
                </p:grpSpPr>
                <p:sp>
                  <p:nvSpPr>
                    <p:cNvPr id="6013" name="Oval 407"/>
                    <p:cNvSpPr/>
                    <p:nvPr/>
                  </p:nvSpPr>
                  <p:spPr>
                    <a:xfrm>
                      <a:off x="6562440" y="2427840"/>
                      <a:ext cx="387000" cy="94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4" name="Rectangle 410"/>
                    <p:cNvSpPr/>
                    <p:nvPr/>
                  </p:nvSpPr>
                  <p:spPr>
                    <a:xfrm>
                      <a:off x="6562440" y="2417040"/>
                      <a:ext cx="388440" cy="59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240" bIns="12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5" name="Oval 411"/>
                    <p:cNvSpPr/>
                    <p:nvPr/>
                  </p:nvSpPr>
                  <p:spPr>
                    <a:xfrm>
                      <a:off x="6561000" y="2353320"/>
                      <a:ext cx="387000" cy="110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1680" bIns="31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16" name="Group 771"/>
                    <p:cNvGrpSpPr/>
                    <p:nvPr/>
                  </p:nvGrpSpPr>
                  <p:grpSpPr>
                    <a:xfrm>
                      <a:off x="6638400" y="2381400"/>
                      <a:ext cx="218880" cy="51480"/>
                      <a:chOff x="6638400" y="2381400"/>
                      <a:chExt cx="218880" cy="51480"/>
                    </a:xfrm>
                  </p:grpSpPr>
                  <p:sp>
                    <p:nvSpPr>
                      <p:cNvPr id="6017" name="Freeform 772"/>
                      <p:cNvSpPr/>
                      <p:nvPr/>
                    </p:nvSpPr>
                    <p:spPr>
                      <a:xfrm>
                        <a:off x="6638400" y="2381400"/>
                        <a:ext cx="218880" cy="51480"/>
                      </a:xfrm>
                      <a:custGeom>
                        <a:avLst/>
                        <a:gdLst>
                          <a:gd name="textAreaLeft" fmla="*/ 0 w 218880"/>
                          <a:gd name="textAreaRight" fmla="*/ 219240 w 2188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310" h="60">
                            <a:moveTo>
                              <a:pt x="0" y="60"/>
                            </a:moveTo>
                            <a:lnTo>
                              <a:pt x="96" y="60"/>
                            </a:lnTo>
                            <a:lnTo>
                              <a:pt x="192" y="0"/>
                            </a:lnTo>
                            <a:lnTo>
                              <a:pt x="31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8" name="Freeform 773"/>
                      <p:cNvSpPr/>
                      <p:nvPr/>
                    </p:nvSpPr>
                    <p:spPr>
                      <a:xfrm>
                        <a:off x="6648120" y="2381400"/>
                        <a:ext cx="199080" cy="51480"/>
                      </a:xfrm>
                      <a:custGeom>
                        <a:avLst/>
                        <a:gdLst>
                          <a:gd name="textAreaLeft" fmla="*/ 0 w 199080"/>
                          <a:gd name="textAreaRight" fmla="*/ 199440 w 199080"/>
                          <a:gd name="textAreaTop" fmla="*/ 0 h 51480"/>
                          <a:gd name="textAreaBottom" fmla="*/ 51840 h 51480"/>
                        </a:gdLst>
                        <a:ahLst/>
                        <a:rect l="textAreaLeft" t="textAreaTop" r="textAreaRight" b="textAreaBottom"/>
                        <a:pathLst>
                          <a:path w="282" h="60">
                            <a:moveTo>
                              <a:pt x="0" y="0"/>
                            </a:moveTo>
                            <a:lnTo>
                              <a:pt x="96" y="0"/>
                            </a:lnTo>
                            <a:lnTo>
                              <a:pt x="192" y="60"/>
                            </a:lnTo>
                            <a:lnTo>
                              <a:pt x="282" y="6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19" name="Line 774"/>
                    <p:cNvSpPr/>
                    <p:nvPr/>
                  </p:nvSpPr>
                  <p:spPr>
                    <a:xfrm>
                      <a:off x="6562440" y="2404440"/>
                      <a:ext cx="0" cy="7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0" name="Line 775"/>
                    <p:cNvSpPr/>
                    <p:nvPr/>
                  </p:nvSpPr>
                  <p:spPr>
                    <a:xfrm>
                      <a:off x="6948000" y="2408040"/>
                      <a:ext cx="0" cy="73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1" name="Group 776"/>
                  <p:cNvGrpSpPr/>
                  <p:nvPr/>
                </p:nvGrpSpPr>
                <p:grpSpPr>
                  <a:xfrm>
                    <a:off x="5819400" y="3366000"/>
                    <a:ext cx="506160" cy="351720"/>
                    <a:chOff x="5819400" y="3366000"/>
                    <a:chExt cx="506160" cy="351720"/>
                  </a:xfrm>
                </p:grpSpPr>
                <p:pic>
                  <p:nvPicPr>
                    <p:cNvPr id="6022" name="Picture 777" descr="access_point_stylized_sma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848200" y="3411360"/>
                      <a:ext cx="37008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023" name="Picture 778" descr="antenna_radiation_stylized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9400" y="3366000"/>
                      <a:ext cx="506160" cy="10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024" name="Group 779"/>
                  <p:cNvGrpSpPr/>
                  <p:nvPr/>
                </p:nvGrpSpPr>
                <p:grpSpPr>
                  <a:xfrm>
                    <a:off x="7340760" y="4869360"/>
                    <a:ext cx="563400" cy="420480"/>
                    <a:chOff x="7340760" y="4869360"/>
                    <a:chExt cx="563400" cy="420480"/>
                  </a:xfrm>
                </p:grpSpPr>
                <p:pic>
                  <p:nvPicPr>
                    <p:cNvPr id="6025" name="Picture 780" descr="access_point_stylized_small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72800" y="4923720"/>
                      <a:ext cx="41184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026" name="Picture 781" descr="antenna_radiation_stylized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40760" y="4869360"/>
                      <a:ext cx="563400" cy="1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027" name="Group 782"/>
                  <p:cNvGrpSpPr/>
                  <p:nvPr/>
                </p:nvGrpSpPr>
                <p:grpSpPr>
                  <a:xfrm>
                    <a:off x="6269040" y="1710360"/>
                    <a:ext cx="457200" cy="631800"/>
                    <a:chOff x="6269040" y="1710360"/>
                    <a:chExt cx="457200" cy="631800"/>
                  </a:xfrm>
                </p:grpSpPr>
                <p:grpSp>
                  <p:nvGrpSpPr>
                    <p:cNvPr id="6028" name="Group 783"/>
                    <p:cNvGrpSpPr/>
                    <p:nvPr/>
                  </p:nvGrpSpPr>
                  <p:grpSpPr>
                    <a:xfrm>
                      <a:off x="6340320" y="1878120"/>
                      <a:ext cx="298080" cy="464040"/>
                      <a:chOff x="6340320" y="1878120"/>
                      <a:chExt cx="298080" cy="464040"/>
                    </a:xfrm>
                  </p:grpSpPr>
                  <p:sp>
                    <p:nvSpPr>
                      <p:cNvPr id="6029" name="Line 270"/>
                      <p:cNvSpPr/>
                      <p:nvPr/>
                    </p:nvSpPr>
                    <p:spPr>
                      <a:xfrm flipH="1">
                        <a:off x="6340320" y="1878120"/>
                        <a:ext cx="149040" cy="4204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0" name="Line 271"/>
                      <p:cNvSpPr/>
                      <p:nvPr/>
                    </p:nvSpPr>
                    <p:spPr>
                      <a:xfrm>
                        <a:off x="6489360" y="1878120"/>
                        <a:ext cx="149040" cy="4183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1" name="Line 272"/>
                      <p:cNvSpPr/>
                      <p:nvPr/>
                    </p:nvSpPr>
                    <p:spPr>
                      <a:xfrm>
                        <a:off x="6340320" y="2296440"/>
                        <a:ext cx="149040" cy="45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2" name="Line 273"/>
                      <p:cNvSpPr/>
                      <p:nvPr/>
                    </p:nvSpPr>
                    <p:spPr>
                      <a:xfrm flipH="1">
                        <a:off x="6489360" y="2296440"/>
                        <a:ext cx="149040" cy="45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3" name="Line 274"/>
                      <p:cNvSpPr/>
                      <p:nvPr/>
                    </p:nvSpPr>
                    <p:spPr>
                      <a:xfrm>
                        <a:off x="6489360" y="1887480"/>
                        <a:ext cx="0" cy="45468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4" name="Line 275"/>
                      <p:cNvSpPr/>
                      <p:nvPr/>
                    </p:nvSpPr>
                    <p:spPr>
                      <a:xfrm flipV="1">
                        <a:off x="6340320" y="2252880"/>
                        <a:ext cx="149040" cy="450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5" name="Line 276"/>
                      <p:cNvSpPr/>
                      <p:nvPr/>
                    </p:nvSpPr>
                    <p:spPr>
                      <a:xfrm flipH="1" flipV="1">
                        <a:off x="6489360" y="2252880"/>
                        <a:ext cx="149040" cy="428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6" name="Line 277"/>
                      <p:cNvSpPr/>
                      <p:nvPr/>
                    </p:nvSpPr>
                    <p:spPr>
                      <a:xfrm>
                        <a:off x="6403680" y="2115720"/>
                        <a:ext cx="85680" cy="34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7" name="Line 278"/>
                      <p:cNvSpPr/>
                      <p:nvPr/>
                    </p:nvSpPr>
                    <p:spPr>
                      <a:xfrm flipV="1">
                        <a:off x="6489360" y="2115360"/>
                        <a:ext cx="90000" cy="34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8" name="Line 279"/>
                      <p:cNvSpPr/>
                      <p:nvPr/>
                    </p:nvSpPr>
                    <p:spPr>
                      <a:xfrm>
                        <a:off x="6375240" y="2176920"/>
                        <a:ext cx="110520" cy="468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9" name="Line 280"/>
                      <p:cNvSpPr/>
                      <p:nvPr/>
                    </p:nvSpPr>
                    <p:spPr>
                      <a:xfrm flipV="1">
                        <a:off x="6489360" y="2186280"/>
                        <a:ext cx="111240" cy="4104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0" name="Line 281"/>
                      <p:cNvSpPr/>
                      <p:nvPr/>
                    </p:nvSpPr>
                    <p:spPr>
                      <a:xfrm flipV="1">
                        <a:off x="6489360" y="2052000"/>
                        <a:ext cx="56520" cy="169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1" name="Line 282"/>
                      <p:cNvSpPr/>
                      <p:nvPr/>
                    </p:nvSpPr>
                    <p:spPr>
                      <a:xfrm flipV="1">
                        <a:off x="6489360" y="1965600"/>
                        <a:ext cx="35640" cy="129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2" name="Line 283"/>
                      <p:cNvSpPr/>
                      <p:nvPr/>
                    </p:nvSpPr>
                    <p:spPr>
                      <a:xfrm>
                        <a:off x="6425280" y="2046960"/>
                        <a:ext cx="69120" cy="223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3" name="Line 284"/>
                      <p:cNvSpPr/>
                      <p:nvPr/>
                    </p:nvSpPr>
                    <p:spPr>
                      <a:xfrm>
                        <a:off x="6456240" y="1961640"/>
                        <a:ext cx="39960" cy="223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6044" name="Picture 799" descr="cell_tower_radiation copy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269040" y="1710360"/>
                      <a:ext cx="457200" cy="33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045" name="Oval 800"/>
                    <p:cNvSpPr/>
                    <p:nvPr/>
                  </p:nvSpPr>
                  <p:spPr>
                    <a:xfrm>
                      <a:off x="6462720" y="1845000"/>
                      <a:ext cx="52200" cy="4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46" name="Group 950"/>
                  <p:cNvGrpSpPr/>
                  <p:nvPr/>
                </p:nvGrpSpPr>
                <p:grpSpPr>
                  <a:xfrm>
                    <a:off x="8448840" y="4867920"/>
                    <a:ext cx="226800" cy="480960"/>
                    <a:chOff x="8448840" y="4867920"/>
                    <a:chExt cx="226800" cy="480960"/>
                  </a:xfrm>
                </p:grpSpPr>
                <p:sp>
                  <p:nvSpPr>
                    <p:cNvPr id="6047" name="Freeform 951"/>
                    <p:cNvSpPr/>
                    <p:nvPr/>
                  </p:nvSpPr>
                  <p:spPr>
                    <a:xfrm>
                      <a:off x="8628480" y="4868640"/>
                      <a:ext cx="45000" cy="459000"/>
                    </a:xfrm>
                    <a:custGeom>
                      <a:avLst/>
                      <a:gdLst>
                        <a:gd name="textAreaLeft" fmla="*/ 0 w 45000"/>
                        <a:gd name="textAreaRight" fmla="*/ 45360 w 45000"/>
                        <a:gd name="textAreaTop" fmla="*/ 0 h 459000"/>
                        <a:gd name="textAreaBottom" fmla="*/ 459360 h 459000"/>
                      </a:gdLst>
                      <a:ahLst/>
                      <a:rect l="textAreaLeft" t="textAreaTop" r="textAreaRight" b="textAreaBottom"/>
                      <a:pathLst>
                        <a:path w="354" h="2742">
                          <a:moveTo>
                            <a:pt x="63" y="0"/>
                          </a:moveTo>
                          <a:lnTo>
                            <a:pt x="354" y="339"/>
                          </a:lnTo>
                          <a:lnTo>
                            <a:pt x="346" y="2624"/>
                          </a:lnTo>
                          <a:lnTo>
                            <a:pt x="0" y="2742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8" name="Rectangle 952"/>
                    <p:cNvSpPr/>
                    <p:nvPr/>
                  </p:nvSpPr>
                  <p:spPr>
                    <a:xfrm>
                      <a:off x="8460000" y="4867920"/>
                      <a:ext cx="166680" cy="45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9" name="Freeform 953"/>
                    <p:cNvSpPr/>
                    <p:nvPr/>
                  </p:nvSpPr>
                  <p:spPr>
                    <a:xfrm>
                      <a:off x="8636760" y="4896000"/>
                      <a:ext cx="26640" cy="424800"/>
                    </a:xfrm>
                    <a:custGeom>
                      <a:avLst/>
                      <a:gdLst>
                        <a:gd name="textAreaLeft" fmla="*/ 0 w 26640"/>
                        <a:gd name="textAreaRight" fmla="*/ 27000 w 2664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11" h="2537">
                          <a:moveTo>
                            <a:pt x="7" y="0"/>
                          </a:moveTo>
                          <a:cubicBezTo>
                            <a:pt x="7" y="0"/>
                            <a:pt x="57" y="28"/>
                            <a:pt x="211" y="218"/>
                          </a:cubicBezTo>
                          <a:cubicBezTo>
                            <a:pt x="0" y="1229"/>
                            <a:pt x="41" y="2537"/>
                            <a:pt x="7" y="2501"/>
                          </a:cubicBez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8f8f8"/>
                        </a:gs>
                        <a:gs pos="100000">
                          <a:srgbClr val="80808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0" name="Freeform 954"/>
                    <p:cNvSpPr/>
                    <p:nvPr/>
                  </p:nvSpPr>
                  <p:spPr>
                    <a:xfrm>
                      <a:off x="8631000" y="5110920"/>
                      <a:ext cx="41760" cy="37800"/>
                    </a:xfrm>
                    <a:custGeom>
                      <a:avLst/>
                      <a:gdLst>
                        <a:gd name="textAreaLeft" fmla="*/ 0 w 41760"/>
                        <a:gd name="textAreaRight" fmla="*/ 42120 w 41760"/>
                        <a:gd name="textAreaTop" fmla="*/ 0 h 37800"/>
                        <a:gd name="textAreaBottom" fmla="*/ 38160 h 37800"/>
                      </a:gdLst>
                      <a:ahLst/>
                      <a:rect l="textAreaLeft" t="textAreaTop" r="textAreaRight" b="textAreaBottom"/>
                      <a:pathLst>
                        <a:path w="328" h="226">
                          <a:moveTo>
                            <a:pt x="4" y="0"/>
                          </a:moveTo>
                          <a:cubicBezTo>
                            <a:pt x="60" y="10"/>
                            <a:pt x="182" y="74"/>
                            <a:pt x="328" y="128"/>
                          </a:cubicBezTo>
                          <a:cubicBezTo>
                            <a:pt x="326" y="162"/>
                            <a:pt x="326" y="158"/>
                            <a:pt x="326" y="226"/>
                          </a:cubicBezTo>
                          <a:cubicBezTo>
                            <a:pt x="326" y="226"/>
                            <a:pt x="169" y="155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1" name="Rectangle 955"/>
                    <p:cNvSpPr/>
                    <p:nvPr/>
                  </p:nvSpPr>
                  <p:spPr>
                    <a:xfrm>
                      <a:off x="8460000" y="492012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52" name="Group 956"/>
                    <p:cNvGrpSpPr/>
                    <p:nvPr/>
                  </p:nvGrpSpPr>
                  <p:grpSpPr>
                    <a:xfrm>
                      <a:off x="8545680" y="4915800"/>
                      <a:ext cx="92520" cy="28800"/>
                      <a:chOff x="8545680" y="4915800"/>
                      <a:chExt cx="92520" cy="28800"/>
                    </a:xfrm>
                  </p:grpSpPr>
                  <p:sp>
                    <p:nvSpPr>
                      <p:cNvPr id="6053" name="AutoShape 957"/>
                      <p:cNvSpPr/>
                      <p:nvPr/>
                    </p:nvSpPr>
                    <p:spPr>
                      <a:xfrm>
                        <a:off x="8545680" y="4915800"/>
                        <a:ext cx="92520" cy="2880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4" name="AutoShape 958"/>
                      <p:cNvSpPr/>
                      <p:nvPr/>
                    </p:nvSpPr>
                    <p:spPr>
                      <a:xfrm>
                        <a:off x="8547120" y="4918680"/>
                        <a:ext cx="89280" cy="230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55" name="Rectangle 959"/>
                    <p:cNvSpPr/>
                    <p:nvPr/>
                  </p:nvSpPr>
                  <p:spPr>
                    <a:xfrm>
                      <a:off x="8461440" y="498672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56" name="Group 960"/>
                    <p:cNvGrpSpPr/>
                    <p:nvPr/>
                  </p:nvGrpSpPr>
                  <p:grpSpPr>
                    <a:xfrm>
                      <a:off x="8545320" y="4981320"/>
                      <a:ext cx="92520" cy="26640"/>
                      <a:chOff x="8545320" y="4981320"/>
                      <a:chExt cx="92520" cy="26640"/>
                    </a:xfrm>
                  </p:grpSpPr>
                  <p:sp>
                    <p:nvSpPr>
                      <p:cNvPr id="6057" name="AutoShape 961"/>
                      <p:cNvSpPr/>
                      <p:nvPr/>
                    </p:nvSpPr>
                    <p:spPr>
                      <a:xfrm>
                        <a:off x="8545320" y="4981320"/>
                        <a:ext cx="92520" cy="266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58" name="AutoShape 962"/>
                      <p:cNvSpPr/>
                      <p:nvPr/>
                    </p:nvSpPr>
                    <p:spPr>
                      <a:xfrm>
                        <a:off x="8546760" y="4984560"/>
                        <a:ext cx="89280" cy="2052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59" name="Rectangle 963"/>
                    <p:cNvSpPr/>
                    <p:nvPr/>
                  </p:nvSpPr>
                  <p:spPr>
                    <a:xfrm>
                      <a:off x="8461440" y="505368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0" name="Rectangle 964"/>
                    <p:cNvSpPr/>
                    <p:nvPr/>
                  </p:nvSpPr>
                  <p:spPr>
                    <a:xfrm>
                      <a:off x="8462880" y="511416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61" name="Group 965"/>
                    <p:cNvGrpSpPr/>
                    <p:nvPr/>
                  </p:nvGrpSpPr>
                  <p:grpSpPr>
                    <a:xfrm>
                      <a:off x="8543520" y="5108400"/>
                      <a:ext cx="92520" cy="30240"/>
                      <a:chOff x="8543520" y="5108400"/>
                      <a:chExt cx="92520" cy="30240"/>
                    </a:xfrm>
                  </p:grpSpPr>
                  <p:sp>
                    <p:nvSpPr>
                      <p:cNvPr id="6062" name="AutoShape 966"/>
                      <p:cNvSpPr/>
                      <p:nvPr/>
                    </p:nvSpPr>
                    <p:spPr>
                      <a:xfrm>
                        <a:off x="8543520" y="5108400"/>
                        <a:ext cx="92520" cy="302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3" name="AutoShape 967"/>
                      <p:cNvSpPr/>
                      <p:nvPr/>
                    </p:nvSpPr>
                    <p:spPr>
                      <a:xfrm>
                        <a:off x="8544960" y="5108400"/>
                        <a:ext cx="89280" cy="266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64" name="Freeform 968"/>
                    <p:cNvSpPr/>
                    <p:nvPr/>
                  </p:nvSpPr>
                  <p:spPr>
                    <a:xfrm>
                      <a:off x="8631720" y="5053680"/>
                      <a:ext cx="41760" cy="37440"/>
                    </a:xfrm>
                    <a:custGeom>
                      <a:avLst/>
                      <a:gdLst>
                        <a:gd name="textAreaLeft" fmla="*/ 0 w 41760"/>
                        <a:gd name="textAreaRight" fmla="*/ 42120 w 41760"/>
                        <a:gd name="textAreaTop" fmla="*/ 0 h 37440"/>
                        <a:gd name="textAreaBottom" fmla="*/ 37800 h 37440"/>
                      </a:gdLst>
                      <a:ahLst/>
                      <a:rect l="textAreaLeft" t="textAreaTop" r="textAreaRight" b="textAreaBottom"/>
                      <a:pathLst>
                        <a:path w="328" h="226">
                          <a:moveTo>
                            <a:pt x="4" y="0"/>
                          </a:moveTo>
                          <a:cubicBezTo>
                            <a:pt x="60" y="10"/>
                            <a:pt x="182" y="74"/>
                            <a:pt x="328" y="128"/>
                          </a:cubicBezTo>
                          <a:cubicBezTo>
                            <a:pt x="326" y="162"/>
                            <a:pt x="326" y="158"/>
                            <a:pt x="326" y="226"/>
                          </a:cubicBezTo>
                          <a:cubicBezTo>
                            <a:pt x="326" y="226"/>
                            <a:pt x="169" y="155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65" name="Group 969"/>
                    <p:cNvGrpSpPr/>
                    <p:nvPr/>
                  </p:nvGrpSpPr>
                  <p:grpSpPr>
                    <a:xfrm>
                      <a:off x="8544240" y="5048280"/>
                      <a:ext cx="92520" cy="27720"/>
                      <a:chOff x="8544240" y="5048280"/>
                      <a:chExt cx="92520" cy="27720"/>
                    </a:xfrm>
                  </p:grpSpPr>
                  <p:sp>
                    <p:nvSpPr>
                      <p:cNvPr id="6066" name="AutoShape 970"/>
                      <p:cNvSpPr/>
                      <p:nvPr/>
                    </p:nvSpPr>
                    <p:spPr>
                      <a:xfrm>
                        <a:off x="8544240" y="5048280"/>
                        <a:ext cx="92520" cy="2772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000" bIns="-2700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7" name="AutoShape 971"/>
                      <p:cNvSpPr/>
                      <p:nvPr/>
                    </p:nvSpPr>
                    <p:spPr>
                      <a:xfrm>
                        <a:off x="8545680" y="5051520"/>
                        <a:ext cx="91080" cy="212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68" name="Rectangle 972"/>
                    <p:cNvSpPr/>
                    <p:nvPr/>
                  </p:nvSpPr>
                  <p:spPr>
                    <a:xfrm>
                      <a:off x="8624880" y="4867920"/>
                      <a:ext cx="11160" cy="45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50000">
                          <a:srgbClr val="dddddd"/>
                        </a:gs>
                        <a:gs pos="100000">
                          <a:srgbClr val="333333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9" name="Freeform 973"/>
                    <p:cNvSpPr/>
                    <p:nvPr/>
                  </p:nvSpPr>
                  <p:spPr>
                    <a:xfrm>
                      <a:off x="8635320" y="4983840"/>
                      <a:ext cx="37800" cy="4248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42480"/>
                        <a:gd name="textAreaBottom" fmla="*/ 42840 h 42480"/>
                      </a:gdLst>
                      <a:ahLst/>
                      <a:rect l="textAreaLeft" t="textAreaTop" r="textAreaRight" b="textAreaBottom"/>
                      <a:pathLst>
                        <a:path w="296" h="256">
                          <a:moveTo>
                            <a:pt x="4" y="0"/>
                          </a:moveTo>
                          <a:cubicBezTo>
                            <a:pt x="55" y="10"/>
                            <a:pt x="144" y="68"/>
                            <a:pt x="292" y="144"/>
                          </a:cubicBezTo>
                          <a:cubicBezTo>
                            <a:pt x="290" y="178"/>
                            <a:pt x="296" y="188"/>
                            <a:pt x="296" y="256"/>
                          </a:cubicBezTo>
                          <a:cubicBezTo>
                            <a:pt x="296" y="256"/>
                            <a:pt x="160" y="176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0" name="Freeform 974"/>
                    <p:cNvSpPr/>
                    <p:nvPr/>
                  </p:nvSpPr>
                  <p:spPr>
                    <a:xfrm>
                      <a:off x="8636040" y="4918320"/>
                      <a:ext cx="38880" cy="47880"/>
                    </a:xfrm>
                    <a:custGeom>
                      <a:avLst/>
                      <a:gdLst>
                        <a:gd name="textAreaLeft" fmla="*/ 0 w 38880"/>
                        <a:gd name="textAreaRight" fmla="*/ 39240 w 38880"/>
                        <a:gd name="textAreaTop" fmla="*/ 0 h 47880"/>
                        <a:gd name="textAreaBottom" fmla="*/ 48240 h 47880"/>
                      </a:gdLst>
                      <a:ahLst/>
                      <a:rect l="textAreaLeft" t="textAreaTop" r="textAreaRight" b="textAreaBottom"/>
                      <a:pathLst>
                        <a:path w="304" h="288">
                          <a:moveTo>
                            <a:pt x="0" y="0"/>
                          </a:moveTo>
                          <a:cubicBezTo>
                            <a:pt x="51" y="10"/>
                            <a:pt x="148" y="76"/>
                            <a:pt x="304" y="164"/>
                          </a:cubicBezTo>
                          <a:cubicBezTo>
                            <a:pt x="302" y="198"/>
                            <a:pt x="284" y="220"/>
                            <a:pt x="284" y="288"/>
                          </a:cubicBezTo>
                          <a:cubicBezTo>
                            <a:pt x="284" y="288"/>
                            <a:pt x="163" y="179"/>
                            <a:pt x="8" y="124"/>
                          </a:cubicBezTo>
                          <a:cubicBezTo>
                            <a:pt x="8" y="72"/>
                            <a:pt x="0" y="17"/>
                            <a:pt x="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1" name="Oval 975"/>
                    <p:cNvSpPr/>
                    <p:nvPr/>
                  </p:nvSpPr>
                  <p:spPr>
                    <a:xfrm>
                      <a:off x="8667720" y="5306040"/>
                      <a:ext cx="7920" cy="1908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2" name="Freeform 976"/>
                    <p:cNvSpPr/>
                    <p:nvPr/>
                  </p:nvSpPr>
                  <p:spPr>
                    <a:xfrm>
                      <a:off x="8633880" y="5306760"/>
                      <a:ext cx="38880" cy="39960"/>
                    </a:xfrm>
                    <a:custGeom>
                      <a:avLst/>
                      <a:gdLst>
                        <a:gd name="textAreaLeft" fmla="*/ 0 w 38880"/>
                        <a:gd name="textAreaRight" fmla="*/ 39240 w 3888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306" h="240">
                          <a:moveTo>
                            <a:pt x="0" y="106"/>
                          </a:moveTo>
                          <a:lnTo>
                            <a:pt x="2" y="240"/>
                          </a:lnTo>
                          <a:lnTo>
                            <a:pt x="306" y="110"/>
                          </a:lnTo>
                          <a:lnTo>
                            <a:pt x="300" y="0"/>
                          </a:lnTo>
                          <a:lnTo>
                            <a:pt x="0" y="10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3" name="AutoShape 977"/>
                    <p:cNvSpPr/>
                    <p:nvPr/>
                  </p:nvSpPr>
                  <p:spPr>
                    <a:xfrm>
                      <a:off x="8448840" y="5319000"/>
                      <a:ext cx="190440" cy="298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4" name="AutoShape 978"/>
                    <p:cNvSpPr/>
                    <p:nvPr/>
                  </p:nvSpPr>
                  <p:spPr>
                    <a:xfrm>
                      <a:off x="8460000" y="5326560"/>
                      <a:ext cx="16956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5" name="Oval 979"/>
                    <p:cNvSpPr/>
                    <p:nvPr/>
                  </p:nvSpPr>
                  <p:spPr>
                    <a:xfrm>
                      <a:off x="8475480" y="5259960"/>
                      <a:ext cx="25200" cy="28440"/>
                    </a:xfrm>
                    <a:prstGeom prst="ellipse">
                      <a:avLst/>
                    </a:prstGeom>
                    <a:solidFill>
                      <a:srgbClr val="33cc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6" name="Oval 980"/>
                    <p:cNvSpPr/>
                    <p:nvPr/>
                  </p:nvSpPr>
                  <p:spPr>
                    <a:xfrm>
                      <a:off x="8504280" y="5259960"/>
                      <a:ext cx="25200" cy="2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7" name="Oval 981"/>
                    <p:cNvSpPr/>
                    <p:nvPr/>
                  </p:nvSpPr>
                  <p:spPr>
                    <a:xfrm>
                      <a:off x="8531280" y="5259960"/>
                      <a:ext cx="25200" cy="28440"/>
                    </a:xfrm>
                    <a:prstGeom prst="ellipse">
                      <a:avLst/>
                    </a:prstGeom>
                    <a:solidFill>
                      <a:srgbClr val="33cc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8" name="Rectangle 982"/>
                    <p:cNvSpPr/>
                    <p:nvPr/>
                  </p:nvSpPr>
                  <p:spPr>
                    <a:xfrm>
                      <a:off x="8596440" y="5150520"/>
                      <a:ext cx="12600" cy="152280"/>
                    </a:xfrm>
                    <a:prstGeom prst="rect">
                      <a:avLst/>
                    </a:prstGeom>
                    <a:solidFill>
                      <a:srgbClr val="29292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79" name="Group 983"/>
                  <p:cNvGrpSpPr/>
                  <p:nvPr/>
                </p:nvGrpSpPr>
                <p:grpSpPr>
                  <a:xfrm>
                    <a:off x="8132760" y="5169600"/>
                    <a:ext cx="226800" cy="480960"/>
                    <a:chOff x="8132760" y="5169600"/>
                    <a:chExt cx="226800" cy="480960"/>
                  </a:xfrm>
                </p:grpSpPr>
                <p:sp>
                  <p:nvSpPr>
                    <p:cNvPr id="6080" name="Freeform 984"/>
                    <p:cNvSpPr/>
                    <p:nvPr/>
                  </p:nvSpPr>
                  <p:spPr>
                    <a:xfrm>
                      <a:off x="8312400" y="5170320"/>
                      <a:ext cx="45000" cy="459000"/>
                    </a:xfrm>
                    <a:custGeom>
                      <a:avLst/>
                      <a:gdLst>
                        <a:gd name="textAreaLeft" fmla="*/ 0 w 45000"/>
                        <a:gd name="textAreaRight" fmla="*/ 45360 w 45000"/>
                        <a:gd name="textAreaTop" fmla="*/ 0 h 459000"/>
                        <a:gd name="textAreaBottom" fmla="*/ 459360 h 459000"/>
                      </a:gdLst>
                      <a:ahLst/>
                      <a:rect l="textAreaLeft" t="textAreaTop" r="textAreaRight" b="textAreaBottom"/>
                      <a:pathLst>
                        <a:path w="354" h="2742">
                          <a:moveTo>
                            <a:pt x="63" y="0"/>
                          </a:moveTo>
                          <a:lnTo>
                            <a:pt x="354" y="339"/>
                          </a:lnTo>
                          <a:lnTo>
                            <a:pt x="346" y="2624"/>
                          </a:lnTo>
                          <a:lnTo>
                            <a:pt x="0" y="2742"/>
                          </a:lnTo>
                          <a:lnTo>
                            <a:pt x="6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dddddd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1" name="Rectangle 985"/>
                    <p:cNvSpPr/>
                    <p:nvPr/>
                  </p:nvSpPr>
                  <p:spPr>
                    <a:xfrm>
                      <a:off x="8143920" y="5169600"/>
                      <a:ext cx="166680" cy="45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2" name="Freeform 986"/>
                    <p:cNvSpPr/>
                    <p:nvPr/>
                  </p:nvSpPr>
                  <p:spPr>
                    <a:xfrm>
                      <a:off x="8320680" y="5197680"/>
                      <a:ext cx="26640" cy="424800"/>
                    </a:xfrm>
                    <a:custGeom>
                      <a:avLst/>
                      <a:gdLst>
                        <a:gd name="textAreaLeft" fmla="*/ 0 w 26640"/>
                        <a:gd name="textAreaRight" fmla="*/ 27000 w 26640"/>
                        <a:gd name="textAreaTop" fmla="*/ 0 h 424800"/>
                        <a:gd name="textAreaBottom" fmla="*/ 425160 h 424800"/>
                      </a:gdLst>
                      <a:ahLst/>
                      <a:rect l="textAreaLeft" t="textAreaTop" r="textAreaRight" b="textAreaBottom"/>
                      <a:pathLst>
                        <a:path w="211" h="2537">
                          <a:moveTo>
                            <a:pt x="7" y="0"/>
                          </a:moveTo>
                          <a:cubicBezTo>
                            <a:pt x="7" y="0"/>
                            <a:pt x="57" y="28"/>
                            <a:pt x="211" y="218"/>
                          </a:cubicBezTo>
                          <a:cubicBezTo>
                            <a:pt x="0" y="1229"/>
                            <a:pt x="41" y="2537"/>
                            <a:pt x="7" y="2501"/>
                          </a:cubicBez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8f8f8"/>
                        </a:gs>
                        <a:gs pos="100000">
                          <a:srgbClr val="80808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3" name="Freeform 987"/>
                    <p:cNvSpPr/>
                    <p:nvPr/>
                  </p:nvSpPr>
                  <p:spPr>
                    <a:xfrm>
                      <a:off x="8314920" y="5412600"/>
                      <a:ext cx="41760" cy="37800"/>
                    </a:xfrm>
                    <a:custGeom>
                      <a:avLst/>
                      <a:gdLst>
                        <a:gd name="textAreaLeft" fmla="*/ 0 w 41760"/>
                        <a:gd name="textAreaRight" fmla="*/ 42120 w 41760"/>
                        <a:gd name="textAreaTop" fmla="*/ 0 h 37800"/>
                        <a:gd name="textAreaBottom" fmla="*/ 38160 h 37800"/>
                      </a:gdLst>
                      <a:ahLst/>
                      <a:rect l="textAreaLeft" t="textAreaTop" r="textAreaRight" b="textAreaBottom"/>
                      <a:pathLst>
                        <a:path w="328" h="226">
                          <a:moveTo>
                            <a:pt x="4" y="0"/>
                          </a:moveTo>
                          <a:cubicBezTo>
                            <a:pt x="60" y="10"/>
                            <a:pt x="182" y="74"/>
                            <a:pt x="328" y="128"/>
                          </a:cubicBezTo>
                          <a:cubicBezTo>
                            <a:pt x="326" y="162"/>
                            <a:pt x="326" y="158"/>
                            <a:pt x="326" y="226"/>
                          </a:cubicBezTo>
                          <a:cubicBezTo>
                            <a:pt x="326" y="226"/>
                            <a:pt x="169" y="155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4" name="Rectangle 988"/>
                    <p:cNvSpPr/>
                    <p:nvPr/>
                  </p:nvSpPr>
                  <p:spPr>
                    <a:xfrm>
                      <a:off x="8143920" y="522180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85" name="Group 989"/>
                    <p:cNvGrpSpPr/>
                    <p:nvPr/>
                  </p:nvGrpSpPr>
                  <p:grpSpPr>
                    <a:xfrm>
                      <a:off x="8229600" y="5217480"/>
                      <a:ext cx="92520" cy="28800"/>
                      <a:chOff x="8229600" y="5217480"/>
                      <a:chExt cx="92520" cy="28800"/>
                    </a:xfrm>
                  </p:grpSpPr>
                  <p:sp>
                    <p:nvSpPr>
                      <p:cNvPr id="6086" name="AutoShape 990"/>
                      <p:cNvSpPr/>
                      <p:nvPr/>
                    </p:nvSpPr>
                    <p:spPr>
                      <a:xfrm>
                        <a:off x="8229600" y="5217480"/>
                        <a:ext cx="92520" cy="2880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87" name="AutoShape 991"/>
                      <p:cNvSpPr/>
                      <p:nvPr/>
                    </p:nvSpPr>
                    <p:spPr>
                      <a:xfrm>
                        <a:off x="8231040" y="5220360"/>
                        <a:ext cx="89280" cy="230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0240" bIns="-3024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8" name="Rectangle 992"/>
                    <p:cNvSpPr/>
                    <p:nvPr/>
                  </p:nvSpPr>
                  <p:spPr>
                    <a:xfrm>
                      <a:off x="8145360" y="528840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89" name="Group 993"/>
                    <p:cNvGrpSpPr/>
                    <p:nvPr/>
                  </p:nvGrpSpPr>
                  <p:grpSpPr>
                    <a:xfrm>
                      <a:off x="8229240" y="5283000"/>
                      <a:ext cx="92520" cy="26640"/>
                      <a:chOff x="8229240" y="5283000"/>
                      <a:chExt cx="92520" cy="26640"/>
                    </a:xfrm>
                  </p:grpSpPr>
                  <p:sp>
                    <p:nvSpPr>
                      <p:cNvPr id="6090" name="AutoShape 994"/>
                      <p:cNvSpPr/>
                      <p:nvPr/>
                    </p:nvSpPr>
                    <p:spPr>
                      <a:xfrm>
                        <a:off x="8229240" y="5283000"/>
                        <a:ext cx="92520" cy="266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1" name="AutoShape 995"/>
                      <p:cNvSpPr/>
                      <p:nvPr/>
                    </p:nvSpPr>
                    <p:spPr>
                      <a:xfrm>
                        <a:off x="8230680" y="5286240"/>
                        <a:ext cx="89280" cy="2052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92" name="Rectangle 996"/>
                    <p:cNvSpPr/>
                    <p:nvPr/>
                  </p:nvSpPr>
                  <p:spPr>
                    <a:xfrm>
                      <a:off x="8145360" y="535536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3" name="Rectangle 997"/>
                    <p:cNvSpPr/>
                    <p:nvPr/>
                  </p:nvSpPr>
                  <p:spPr>
                    <a:xfrm>
                      <a:off x="8146800" y="5415840"/>
                      <a:ext cx="950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94" name="Group 998"/>
                    <p:cNvGrpSpPr/>
                    <p:nvPr/>
                  </p:nvGrpSpPr>
                  <p:grpSpPr>
                    <a:xfrm>
                      <a:off x="8227440" y="5410080"/>
                      <a:ext cx="92520" cy="30240"/>
                      <a:chOff x="8227440" y="5410080"/>
                      <a:chExt cx="92520" cy="30240"/>
                    </a:xfrm>
                  </p:grpSpPr>
                  <p:sp>
                    <p:nvSpPr>
                      <p:cNvPr id="6095" name="AutoShape 999"/>
                      <p:cNvSpPr/>
                      <p:nvPr/>
                    </p:nvSpPr>
                    <p:spPr>
                      <a:xfrm>
                        <a:off x="8227440" y="5410080"/>
                        <a:ext cx="92520" cy="302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6" name="AutoShape 1000"/>
                      <p:cNvSpPr/>
                      <p:nvPr/>
                    </p:nvSpPr>
                    <p:spPr>
                      <a:xfrm>
                        <a:off x="8228880" y="5410080"/>
                        <a:ext cx="89280" cy="266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97" name="Freeform 1001"/>
                    <p:cNvSpPr/>
                    <p:nvPr/>
                  </p:nvSpPr>
                  <p:spPr>
                    <a:xfrm>
                      <a:off x="8315640" y="5355360"/>
                      <a:ext cx="41760" cy="37440"/>
                    </a:xfrm>
                    <a:custGeom>
                      <a:avLst/>
                      <a:gdLst>
                        <a:gd name="textAreaLeft" fmla="*/ 0 w 41760"/>
                        <a:gd name="textAreaRight" fmla="*/ 42120 w 41760"/>
                        <a:gd name="textAreaTop" fmla="*/ 0 h 37440"/>
                        <a:gd name="textAreaBottom" fmla="*/ 37800 h 37440"/>
                      </a:gdLst>
                      <a:ahLst/>
                      <a:rect l="textAreaLeft" t="textAreaTop" r="textAreaRight" b="textAreaBottom"/>
                      <a:pathLst>
                        <a:path w="328" h="226">
                          <a:moveTo>
                            <a:pt x="4" y="0"/>
                          </a:moveTo>
                          <a:cubicBezTo>
                            <a:pt x="60" y="10"/>
                            <a:pt x="182" y="74"/>
                            <a:pt x="328" y="128"/>
                          </a:cubicBezTo>
                          <a:cubicBezTo>
                            <a:pt x="326" y="162"/>
                            <a:pt x="326" y="158"/>
                            <a:pt x="326" y="226"/>
                          </a:cubicBezTo>
                          <a:cubicBezTo>
                            <a:pt x="326" y="226"/>
                            <a:pt x="169" y="155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98" name="Group 1002"/>
                    <p:cNvGrpSpPr/>
                    <p:nvPr/>
                  </p:nvGrpSpPr>
                  <p:grpSpPr>
                    <a:xfrm>
                      <a:off x="8228160" y="5349960"/>
                      <a:ext cx="92520" cy="27720"/>
                      <a:chOff x="8228160" y="5349960"/>
                      <a:chExt cx="92520" cy="27720"/>
                    </a:xfrm>
                  </p:grpSpPr>
                  <p:sp>
                    <p:nvSpPr>
                      <p:cNvPr id="6099" name="AutoShape 1003"/>
                      <p:cNvSpPr/>
                      <p:nvPr/>
                    </p:nvSpPr>
                    <p:spPr>
                      <a:xfrm>
                        <a:off x="8228160" y="5349960"/>
                        <a:ext cx="92520" cy="2772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000" bIns="-2700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0" name="AutoShape 1004"/>
                      <p:cNvSpPr/>
                      <p:nvPr/>
                    </p:nvSpPr>
                    <p:spPr>
                      <a:xfrm>
                        <a:off x="8229600" y="5353200"/>
                        <a:ext cx="91080" cy="21240"/>
                      </a:xfrm>
                      <a:prstGeom prst="roundRect">
                        <a:avLst>
                          <a:gd name="adj" fmla="val 50000"/>
                        </a:avLst>
                      </a:prstGeom>
                      <a:gradFill rotWithShape="0">
                        <a:gsLst>
                          <a:gs pos="0">
                            <a:srgbClr val="0000ff"/>
                          </a:gs>
                          <a:gs pos="50000">
                            <a:srgbClr val="99ccff"/>
                          </a:gs>
                          <a:gs pos="100000">
                            <a:srgbClr val="0000ff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01" name="Rectangle 1005"/>
                    <p:cNvSpPr/>
                    <p:nvPr/>
                  </p:nvSpPr>
                  <p:spPr>
                    <a:xfrm>
                      <a:off x="8308800" y="5169600"/>
                      <a:ext cx="11160" cy="458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50000">
                          <a:srgbClr val="dddddd"/>
                        </a:gs>
                        <a:gs pos="100000">
                          <a:srgbClr val="333333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2" name="Freeform 1006"/>
                    <p:cNvSpPr/>
                    <p:nvPr/>
                  </p:nvSpPr>
                  <p:spPr>
                    <a:xfrm>
                      <a:off x="8319240" y="5285520"/>
                      <a:ext cx="37800" cy="4248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42480"/>
                        <a:gd name="textAreaBottom" fmla="*/ 42840 h 42480"/>
                      </a:gdLst>
                      <a:ahLst/>
                      <a:rect l="textAreaLeft" t="textAreaTop" r="textAreaRight" b="textAreaBottom"/>
                      <a:pathLst>
                        <a:path w="296" h="256">
                          <a:moveTo>
                            <a:pt x="4" y="0"/>
                          </a:moveTo>
                          <a:cubicBezTo>
                            <a:pt x="55" y="10"/>
                            <a:pt x="144" y="68"/>
                            <a:pt x="292" y="144"/>
                          </a:cubicBezTo>
                          <a:cubicBezTo>
                            <a:pt x="290" y="178"/>
                            <a:pt x="296" y="188"/>
                            <a:pt x="296" y="256"/>
                          </a:cubicBezTo>
                          <a:cubicBezTo>
                            <a:pt x="296" y="256"/>
                            <a:pt x="160" y="176"/>
                            <a:pt x="0" y="100"/>
                          </a:cubicBezTo>
                          <a:cubicBezTo>
                            <a:pt x="0" y="48"/>
                            <a:pt x="4" y="17"/>
                            <a:pt x="4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3" name="Freeform 1007"/>
                    <p:cNvSpPr/>
                    <p:nvPr/>
                  </p:nvSpPr>
                  <p:spPr>
                    <a:xfrm>
                      <a:off x="8319960" y="5220000"/>
                      <a:ext cx="38880" cy="47880"/>
                    </a:xfrm>
                    <a:custGeom>
                      <a:avLst/>
                      <a:gdLst>
                        <a:gd name="textAreaLeft" fmla="*/ 0 w 38880"/>
                        <a:gd name="textAreaRight" fmla="*/ 39240 w 38880"/>
                        <a:gd name="textAreaTop" fmla="*/ 0 h 47880"/>
                        <a:gd name="textAreaBottom" fmla="*/ 48240 h 47880"/>
                      </a:gdLst>
                      <a:ahLst/>
                      <a:rect l="textAreaLeft" t="textAreaTop" r="textAreaRight" b="textAreaBottom"/>
                      <a:pathLst>
                        <a:path w="304" h="288">
                          <a:moveTo>
                            <a:pt x="0" y="0"/>
                          </a:moveTo>
                          <a:cubicBezTo>
                            <a:pt x="51" y="10"/>
                            <a:pt x="148" y="76"/>
                            <a:pt x="304" y="164"/>
                          </a:cubicBezTo>
                          <a:cubicBezTo>
                            <a:pt x="302" y="198"/>
                            <a:pt x="284" y="220"/>
                            <a:pt x="284" y="288"/>
                          </a:cubicBezTo>
                          <a:cubicBezTo>
                            <a:pt x="284" y="288"/>
                            <a:pt x="163" y="179"/>
                            <a:pt x="8" y="124"/>
                          </a:cubicBezTo>
                          <a:cubicBezTo>
                            <a:pt x="8" y="72"/>
                            <a:pt x="0" y="17"/>
                            <a:pt x="0" y="0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29292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4" name="Oval 1008"/>
                    <p:cNvSpPr/>
                    <p:nvPr/>
                  </p:nvSpPr>
                  <p:spPr>
                    <a:xfrm>
                      <a:off x="8351640" y="5607720"/>
                      <a:ext cx="7920" cy="1908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5" name="Freeform 1009"/>
                    <p:cNvSpPr/>
                    <p:nvPr/>
                  </p:nvSpPr>
                  <p:spPr>
                    <a:xfrm>
                      <a:off x="8317800" y="5608440"/>
                      <a:ext cx="38880" cy="39960"/>
                    </a:xfrm>
                    <a:custGeom>
                      <a:avLst/>
                      <a:gdLst>
                        <a:gd name="textAreaLeft" fmla="*/ 0 w 38880"/>
                        <a:gd name="textAreaRight" fmla="*/ 39240 w 3888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306" h="240">
                          <a:moveTo>
                            <a:pt x="0" y="106"/>
                          </a:moveTo>
                          <a:lnTo>
                            <a:pt x="2" y="240"/>
                          </a:lnTo>
                          <a:lnTo>
                            <a:pt x="306" y="110"/>
                          </a:lnTo>
                          <a:lnTo>
                            <a:pt x="300" y="0"/>
                          </a:lnTo>
                          <a:lnTo>
                            <a:pt x="0" y="10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6" name="AutoShape 1010"/>
                    <p:cNvSpPr/>
                    <p:nvPr/>
                  </p:nvSpPr>
                  <p:spPr>
                    <a:xfrm>
                      <a:off x="8132760" y="5620680"/>
                      <a:ext cx="190440" cy="298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560" bIns="-25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7" name="AutoShape 1011"/>
                    <p:cNvSpPr/>
                    <p:nvPr/>
                  </p:nvSpPr>
                  <p:spPr>
                    <a:xfrm>
                      <a:off x="8143920" y="5628240"/>
                      <a:ext cx="16956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8" name="Oval 1012"/>
                    <p:cNvSpPr/>
                    <p:nvPr/>
                  </p:nvSpPr>
                  <p:spPr>
                    <a:xfrm>
                      <a:off x="8159400" y="5561640"/>
                      <a:ext cx="25200" cy="28440"/>
                    </a:xfrm>
                    <a:prstGeom prst="ellipse">
                      <a:avLst/>
                    </a:prstGeom>
                    <a:solidFill>
                      <a:srgbClr val="33cc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9" name="Oval 1013"/>
                    <p:cNvSpPr/>
                    <p:nvPr/>
                  </p:nvSpPr>
                  <p:spPr>
                    <a:xfrm>
                      <a:off x="8188200" y="5561640"/>
                      <a:ext cx="25200" cy="284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0" name="Oval 1014"/>
                    <p:cNvSpPr/>
                    <p:nvPr/>
                  </p:nvSpPr>
                  <p:spPr>
                    <a:xfrm>
                      <a:off x="8215200" y="5561640"/>
                      <a:ext cx="25200" cy="28440"/>
                    </a:xfrm>
                    <a:prstGeom prst="ellipse">
                      <a:avLst/>
                    </a:prstGeom>
                    <a:solidFill>
                      <a:srgbClr val="33cc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1" name="Rectangle 1015"/>
                    <p:cNvSpPr/>
                    <p:nvPr/>
                  </p:nvSpPr>
                  <p:spPr>
                    <a:xfrm>
                      <a:off x="8280360" y="5452200"/>
                      <a:ext cx="12600" cy="152280"/>
                    </a:xfrm>
                    <a:prstGeom prst="rect">
                      <a:avLst/>
                    </a:prstGeom>
                    <a:solidFill>
                      <a:srgbClr val="29292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2" name="Group 1016"/>
                  <p:cNvGrpSpPr/>
                  <p:nvPr/>
                </p:nvGrpSpPr>
                <p:grpSpPr>
                  <a:xfrm>
                    <a:off x="5509800" y="1908720"/>
                    <a:ext cx="534960" cy="414720"/>
                    <a:chOff x="5509800" y="1908720"/>
                    <a:chExt cx="534960" cy="414720"/>
                  </a:xfrm>
                </p:grpSpPr>
                <p:pic>
                  <p:nvPicPr>
                    <p:cNvPr id="6113" name="Picture 1017" descr="antenna_stylized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09800" y="1908720"/>
                      <a:ext cx="53064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14" name="Picture 1018" descr="laptop_keyboard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 flipH="1" rot="110400">
                      <a:off x="5535000" y="2156760"/>
                      <a:ext cx="43740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15" name="Freeform 1019"/>
                    <p:cNvSpPr/>
                    <p:nvPr/>
                  </p:nvSpPr>
                  <p:spPr>
                    <a:xfrm>
                      <a:off x="5680440" y="2002320"/>
                      <a:ext cx="352080" cy="208080"/>
                    </a:xfrm>
                    <a:custGeom>
                      <a:avLst/>
                      <a:gdLst>
                        <a:gd name="textAreaLeft" fmla="*/ 0 w 352080"/>
                        <a:gd name="textAreaRight" fmla="*/ 352440 w 352080"/>
                        <a:gd name="textAreaTop" fmla="*/ 0 h 208080"/>
                        <a:gd name="textAreaBottom" fmla="*/ 208440 h 208080"/>
                      </a:gdLst>
                      <a:ahLst/>
                      <a:rect l="textAreaLeft" t="textAreaTop" r="textAreaRight" b="textAreaBottom"/>
                      <a:pathLst>
                        <a:path w="2982" h="2442">
                          <a:moveTo>
                            <a:pt x="540" y="0"/>
                          </a:moveTo>
                          <a:lnTo>
                            <a:pt x="0" y="1734"/>
                          </a:lnTo>
                          <a:lnTo>
                            <a:pt x="2394" y="2442"/>
                          </a:lnTo>
                          <a:lnTo>
                            <a:pt x="2982" y="318"/>
                          </a:lnTo>
                          <a:lnTo>
                            <a:pt x="5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116" name="Picture 1020" descr="screen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697720" y="2007720"/>
                      <a:ext cx="319680" cy="1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17" name="Freeform 1021"/>
                    <p:cNvSpPr/>
                    <p:nvPr/>
                  </p:nvSpPr>
                  <p:spPr>
                    <a:xfrm>
                      <a:off x="5744520" y="1996200"/>
                      <a:ext cx="298080" cy="38520"/>
                    </a:xfrm>
                    <a:custGeom>
                      <a:avLst/>
                      <a:gdLst>
                        <a:gd name="textAreaLeft" fmla="*/ 0 w 298080"/>
                        <a:gd name="textAreaRight" fmla="*/ 298440 w 298080"/>
                        <a:gd name="textAreaTop" fmla="*/ 0 h 38520"/>
                        <a:gd name="textAreaBottom" fmla="*/ 38880 h 38520"/>
                      </a:gdLst>
                      <a:ahLst/>
                      <a:rect l="textAreaLeft" t="textAreaTop" r="textAreaRight" b="textAreaBottom"/>
                      <a:pathLst>
                        <a:path w="2528" h="455">
                          <a:moveTo>
                            <a:pt x="14" y="0"/>
                          </a:moveTo>
                          <a:lnTo>
                            <a:pt x="2528" y="341"/>
                          </a:lnTo>
                          <a:lnTo>
                            <a:pt x="2480" y="455"/>
                          </a:lnTo>
                          <a:lnTo>
                            <a:pt x="0" y="86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8" name="Freeform 1022"/>
                    <p:cNvSpPr/>
                    <p:nvPr/>
                  </p:nvSpPr>
                  <p:spPr>
                    <a:xfrm>
                      <a:off x="5677200" y="1995840"/>
                      <a:ext cx="82800" cy="161280"/>
                    </a:xfrm>
                    <a:custGeom>
                      <a:avLst/>
                      <a:gdLst>
                        <a:gd name="textAreaLeft" fmla="*/ 0 w 82800"/>
                        <a:gd name="textAreaRight" fmla="*/ 83160 w 82800"/>
                        <a:gd name="textAreaTop" fmla="*/ 0 h 161280"/>
                        <a:gd name="textAreaBottom" fmla="*/ 161640 h 161280"/>
                      </a:gdLst>
                      <a:ahLst/>
                      <a:rect l="textAreaLeft" t="textAreaTop" r="textAreaRight" b="textAreaBottom"/>
                      <a:pathLst>
                        <a:path w="702" h="1893">
                          <a:moveTo>
                            <a:pt x="579" y="0"/>
                          </a:moveTo>
                          <a:lnTo>
                            <a:pt x="0" y="1869"/>
                          </a:lnTo>
                          <a:lnTo>
                            <a:pt x="114" y="1893"/>
                          </a:lnTo>
                          <a:lnTo>
                            <a:pt x="702" y="51"/>
                          </a:lnTo>
                          <a:lnTo>
                            <a:pt x="579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9" name="Freeform 1023"/>
                    <p:cNvSpPr/>
                    <p:nvPr/>
                  </p:nvSpPr>
                  <p:spPr>
                    <a:xfrm>
                      <a:off x="5951520" y="2024640"/>
                      <a:ext cx="88920" cy="186120"/>
                    </a:xfrm>
                    <a:custGeom>
                      <a:avLst/>
                      <a:gdLst>
                        <a:gd name="textAreaLeft" fmla="*/ 0 w 88920"/>
                        <a:gd name="textAreaRight" fmla="*/ 89280 w 88920"/>
                        <a:gd name="textAreaTop" fmla="*/ 0 h 186120"/>
                        <a:gd name="textAreaBottom" fmla="*/ 186480 h 186120"/>
                      </a:gdLst>
                      <a:ahLst/>
                      <a:rect l="textAreaLeft" t="textAreaTop" r="textAreaRight" b="textAreaBottom"/>
                      <a:pathLst>
                        <a:path w="756" h="2184">
                          <a:moveTo>
                            <a:pt x="756" y="0"/>
                          </a:moveTo>
                          <a:lnTo>
                            <a:pt x="138" y="2184"/>
                          </a:lnTo>
                          <a:lnTo>
                            <a:pt x="0" y="2148"/>
                          </a:lnTo>
                          <a:lnTo>
                            <a:pt x="606" y="78"/>
                          </a:lnTo>
                          <a:lnTo>
                            <a:pt x="75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0" name="Freeform 1024"/>
                    <p:cNvSpPr/>
                    <p:nvPr/>
                  </p:nvSpPr>
                  <p:spPr>
                    <a:xfrm>
                      <a:off x="5676120" y="2148840"/>
                      <a:ext cx="327240" cy="62640"/>
                    </a:xfrm>
                    <a:custGeom>
                      <a:avLst/>
                      <a:gdLst>
                        <a:gd name="textAreaLeft" fmla="*/ 0 w 327240"/>
                        <a:gd name="textAreaRight" fmla="*/ 327600 w 32724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w="2773" h="738">
                          <a:moveTo>
                            <a:pt x="33" y="0"/>
                          </a:moveTo>
                          <a:lnTo>
                            <a:pt x="0" y="99"/>
                          </a:lnTo>
                          <a:lnTo>
                            <a:pt x="2436" y="738"/>
                          </a:lnTo>
                          <a:cubicBezTo>
                            <a:pt x="2499" y="501"/>
                            <a:pt x="2773" y="727"/>
                            <a:pt x="2373" y="603"/>
                          </a:cubicBez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1" name="Freeform 1025"/>
                    <p:cNvSpPr/>
                    <p:nvPr/>
                  </p:nvSpPr>
                  <p:spPr>
                    <a:xfrm>
                      <a:off x="5961240" y="2026080"/>
                      <a:ext cx="83520" cy="186840"/>
                    </a:xfrm>
                    <a:custGeom>
                      <a:avLst/>
                      <a:gdLst>
                        <a:gd name="textAreaLeft" fmla="*/ 0 w 83520"/>
                        <a:gd name="textAreaRight" fmla="*/ 83880 w 83520"/>
                        <a:gd name="textAreaTop" fmla="*/ 0 h 186840"/>
                        <a:gd name="textAreaBottom" fmla="*/ 187200 h 186840"/>
                      </a:gdLst>
                      <a:ahLst/>
                      <a:rect l="textAreaLeft" t="textAreaTop" r="textAreaRight" b="textAreaBottom"/>
                      <a:pathLst>
                        <a:path w="637" h="1659">
                          <a:moveTo>
                            <a:pt x="615" y="0"/>
                          </a:moveTo>
                          <a:lnTo>
                            <a:pt x="637" y="0"/>
                          </a:lnTo>
                          <a:lnTo>
                            <a:pt x="68" y="1659"/>
                          </a:lnTo>
                          <a:lnTo>
                            <a:pt x="0" y="1647"/>
                          </a:lnTo>
                          <a:lnTo>
                            <a:pt x="615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2" name="Freeform 1026"/>
                    <p:cNvSpPr/>
                    <p:nvPr/>
                  </p:nvSpPr>
                  <p:spPr>
                    <a:xfrm>
                      <a:off x="5676480" y="2157120"/>
                      <a:ext cx="290880" cy="61920"/>
                    </a:xfrm>
                    <a:custGeom>
                      <a:avLst/>
                      <a:gdLst>
                        <a:gd name="textAreaLeft" fmla="*/ 0 w 290880"/>
                        <a:gd name="textAreaRight" fmla="*/ 291240 w 29088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216" h="550">
                          <a:moveTo>
                            <a:pt x="0" y="0"/>
                          </a:moveTo>
                          <a:lnTo>
                            <a:pt x="9" y="57"/>
                          </a:lnTo>
                          <a:lnTo>
                            <a:pt x="2164" y="550"/>
                          </a:lnTo>
                          <a:lnTo>
                            <a:pt x="2216" y="4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23" name="Group 1027"/>
                    <p:cNvGrpSpPr/>
                    <p:nvPr/>
                  </p:nvGrpSpPr>
                  <p:grpSpPr>
                    <a:xfrm>
                      <a:off x="5671800" y="2223720"/>
                      <a:ext cx="98640" cy="36720"/>
                      <a:chOff x="5671800" y="2223720"/>
                      <a:chExt cx="98640" cy="36720"/>
                    </a:xfrm>
                  </p:grpSpPr>
                  <p:sp>
                    <p:nvSpPr>
                      <p:cNvPr id="6124" name="Freeform 1028"/>
                      <p:cNvSpPr/>
                      <p:nvPr/>
                    </p:nvSpPr>
                    <p:spPr>
                      <a:xfrm>
                        <a:off x="5671800" y="2223720"/>
                        <a:ext cx="98640" cy="36720"/>
                      </a:xfrm>
                      <a:custGeom>
                        <a:avLst/>
                        <a:gdLst>
                          <a:gd name="textAreaLeft" fmla="*/ 0 w 98640"/>
                          <a:gd name="textAreaRight" fmla="*/ 99000 w 98640"/>
                          <a:gd name="textAreaTop" fmla="*/ 0 h 36720"/>
                          <a:gd name="textAreaBottom" fmla="*/ 37080 h 36720"/>
                        </a:gdLst>
                        <a:ahLst/>
                        <a:rect l="textAreaLeft" t="textAreaTop" r="textAreaRight" b="textAreaBottom"/>
                        <a:pathLst>
                          <a:path w="752" h="327">
                            <a:moveTo>
                              <a:pt x="293" y="0"/>
                            </a:moveTo>
                            <a:lnTo>
                              <a:pt x="752" y="124"/>
                            </a:lnTo>
                            <a:lnTo>
                              <a:pt x="470" y="327"/>
                            </a:lnTo>
                            <a:lnTo>
                              <a:pt x="0" y="183"/>
                            </a:lnTo>
                            <a:lnTo>
                              <a:pt x="293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5" name="Freeform 1029"/>
                      <p:cNvSpPr/>
                      <p:nvPr/>
                    </p:nvSpPr>
                    <p:spPr>
                      <a:xfrm>
                        <a:off x="5673600" y="2224440"/>
                        <a:ext cx="95400" cy="34920"/>
                      </a:xfrm>
                      <a:custGeom>
                        <a:avLst/>
                        <a:gdLst>
                          <a:gd name="textAreaLeft" fmla="*/ 0 w 95400"/>
                          <a:gd name="textAreaRight" fmla="*/ 95760 w 9540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726" h="311">
                            <a:moveTo>
                              <a:pt x="282" y="0"/>
                            </a:moveTo>
                            <a:lnTo>
                              <a:pt x="726" y="119"/>
                            </a:lnTo>
                            <a:lnTo>
                              <a:pt x="457" y="311"/>
                            </a:lnTo>
                            <a:lnTo>
                              <a:pt x="0" y="173"/>
                            </a:lnTo>
                            <a:lnTo>
                              <a:pt x="282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4d4d4d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6" name="Freeform 1030"/>
                      <p:cNvSpPr/>
                      <p:nvPr/>
                    </p:nvSpPr>
                    <p:spPr>
                      <a:xfrm>
                        <a:off x="5680440" y="2238120"/>
                        <a:ext cx="33840" cy="11160"/>
                      </a:xfrm>
                      <a:custGeom>
                        <a:avLst/>
                        <a:gdLst>
                          <a:gd name="textAreaLeft" fmla="*/ 0 w 33840"/>
                          <a:gd name="textAreaRight" fmla="*/ 34200 w 3384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258" h="100">
                            <a:moveTo>
                              <a:pt x="0" y="44"/>
                            </a:moveTo>
                            <a:lnTo>
                              <a:pt x="75" y="0"/>
                            </a:lnTo>
                            <a:lnTo>
                              <a:pt x="258" y="50"/>
                            </a:lnTo>
                            <a:lnTo>
                              <a:pt x="183" y="100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7" name="Freeform 1031"/>
                      <p:cNvSpPr/>
                      <p:nvPr/>
                    </p:nvSpPr>
                    <p:spPr>
                      <a:xfrm>
                        <a:off x="5679360" y="2243160"/>
                        <a:ext cx="25200" cy="6840"/>
                      </a:xfrm>
                      <a:custGeom>
                        <a:avLst/>
                        <a:gdLst>
                          <a:gd name="textAreaLeft" fmla="*/ 0 w 25200"/>
                          <a:gd name="textAreaRight" fmla="*/ 25560 w 252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8" name="Freeform 1032"/>
                      <p:cNvSpPr/>
                      <p:nvPr/>
                    </p:nvSpPr>
                    <p:spPr>
                      <a:xfrm>
                        <a:off x="5708520" y="2245320"/>
                        <a:ext cx="33840" cy="11520"/>
                      </a:xfrm>
                      <a:custGeom>
                        <a:avLst/>
                        <a:gdLst>
                          <a:gd name="textAreaLeft" fmla="*/ 0 w 33840"/>
                          <a:gd name="textAreaRight" fmla="*/ 34200 w 33840"/>
                          <a:gd name="textAreaTop" fmla="*/ 0 h 11520"/>
                          <a:gd name="textAreaBottom" fmla="*/ 11880 h 11520"/>
                        </a:gdLst>
                        <a:ahLst/>
                        <a:rect l="textAreaLeft" t="textAreaTop" r="textAreaRight" b="textAreaBottom"/>
                        <a:pathLst>
                          <a:path w="258" h="102">
                            <a:moveTo>
                              <a:pt x="0" y="46"/>
                            </a:moveTo>
                            <a:lnTo>
                              <a:pt x="71" y="0"/>
                            </a:lnTo>
                            <a:lnTo>
                              <a:pt x="258" y="52"/>
                            </a:lnTo>
                            <a:lnTo>
                              <a:pt x="183" y="102"/>
                            </a:lnTo>
                            <a:lnTo>
                              <a:pt x="0" y="46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9" name="Freeform 1033"/>
                      <p:cNvSpPr/>
                      <p:nvPr/>
                    </p:nvSpPr>
                    <p:spPr>
                      <a:xfrm>
                        <a:off x="5707440" y="2250720"/>
                        <a:ext cx="25200" cy="6840"/>
                      </a:xfrm>
                      <a:custGeom>
                        <a:avLst/>
                        <a:gdLst>
                          <a:gd name="textAreaLeft" fmla="*/ 0 w 25200"/>
                          <a:gd name="textAreaRight" fmla="*/ 25560 w 2520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30" name="Freeform 1034"/>
                    <p:cNvSpPr/>
                    <p:nvPr/>
                  </p:nvSpPr>
                  <p:spPr>
                    <a:xfrm>
                      <a:off x="5841000" y="2229120"/>
                      <a:ext cx="119520" cy="80640"/>
                    </a:xfrm>
                    <a:custGeom>
                      <a:avLst/>
                      <a:gdLst>
                        <a:gd name="textAreaLeft" fmla="*/ 0 w 119520"/>
                        <a:gd name="textAreaRight" fmla="*/ 119880 w 11952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990" h="792">
                          <a:moveTo>
                            <a:pt x="3" y="738"/>
                          </a:moveTo>
                          <a:lnTo>
                            <a:pt x="990" y="0"/>
                          </a:lnTo>
                          <a:lnTo>
                            <a:pt x="987" y="60"/>
                          </a:lnTo>
                          <a:lnTo>
                            <a:pt x="0" y="792"/>
                          </a:lnTo>
                          <a:lnTo>
                            <a:pt x="3" y="738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1" name="Freeform 1035"/>
                    <p:cNvSpPr/>
                    <p:nvPr/>
                  </p:nvSpPr>
                  <p:spPr>
                    <a:xfrm>
                      <a:off x="5535720" y="2235600"/>
                      <a:ext cx="306000" cy="73800"/>
                    </a:xfrm>
                    <a:custGeom>
                      <a:avLst/>
                      <a:gdLst>
                        <a:gd name="textAreaLeft" fmla="*/ 0 w 306000"/>
                        <a:gd name="textAreaRight" fmla="*/ 306360 w 306000"/>
                        <a:gd name="textAreaTop" fmla="*/ 0 h 73800"/>
                        <a:gd name="textAreaBottom" fmla="*/ 74160 h 7380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2" name="Freeform 1036"/>
                    <p:cNvSpPr/>
                    <p:nvPr/>
                  </p:nvSpPr>
                  <p:spPr>
                    <a:xfrm>
                      <a:off x="5535720" y="2221920"/>
                      <a:ext cx="3240" cy="1476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26" h="147">
                          <a:moveTo>
                            <a:pt x="26" y="10"/>
                          </a:moveTo>
                          <a:lnTo>
                            <a:pt x="23" y="147"/>
                          </a:lnTo>
                          <a:lnTo>
                            <a:pt x="0" y="144"/>
                          </a:lnTo>
                          <a:lnTo>
                            <a:pt x="3" y="0"/>
                          </a:lnTo>
                          <a:lnTo>
                            <a:pt x="26" y="1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3" name="Freeform 1037"/>
                    <p:cNvSpPr/>
                    <p:nvPr/>
                  </p:nvSpPr>
                  <p:spPr>
                    <a:xfrm>
                      <a:off x="5536080" y="2161080"/>
                      <a:ext cx="142200" cy="61560"/>
                    </a:xfrm>
                    <a:custGeom>
                      <a:avLst/>
                      <a:gdLst>
                        <a:gd name="textAreaLeft" fmla="*/ 0 w 142200"/>
                        <a:gd name="textAreaRight" fmla="*/ 142560 w 142200"/>
                        <a:gd name="textAreaTop" fmla="*/ 0 h 61560"/>
                        <a:gd name="textAreaBottom" fmla="*/ 61920 h 61560"/>
                      </a:gdLst>
                      <a:ahLst/>
                      <a:rect l="textAreaLeft" t="textAreaTop" r="textAreaRight" b="textAreaBottom"/>
                      <a:pathLst>
                        <a:path w="1176" h="606">
                          <a:moveTo>
                            <a:pt x="1170" y="0"/>
                          </a:moveTo>
                          <a:lnTo>
                            <a:pt x="0" y="597"/>
                          </a:lnTo>
                          <a:lnTo>
                            <a:pt x="30" y="606"/>
                          </a:lnTo>
                          <a:lnTo>
                            <a:pt x="1176" y="18"/>
                          </a:lnTo>
                          <a:lnTo>
                            <a:pt x="1170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4" name="Freeform 1038"/>
                    <p:cNvSpPr/>
                    <p:nvPr/>
                  </p:nvSpPr>
                  <p:spPr>
                    <a:xfrm>
                      <a:off x="5545440" y="2225160"/>
                      <a:ext cx="290160" cy="70920"/>
                    </a:xfrm>
                    <a:custGeom>
                      <a:avLst/>
                      <a:gdLst>
                        <a:gd name="textAreaLeft" fmla="*/ 0 w 290160"/>
                        <a:gd name="textAreaRight" fmla="*/ 290520 w 29016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5" name="Freeform 1039"/>
                    <p:cNvSpPr/>
                    <p:nvPr/>
                  </p:nvSpPr>
                  <p:spPr>
                    <a:xfrm flipV="1">
                      <a:off x="5835240" y="2220120"/>
                      <a:ext cx="118440" cy="73440"/>
                    </a:xfrm>
                    <a:custGeom>
                      <a:avLst/>
                      <a:gdLst>
                        <a:gd name="textAreaLeft" fmla="*/ 0 w 118440"/>
                        <a:gd name="textAreaRight" fmla="*/ 118800 w 118440"/>
                        <a:gd name="textAreaTop" fmla="*/ 360 h 73440"/>
                        <a:gd name="textAreaBottom" fmla="*/ 74160 h 7344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6" name="Group 1064"/>
                  <p:cNvGrpSpPr/>
                  <p:nvPr/>
                </p:nvGrpSpPr>
                <p:grpSpPr>
                  <a:xfrm>
                    <a:off x="7080120" y="5352120"/>
                    <a:ext cx="474120" cy="414000"/>
                    <a:chOff x="7080120" y="5352120"/>
                    <a:chExt cx="474120" cy="414000"/>
                  </a:xfrm>
                </p:grpSpPr>
                <p:pic>
                  <p:nvPicPr>
                    <p:cNvPr id="6137" name="Picture 1065" descr="antenna_stylized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080120" y="5352120"/>
                      <a:ext cx="47088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38" name="Picture 1066" descr="laptop_keyboard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 flipH="1" rot="108600">
                      <a:off x="7102440" y="5600160"/>
                      <a:ext cx="38772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39" name="Freeform 1067"/>
                    <p:cNvSpPr/>
                    <p:nvPr/>
                  </p:nvSpPr>
                  <p:spPr>
                    <a:xfrm>
                      <a:off x="7231320" y="5445720"/>
                      <a:ext cx="312120" cy="208080"/>
                    </a:xfrm>
                    <a:custGeom>
                      <a:avLst/>
                      <a:gdLst>
                        <a:gd name="textAreaLeft" fmla="*/ 0 w 312120"/>
                        <a:gd name="textAreaRight" fmla="*/ 312480 w 312120"/>
                        <a:gd name="textAreaTop" fmla="*/ 0 h 208080"/>
                        <a:gd name="textAreaBottom" fmla="*/ 208440 h 208080"/>
                      </a:gdLst>
                      <a:ahLst/>
                      <a:rect l="textAreaLeft" t="textAreaTop" r="textAreaRight" b="textAreaBottom"/>
                      <a:pathLst>
                        <a:path w="2982" h="2442">
                          <a:moveTo>
                            <a:pt x="540" y="0"/>
                          </a:moveTo>
                          <a:lnTo>
                            <a:pt x="0" y="1734"/>
                          </a:lnTo>
                          <a:lnTo>
                            <a:pt x="2394" y="2442"/>
                          </a:lnTo>
                          <a:lnTo>
                            <a:pt x="2982" y="318"/>
                          </a:lnTo>
                          <a:lnTo>
                            <a:pt x="5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140" name="Picture 1068" descr="screen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246800" y="5451120"/>
                      <a:ext cx="283680" cy="1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41" name="Freeform 1069"/>
                    <p:cNvSpPr/>
                    <p:nvPr/>
                  </p:nvSpPr>
                  <p:spPr>
                    <a:xfrm>
                      <a:off x="7288200" y="5439600"/>
                      <a:ext cx="264600" cy="38520"/>
                    </a:xfrm>
                    <a:custGeom>
                      <a:avLst/>
                      <a:gdLst>
                        <a:gd name="textAreaLeft" fmla="*/ 0 w 264600"/>
                        <a:gd name="textAreaRight" fmla="*/ 264960 w 264600"/>
                        <a:gd name="textAreaTop" fmla="*/ 0 h 38520"/>
                        <a:gd name="textAreaBottom" fmla="*/ 38880 h 38520"/>
                      </a:gdLst>
                      <a:ahLst/>
                      <a:rect l="textAreaLeft" t="textAreaTop" r="textAreaRight" b="textAreaBottom"/>
                      <a:pathLst>
                        <a:path w="2528" h="455">
                          <a:moveTo>
                            <a:pt x="14" y="0"/>
                          </a:moveTo>
                          <a:lnTo>
                            <a:pt x="2528" y="341"/>
                          </a:lnTo>
                          <a:lnTo>
                            <a:pt x="2480" y="455"/>
                          </a:lnTo>
                          <a:lnTo>
                            <a:pt x="0" y="86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2" name="Freeform 1070"/>
                    <p:cNvSpPr/>
                    <p:nvPr/>
                  </p:nvSpPr>
                  <p:spPr>
                    <a:xfrm>
                      <a:off x="7228440" y="5439240"/>
                      <a:ext cx="73440" cy="161280"/>
                    </a:xfrm>
                    <a:custGeom>
                      <a:avLst/>
                      <a:gdLst>
                        <a:gd name="textAreaLeft" fmla="*/ 0 w 73440"/>
                        <a:gd name="textAreaRight" fmla="*/ 73800 w 73440"/>
                        <a:gd name="textAreaTop" fmla="*/ 0 h 161280"/>
                        <a:gd name="textAreaBottom" fmla="*/ 161640 h 161280"/>
                      </a:gdLst>
                      <a:ahLst/>
                      <a:rect l="textAreaLeft" t="textAreaTop" r="textAreaRight" b="textAreaBottom"/>
                      <a:pathLst>
                        <a:path w="702" h="1893">
                          <a:moveTo>
                            <a:pt x="579" y="0"/>
                          </a:moveTo>
                          <a:lnTo>
                            <a:pt x="0" y="1869"/>
                          </a:lnTo>
                          <a:lnTo>
                            <a:pt x="114" y="1893"/>
                          </a:lnTo>
                          <a:lnTo>
                            <a:pt x="702" y="51"/>
                          </a:lnTo>
                          <a:lnTo>
                            <a:pt x="579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3" name="Freeform 1071"/>
                    <p:cNvSpPr/>
                    <p:nvPr/>
                  </p:nvSpPr>
                  <p:spPr>
                    <a:xfrm>
                      <a:off x="7471800" y="5468040"/>
                      <a:ext cx="78840" cy="18612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186120"/>
                        <a:gd name="textAreaBottom" fmla="*/ 186480 h 186120"/>
                      </a:gdLst>
                      <a:ahLst/>
                      <a:rect l="textAreaLeft" t="textAreaTop" r="textAreaRight" b="textAreaBottom"/>
                      <a:pathLst>
                        <a:path w="756" h="2184">
                          <a:moveTo>
                            <a:pt x="756" y="0"/>
                          </a:moveTo>
                          <a:lnTo>
                            <a:pt x="138" y="2184"/>
                          </a:lnTo>
                          <a:lnTo>
                            <a:pt x="0" y="2148"/>
                          </a:lnTo>
                          <a:lnTo>
                            <a:pt x="606" y="78"/>
                          </a:lnTo>
                          <a:lnTo>
                            <a:pt x="75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4" name="Freeform 1072"/>
                    <p:cNvSpPr/>
                    <p:nvPr/>
                  </p:nvSpPr>
                  <p:spPr>
                    <a:xfrm>
                      <a:off x="7227720" y="5592240"/>
                      <a:ext cx="290160" cy="62640"/>
                    </a:xfrm>
                    <a:custGeom>
                      <a:avLst/>
                      <a:gdLst>
                        <a:gd name="textAreaLeft" fmla="*/ 0 w 290160"/>
                        <a:gd name="textAreaRight" fmla="*/ 290520 w 2901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w="2773" h="738">
                          <a:moveTo>
                            <a:pt x="33" y="0"/>
                          </a:moveTo>
                          <a:lnTo>
                            <a:pt x="0" y="99"/>
                          </a:lnTo>
                          <a:lnTo>
                            <a:pt x="2436" y="738"/>
                          </a:lnTo>
                          <a:cubicBezTo>
                            <a:pt x="2499" y="501"/>
                            <a:pt x="2773" y="727"/>
                            <a:pt x="2373" y="603"/>
                          </a:cubicBez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5" name="Freeform 1073"/>
                    <p:cNvSpPr/>
                    <p:nvPr/>
                  </p:nvSpPr>
                  <p:spPr>
                    <a:xfrm>
                      <a:off x="7480440" y="5469480"/>
                      <a:ext cx="73800" cy="186840"/>
                    </a:xfrm>
                    <a:custGeom>
                      <a:avLst/>
                      <a:gdLst>
                        <a:gd name="textAreaLeft" fmla="*/ 0 w 73800"/>
                        <a:gd name="textAreaRight" fmla="*/ 74160 w 73800"/>
                        <a:gd name="textAreaTop" fmla="*/ 0 h 186840"/>
                        <a:gd name="textAreaBottom" fmla="*/ 187200 h 186840"/>
                      </a:gdLst>
                      <a:ahLst/>
                      <a:rect l="textAreaLeft" t="textAreaTop" r="textAreaRight" b="textAreaBottom"/>
                      <a:pathLst>
                        <a:path w="637" h="1659">
                          <a:moveTo>
                            <a:pt x="615" y="0"/>
                          </a:moveTo>
                          <a:lnTo>
                            <a:pt x="637" y="0"/>
                          </a:lnTo>
                          <a:lnTo>
                            <a:pt x="68" y="1659"/>
                          </a:lnTo>
                          <a:lnTo>
                            <a:pt x="0" y="1647"/>
                          </a:lnTo>
                          <a:lnTo>
                            <a:pt x="615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6" name="Freeform 1074"/>
                    <p:cNvSpPr/>
                    <p:nvPr/>
                  </p:nvSpPr>
                  <p:spPr>
                    <a:xfrm>
                      <a:off x="7228080" y="5600520"/>
                      <a:ext cx="258120" cy="61920"/>
                    </a:xfrm>
                    <a:custGeom>
                      <a:avLst/>
                      <a:gdLst>
                        <a:gd name="textAreaLeft" fmla="*/ 0 w 258120"/>
                        <a:gd name="textAreaRight" fmla="*/ 258480 w 2581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216" h="550">
                          <a:moveTo>
                            <a:pt x="0" y="0"/>
                          </a:moveTo>
                          <a:lnTo>
                            <a:pt x="9" y="57"/>
                          </a:lnTo>
                          <a:lnTo>
                            <a:pt x="2164" y="550"/>
                          </a:lnTo>
                          <a:lnTo>
                            <a:pt x="2216" y="4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47" name="Group 1075"/>
                    <p:cNvGrpSpPr/>
                    <p:nvPr/>
                  </p:nvGrpSpPr>
                  <p:grpSpPr>
                    <a:xfrm>
                      <a:off x="7223760" y="5667120"/>
                      <a:ext cx="87480" cy="36720"/>
                      <a:chOff x="7223760" y="5667120"/>
                      <a:chExt cx="87480" cy="36720"/>
                    </a:xfrm>
                  </p:grpSpPr>
                  <p:sp>
                    <p:nvSpPr>
                      <p:cNvPr id="6148" name="Freeform 1076"/>
                      <p:cNvSpPr/>
                      <p:nvPr/>
                    </p:nvSpPr>
                    <p:spPr>
                      <a:xfrm>
                        <a:off x="7223760" y="5667120"/>
                        <a:ext cx="87480" cy="36720"/>
                      </a:xfrm>
                      <a:custGeom>
                        <a:avLst/>
                        <a:gdLst>
                          <a:gd name="textAreaLeft" fmla="*/ 0 w 87480"/>
                          <a:gd name="textAreaRight" fmla="*/ 87840 w 87480"/>
                          <a:gd name="textAreaTop" fmla="*/ 0 h 36720"/>
                          <a:gd name="textAreaBottom" fmla="*/ 37080 h 36720"/>
                        </a:gdLst>
                        <a:ahLst/>
                        <a:rect l="textAreaLeft" t="textAreaTop" r="textAreaRight" b="textAreaBottom"/>
                        <a:pathLst>
                          <a:path w="752" h="327">
                            <a:moveTo>
                              <a:pt x="293" y="0"/>
                            </a:moveTo>
                            <a:lnTo>
                              <a:pt x="752" y="124"/>
                            </a:lnTo>
                            <a:lnTo>
                              <a:pt x="470" y="327"/>
                            </a:lnTo>
                            <a:lnTo>
                              <a:pt x="0" y="183"/>
                            </a:lnTo>
                            <a:lnTo>
                              <a:pt x="293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9" name="Freeform 1077"/>
                      <p:cNvSpPr/>
                      <p:nvPr/>
                    </p:nvSpPr>
                    <p:spPr>
                      <a:xfrm>
                        <a:off x="7225200" y="5667840"/>
                        <a:ext cx="84600" cy="34920"/>
                      </a:xfrm>
                      <a:custGeom>
                        <a:avLst/>
                        <a:gdLst>
                          <a:gd name="textAreaLeft" fmla="*/ 0 w 84600"/>
                          <a:gd name="textAreaRight" fmla="*/ 84960 w 8460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726" h="311">
                            <a:moveTo>
                              <a:pt x="282" y="0"/>
                            </a:moveTo>
                            <a:lnTo>
                              <a:pt x="726" y="119"/>
                            </a:lnTo>
                            <a:lnTo>
                              <a:pt x="457" y="311"/>
                            </a:lnTo>
                            <a:lnTo>
                              <a:pt x="0" y="173"/>
                            </a:lnTo>
                            <a:lnTo>
                              <a:pt x="282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4d4d4d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0" name="Freeform 1078"/>
                      <p:cNvSpPr/>
                      <p:nvPr/>
                    </p:nvSpPr>
                    <p:spPr>
                      <a:xfrm>
                        <a:off x="7231680" y="5681520"/>
                        <a:ext cx="29880" cy="11160"/>
                      </a:xfrm>
                      <a:custGeom>
                        <a:avLst/>
                        <a:gdLst>
                          <a:gd name="textAreaLeft" fmla="*/ 0 w 29880"/>
                          <a:gd name="textAreaRight" fmla="*/ 30240 w 298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258" h="100">
                            <a:moveTo>
                              <a:pt x="0" y="44"/>
                            </a:moveTo>
                            <a:lnTo>
                              <a:pt x="75" y="0"/>
                            </a:lnTo>
                            <a:lnTo>
                              <a:pt x="258" y="50"/>
                            </a:lnTo>
                            <a:lnTo>
                              <a:pt x="183" y="100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1" name="Freeform 1079"/>
                      <p:cNvSpPr/>
                      <p:nvPr/>
                    </p:nvSpPr>
                    <p:spPr>
                      <a:xfrm>
                        <a:off x="7230600" y="5686560"/>
                        <a:ext cx="22320" cy="68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2" name="Freeform 1080"/>
                      <p:cNvSpPr/>
                      <p:nvPr/>
                    </p:nvSpPr>
                    <p:spPr>
                      <a:xfrm>
                        <a:off x="7256160" y="5688720"/>
                        <a:ext cx="29880" cy="11520"/>
                      </a:xfrm>
                      <a:custGeom>
                        <a:avLst/>
                        <a:gdLst>
                          <a:gd name="textAreaLeft" fmla="*/ 0 w 29880"/>
                          <a:gd name="textAreaRight" fmla="*/ 30240 w 29880"/>
                          <a:gd name="textAreaTop" fmla="*/ 0 h 11520"/>
                          <a:gd name="textAreaBottom" fmla="*/ 11880 h 11520"/>
                        </a:gdLst>
                        <a:ahLst/>
                        <a:rect l="textAreaLeft" t="textAreaTop" r="textAreaRight" b="textAreaBottom"/>
                        <a:pathLst>
                          <a:path w="258" h="102">
                            <a:moveTo>
                              <a:pt x="0" y="46"/>
                            </a:moveTo>
                            <a:lnTo>
                              <a:pt x="71" y="0"/>
                            </a:lnTo>
                            <a:lnTo>
                              <a:pt x="258" y="52"/>
                            </a:lnTo>
                            <a:lnTo>
                              <a:pt x="183" y="102"/>
                            </a:lnTo>
                            <a:lnTo>
                              <a:pt x="0" y="46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3" name="Freeform 1081"/>
                      <p:cNvSpPr/>
                      <p:nvPr/>
                    </p:nvSpPr>
                    <p:spPr>
                      <a:xfrm>
                        <a:off x="7255080" y="5694120"/>
                        <a:ext cx="22320" cy="68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54" name="Freeform 1082"/>
                    <p:cNvSpPr/>
                    <p:nvPr/>
                  </p:nvSpPr>
                  <p:spPr>
                    <a:xfrm>
                      <a:off x="7373880" y="5672520"/>
                      <a:ext cx="105840" cy="80640"/>
                    </a:xfrm>
                    <a:custGeom>
                      <a:avLst/>
                      <a:gdLst>
                        <a:gd name="textAreaLeft" fmla="*/ 0 w 105840"/>
                        <a:gd name="textAreaRight" fmla="*/ 106200 w 10584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990" h="792">
                          <a:moveTo>
                            <a:pt x="3" y="738"/>
                          </a:moveTo>
                          <a:lnTo>
                            <a:pt x="990" y="0"/>
                          </a:lnTo>
                          <a:lnTo>
                            <a:pt x="987" y="60"/>
                          </a:lnTo>
                          <a:lnTo>
                            <a:pt x="0" y="792"/>
                          </a:lnTo>
                          <a:lnTo>
                            <a:pt x="3" y="738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5" name="Freeform 1083"/>
                    <p:cNvSpPr/>
                    <p:nvPr/>
                  </p:nvSpPr>
                  <p:spPr>
                    <a:xfrm>
                      <a:off x="7102800" y="5679000"/>
                      <a:ext cx="271440" cy="7380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73800"/>
                        <a:gd name="textAreaBottom" fmla="*/ 74160 h 7380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6" name="Freeform 1084"/>
                    <p:cNvSpPr/>
                    <p:nvPr/>
                  </p:nvSpPr>
                  <p:spPr>
                    <a:xfrm>
                      <a:off x="7103160" y="5665320"/>
                      <a:ext cx="2880" cy="1476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26" h="147">
                          <a:moveTo>
                            <a:pt x="26" y="10"/>
                          </a:moveTo>
                          <a:lnTo>
                            <a:pt x="23" y="147"/>
                          </a:lnTo>
                          <a:lnTo>
                            <a:pt x="0" y="144"/>
                          </a:lnTo>
                          <a:lnTo>
                            <a:pt x="3" y="0"/>
                          </a:lnTo>
                          <a:lnTo>
                            <a:pt x="26" y="1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7" name="Freeform 1085"/>
                    <p:cNvSpPr/>
                    <p:nvPr/>
                  </p:nvSpPr>
                  <p:spPr>
                    <a:xfrm>
                      <a:off x="7103160" y="5604480"/>
                      <a:ext cx="126000" cy="61560"/>
                    </a:xfrm>
                    <a:custGeom>
                      <a:avLst/>
                      <a:gdLst>
                        <a:gd name="textAreaLeft" fmla="*/ 0 w 126000"/>
                        <a:gd name="textAreaRight" fmla="*/ 126360 w 126000"/>
                        <a:gd name="textAreaTop" fmla="*/ 0 h 61560"/>
                        <a:gd name="textAreaBottom" fmla="*/ 61920 h 61560"/>
                      </a:gdLst>
                      <a:ahLst/>
                      <a:rect l="textAreaLeft" t="textAreaTop" r="textAreaRight" b="textAreaBottom"/>
                      <a:pathLst>
                        <a:path w="1176" h="606">
                          <a:moveTo>
                            <a:pt x="1170" y="0"/>
                          </a:moveTo>
                          <a:lnTo>
                            <a:pt x="0" y="597"/>
                          </a:lnTo>
                          <a:lnTo>
                            <a:pt x="30" y="606"/>
                          </a:lnTo>
                          <a:lnTo>
                            <a:pt x="1176" y="18"/>
                          </a:lnTo>
                          <a:lnTo>
                            <a:pt x="1170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8" name="Freeform 1086"/>
                    <p:cNvSpPr/>
                    <p:nvPr/>
                  </p:nvSpPr>
                  <p:spPr>
                    <a:xfrm>
                      <a:off x="7111800" y="5668560"/>
                      <a:ext cx="257400" cy="70920"/>
                    </a:xfrm>
                    <a:custGeom>
                      <a:avLst/>
                      <a:gdLst>
                        <a:gd name="textAreaLeft" fmla="*/ 0 w 257400"/>
                        <a:gd name="textAreaRight" fmla="*/ 257760 w 25740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9" name="Freeform 1087"/>
                    <p:cNvSpPr/>
                    <p:nvPr/>
                  </p:nvSpPr>
                  <p:spPr>
                    <a:xfrm flipV="1">
                      <a:off x="7368840" y="5663520"/>
                      <a:ext cx="104760" cy="7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360 h 73440"/>
                        <a:gd name="textAreaBottom" fmla="*/ 74160 h 7344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0" name="Group 1114"/>
                  <p:cNvGrpSpPr/>
                  <p:nvPr/>
                </p:nvGrpSpPr>
                <p:grpSpPr>
                  <a:xfrm>
                    <a:off x="5768640" y="2907360"/>
                    <a:ext cx="444240" cy="413640"/>
                    <a:chOff x="5768640" y="2907360"/>
                    <a:chExt cx="444240" cy="413640"/>
                  </a:xfrm>
                </p:grpSpPr>
                <p:pic>
                  <p:nvPicPr>
                    <p:cNvPr id="6161" name="Picture 1115" descr="antenna_stylized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68640" y="2907360"/>
                      <a:ext cx="44100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62" name="Picture 1116" descr="laptop_keyboard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 flipH="1" rot="109200">
                      <a:off x="5789520" y="3155400"/>
                      <a:ext cx="36324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63" name="Freeform 1117"/>
                    <p:cNvSpPr/>
                    <p:nvPr/>
                  </p:nvSpPr>
                  <p:spPr>
                    <a:xfrm>
                      <a:off x="5910120" y="3000960"/>
                      <a:ext cx="292320" cy="208080"/>
                    </a:xfrm>
                    <a:custGeom>
                      <a:avLst/>
                      <a:gdLst>
                        <a:gd name="textAreaLeft" fmla="*/ 0 w 292320"/>
                        <a:gd name="textAreaRight" fmla="*/ 292680 w 292320"/>
                        <a:gd name="textAreaTop" fmla="*/ 0 h 208080"/>
                        <a:gd name="textAreaBottom" fmla="*/ 208440 h 208080"/>
                      </a:gdLst>
                      <a:ahLst/>
                      <a:rect l="textAreaLeft" t="textAreaTop" r="textAreaRight" b="textAreaBottom"/>
                      <a:pathLst>
                        <a:path w="2982" h="2442">
                          <a:moveTo>
                            <a:pt x="540" y="0"/>
                          </a:moveTo>
                          <a:lnTo>
                            <a:pt x="0" y="1734"/>
                          </a:lnTo>
                          <a:lnTo>
                            <a:pt x="2394" y="2442"/>
                          </a:lnTo>
                          <a:lnTo>
                            <a:pt x="2982" y="318"/>
                          </a:lnTo>
                          <a:lnTo>
                            <a:pt x="5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164" name="Picture 1118" descr="screen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24520" y="3006360"/>
                      <a:ext cx="265680" cy="1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65" name="Freeform 1119"/>
                    <p:cNvSpPr/>
                    <p:nvPr/>
                  </p:nvSpPr>
                  <p:spPr>
                    <a:xfrm>
                      <a:off x="5963400" y="2994840"/>
                      <a:ext cx="247680" cy="38520"/>
                    </a:xfrm>
                    <a:custGeom>
                      <a:avLst/>
                      <a:gdLst>
                        <a:gd name="textAreaLeft" fmla="*/ 0 w 247680"/>
                        <a:gd name="textAreaRight" fmla="*/ 248040 w 247680"/>
                        <a:gd name="textAreaTop" fmla="*/ 0 h 38520"/>
                        <a:gd name="textAreaBottom" fmla="*/ 38880 h 38520"/>
                      </a:gdLst>
                      <a:ahLst/>
                      <a:rect l="textAreaLeft" t="textAreaTop" r="textAreaRight" b="textAreaBottom"/>
                      <a:pathLst>
                        <a:path w="2528" h="455">
                          <a:moveTo>
                            <a:pt x="14" y="0"/>
                          </a:moveTo>
                          <a:lnTo>
                            <a:pt x="2528" y="341"/>
                          </a:lnTo>
                          <a:lnTo>
                            <a:pt x="2480" y="455"/>
                          </a:lnTo>
                          <a:lnTo>
                            <a:pt x="0" y="86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6" name="Freeform 1120"/>
                    <p:cNvSpPr/>
                    <p:nvPr/>
                  </p:nvSpPr>
                  <p:spPr>
                    <a:xfrm>
                      <a:off x="5907600" y="2994480"/>
                      <a:ext cx="68760" cy="161280"/>
                    </a:xfrm>
                    <a:custGeom>
                      <a:avLst/>
                      <a:gdLst>
                        <a:gd name="textAreaLeft" fmla="*/ 0 w 68760"/>
                        <a:gd name="textAreaRight" fmla="*/ 69120 w 68760"/>
                        <a:gd name="textAreaTop" fmla="*/ 0 h 161280"/>
                        <a:gd name="textAreaBottom" fmla="*/ 161640 h 161280"/>
                      </a:gdLst>
                      <a:ahLst/>
                      <a:rect l="textAreaLeft" t="textAreaTop" r="textAreaRight" b="textAreaBottom"/>
                      <a:pathLst>
                        <a:path w="702" h="1893">
                          <a:moveTo>
                            <a:pt x="579" y="0"/>
                          </a:moveTo>
                          <a:lnTo>
                            <a:pt x="0" y="1869"/>
                          </a:lnTo>
                          <a:lnTo>
                            <a:pt x="114" y="1893"/>
                          </a:lnTo>
                          <a:lnTo>
                            <a:pt x="702" y="51"/>
                          </a:lnTo>
                          <a:lnTo>
                            <a:pt x="579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7" name="Freeform 1121"/>
                    <p:cNvSpPr/>
                    <p:nvPr/>
                  </p:nvSpPr>
                  <p:spPr>
                    <a:xfrm>
                      <a:off x="6135480" y="3023280"/>
                      <a:ext cx="73800" cy="186120"/>
                    </a:xfrm>
                    <a:custGeom>
                      <a:avLst/>
                      <a:gdLst>
                        <a:gd name="textAreaLeft" fmla="*/ 0 w 73800"/>
                        <a:gd name="textAreaRight" fmla="*/ 74160 w 73800"/>
                        <a:gd name="textAreaTop" fmla="*/ 0 h 186120"/>
                        <a:gd name="textAreaBottom" fmla="*/ 186480 h 186120"/>
                      </a:gdLst>
                      <a:ahLst/>
                      <a:rect l="textAreaLeft" t="textAreaTop" r="textAreaRight" b="textAreaBottom"/>
                      <a:pathLst>
                        <a:path w="756" h="2184">
                          <a:moveTo>
                            <a:pt x="756" y="0"/>
                          </a:moveTo>
                          <a:lnTo>
                            <a:pt x="138" y="2184"/>
                          </a:lnTo>
                          <a:lnTo>
                            <a:pt x="0" y="2148"/>
                          </a:lnTo>
                          <a:lnTo>
                            <a:pt x="606" y="78"/>
                          </a:lnTo>
                          <a:lnTo>
                            <a:pt x="75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8" name="Freeform 1122"/>
                    <p:cNvSpPr/>
                    <p:nvPr/>
                  </p:nvSpPr>
                  <p:spPr>
                    <a:xfrm>
                      <a:off x="5906880" y="3147480"/>
                      <a:ext cx="271800" cy="62640"/>
                    </a:xfrm>
                    <a:custGeom>
                      <a:avLst/>
                      <a:gdLst>
                        <a:gd name="textAreaLeft" fmla="*/ 0 w 271800"/>
                        <a:gd name="textAreaRight" fmla="*/ 272160 w 27180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w="2773" h="738">
                          <a:moveTo>
                            <a:pt x="33" y="0"/>
                          </a:moveTo>
                          <a:lnTo>
                            <a:pt x="0" y="99"/>
                          </a:lnTo>
                          <a:lnTo>
                            <a:pt x="2436" y="738"/>
                          </a:lnTo>
                          <a:cubicBezTo>
                            <a:pt x="2499" y="501"/>
                            <a:pt x="2773" y="727"/>
                            <a:pt x="2373" y="603"/>
                          </a:cubicBez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9" name="Freeform 1123"/>
                    <p:cNvSpPr/>
                    <p:nvPr/>
                  </p:nvSpPr>
                  <p:spPr>
                    <a:xfrm>
                      <a:off x="6143760" y="3024720"/>
                      <a:ext cx="69120" cy="186840"/>
                    </a:xfrm>
                    <a:custGeom>
                      <a:avLst/>
                      <a:gdLst>
                        <a:gd name="textAreaLeft" fmla="*/ 0 w 69120"/>
                        <a:gd name="textAreaRight" fmla="*/ 69480 w 69120"/>
                        <a:gd name="textAreaTop" fmla="*/ 0 h 186840"/>
                        <a:gd name="textAreaBottom" fmla="*/ 187200 h 186840"/>
                      </a:gdLst>
                      <a:ahLst/>
                      <a:rect l="textAreaLeft" t="textAreaTop" r="textAreaRight" b="textAreaBottom"/>
                      <a:pathLst>
                        <a:path w="637" h="1659">
                          <a:moveTo>
                            <a:pt x="615" y="0"/>
                          </a:moveTo>
                          <a:lnTo>
                            <a:pt x="637" y="0"/>
                          </a:lnTo>
                          <a:lnTo>
                            <a:pt x="68" y="1659"/>
                          </a:lnTo>
                          <a:lnTo>
                            <a:pt x="0" y="1647"/>
                          </a:lnTo>
                          <a:lnTo>
                            <a:pt x="615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0" name="Freeform 1124"/>
                    <p:cNvSpPr/>
                    <p:nvPr/>
                  </p:nvSpPr>
                  <p:spPr>
                    <a:xfrm>
                      <a:off x="5907240" y="3155760"/>
                      <a:ext cx="241560" cy="61920"/>
                    </a:xfrm>
                    <a:custGeom>
                      <a:avLst/>
                      <a:gdLst>
                        <a:gd name="textAreaLeft" fmla="*/ 0 w 241560"/>
                        <a:gd name="textAreaRight" fmla="*/ 241920 w 24156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216" h="550">
                          <a:moveTo>
                            <a:pt x="0" y="0"/>
                          </a:moveTo>
                          <a:lnTo>
                            <a:pt x="9" y="57"/>
                          </a:lnTo>
                          <a:lnTo>
                            <a:pt x="2164" y="550"/>
                          </a:lnTo>
                          <a:lnTo>
                            <a:pt x="2216" y="4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71" name="Group 1125"/>
                    <p:cNvGrpSpPr/>
                    <p:nvPr/>
                  </p:nvGrpSpPr>
                  <p:grpSpPr>
                    <a:xfrm>
                      <a:off x="5903280" y="3222360"/>
                      <a:ext cx="81720" cy="36720"/>
                      <a:chOff x="5903280" y="3222360"/>
                      <a:chExt cx="81720" cy="36720"/>
                    </a:xfrm>
                  </p:grpSpPr>
                  <p:sp>
                    <p:nvSpPr>
                      <p:cNvPr id="6172" name="Freeform 1126"/>
                      <p:cNvSpPr/>
                      <p:nvPr/>
                    </p:nvSpPr>
                    <p:spPr>
                      <a:xfrm>
                        <a:off x="5903280" y="3222360"/>
                        <a:ext cx="81720" cy="36720"/>
                      </a:xfrm>
                      <a:custGeom>
                        <a:avLst/>
                        <a:gdLst>
                          <a:gd name="textAreaLeft" fmla="*/ 0 w 81720"/>
                          <a:gd name="textAreaRight" fmla="*/ 82080 w 81720"/>
                          <a:gd name="textAreaTop" fmla="*/ 0 h 36720"/>
                          <a:gd name="textAreaBottom" fmla="*/ 37080 h 36720"/>
                        </a:gdLst>
                        <a:ahLst/>
                        <a:rect l="textAreaLeft" t="textAreaTop" r="textAreaRight" b="textAreaBottom"/>
                        <a:pathLst>
                          <a:path w="752" h="327">
                            <a:moveTo>
                              <a:pt x="293" y="0"/>
                            </a:moveTo>
                            <a:lnTo>
                              <a:pt x="752" y="124"/>
                            </a:lnTo>
                            <a:lnTo>
                              <a:pt x="470" y="327"/>
                            </a:lnTo>
                            <a:lnTo>
                              <a:pt x="0" y="183"/>
                            </a:lnTo>
                            <a:lnTo>
                              <a:pt x="293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3" name="Freeform 1127"/>
                      <p:cNvSpPr/>
                      <p:nvPr/>
                    </p:nvSpPr>
                    <p:spPr>
                      <a:xfrm>
                        <a:off x="5904720" y="3223080"/>
                        <a:ext cx="79200" cy="3492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726" h="311">
                            <a:moveTo>
                              <a:pt x="282" y="0"/>
                            </a:moveTo>
                            <a:lnTo>
                              <a:pt x="726" y="119"/>
                            </a:lnTo>
                            <a:lnTo>
                              <a:pt x="457" y="311"/>
                            </a:lnTo>
                            <a:lnTo>
                              <a:pt x="0" y="173"/>
                            </a:lnTo>
                            <a:lnTo>
                              <a:pt x="282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4d4d4d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4" name="Freeform 1128"/>
                      <p:cNvSpPr/>
                      <p:nvPr/>
                    </p:nvSpPr>
                    <p:spPr>
                      <a:xfrm>
                        <a:off x="5910480" y="3236760"/>
                        <a:ext cx="28080" cy="11160"/>
                      </a:xfrm>
                      <a:custGeom>
                        <a:avLst/>
                        <a:gdLst>
                          <a:gd name="textAreaLeft" fmla="*/ 0 w 28080"/>
                          <a:gd name="textAreaRight" fmla="*/ 28440 w 28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258" h="100">
                            <a:moveTo>
                              <a:pt x="0" y="44"/>
                            </a:moveTo>
                            <a:lnTo>
                              <a:pt x="75" y="0"/>
                            </a:lnTo>
                            <a:lnTo>
                              <a:pt x="258" y="50"/>
                            </a:lnTo>
                            <a:lnTo>
                              <a:pt x="183" y="100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5" name="Freeform 1129"/>
                      <p:cNvSpPr/>
                      <p:nvPr/>
                    </p:nvSpPr>
                    <p:spPr>
                      <a:xfrm>
                        <a:off x="5909400" y="3241800"/>
                        <a:ext cx="20880" cy="6840"/>
                      </a:xfrm>
                      <a:custGeom>
                        <a:avLst/>
                        <a:gdLst>
                          <a:gd name="textAreaLeft" fmla="*/ 0 w 20880"/>
                          <a:gd name="textAreaRight" fmla="*/ 20880 w 208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6" name="Freeform 1130"/>
                      <p:cNvSpPr/>
                      <p:nvPr/>
                    </p:nvSpPr>
                    <p:spPr>
                      <a:xfrm>
                        <a:off x="5933520" y="3243960"/>
                        <a:ext cx="28080" cy="11520"/>
                      </a:xfrm>
                      <a:custGeom>
                        <a:avLst/>
                        <a:gdLst>
                          <a:gd name="textAreaLeft" fmla="*/ 0 w 28080"/>
                          <a:gd name="textAreaRight" fmla="*/ 28440 w 28080"/>
                          <a:gd name="textAreaTop" fmla="*/ 0 h 11520"/>
                          <a:gd name="textAreaBottom" fmla="*/ 11880 h 11520"/>
                        </a:gdLst>
                        <a:ahLst/>
                        <a:rect l="textAreaLeft" t="textAreaTop" r="textAreaRight" b="textAreaBottom"/>
                        <a:pathLst>
                          <a:path w="258" h="102">
                            <a:moveTo>
                              <a:pt x="0" y="46"/>
                            </a:moveTo>
                            <a:lnTo>
                              <a:pt x="71" y="0"/>
                            </a:lnTo>
                            <a:lnTo>
                              <a:pt x="258" y="52"/>
                            </a:lnTo>
                            <a:lnTo>
                              <a:pt x="183" y="102"/>
                            </a:lnTo>
                            <a:lnTo>
                              <a:pt x="0" y="46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7" name="Freeform 1131"/>
                      <p:cNvSpPr/>
                      <p:nvPr/>
                    </p:nvSpPr>
                    <p:spPr>
                      <a:xfrm>
                        <a:off x="5932800" y="3249360"/>
                        <a:ext cx="20880" cy="6840"/>
                      </a:xfrm>
                      <a:custGeom>
                        <a:avLst/>
                        <a:gdLst>
                          <a:gd name="textAreaLeft" fmla="*/ 0 w 20880"/>
                          <a:gd name="textAreaRight" fmla="*/ 20880 w 2088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178" name="Freeform 1132"/>
                    <p:cNvSpPr/>
                    <p:nvPr/>
                  </p:nvSpPr>
                  <p:spPr>
                    <a:xfrm>
                      <a:off x="6043680" y="3227760"/>
                      <a:ext cx="99000" cy="80640"/>
                    </a:xfrm>
                    <a:custGeom>
                      <a:avLst/>
                      <a:gdLst>
                        <a:gd name="textAreaLeft" fmla="*/ 0 w 99000"/>
                        <a:gd name="textAreaRight" fmla="*/ 99360 w 9900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990" h="792">
                          <a:moveTo>
                            <a:pt x="3" y="738"/>
                          </a:moveTo>
                          <a:lnTo>
                            <a:pt x="990" y="0"/>
                          </a:lnTo>
                          <a:lnTo>
                            <a:pt x="987" y="60"/>
                          </a:lnTo>
                          <a:lnTo>
                            <a:pt x="0" y="792"/>
                          </a:lnTo>
                          <a:lnTo>
                            <a:pt x="3" y="738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9" name="Freeform 1133"/>
                    <p:cNvSpPr/>
                    <p:nvPr/>
                  </p:nvSpPr>
                  <p:spPr>
                    <a:xfrm>
                      <a:off x="5789880" y="3234240"/>
                      <a:ext cx="254160" cy="73800"/>
                    </a:xfrm>
                    <a:custGeom>
                      <a:avLst/>
                      <a:gdLst>
                        <a:gd name="textAreaLeft" fmla="*/ 0 w 254160"/>
                        <a:gd name="textAreaRight" fmla="*/ 254520 w 254160"/>
                        <a:gd name="textAreaTop" fmla="*/ 0 h 73800"/>
                        <a:gd name="textAreaBottom" fmla="*/ 74160 h 7380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0" name="Freeform 1134"/>
                    <p:cNvSpPr/>
                    <p:nvPr/>
                  </p:nvSpPr>
                  <p:spPr>
                    <a:xfrm>
                      <a:off x="5790240" y="3220560"/>
                      <a:ext cx="2520" cy="1476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26" h="147">
                          <a:moveTo>
                            <a:pt x="26" y="10"/>
                          </a:moveTo>
                          <a:lnTo>
                            <a:pt x="23" y="147"/>
                          </a:lnTo>
                          <a:lnTo>
                            <a:pt x="0" y="144"/>
                          </a:lnTo>
                          <a:lnTo>
                            <a:pt x="3" y="0"/>
                          </a:lnTo>
                          <a:lnTo>
                            <a:pt x="26" y="1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1" name="Freeform 1135"/>
                    <p:cNvSpPr/>
                    <p:nvPr/>
                  </p:nvSpPr>
                  <p:spPr>
                    <a:xfrm>
                      <a:off x="5790240" y="3159720"/>
                      <a:ext cx="118080" cy="61560"/>
                    </a:xfrm>
                    <a:custGeom>
                      <a:avLst/>
                      <a:gdLst>
                        <a:gd name="textAreaLeft" fmla="*/ 0 w 118080"/>
                        <a:gd name="textAreaRight" fmla="*/ 118440 w 118080"/>
                        <a:gd name="textAreaTop" fmla="*/ 0 h 61560"/>
                        <a:gd name="textAreaBottom" fmla="*/ 61920 h 61560"/>
                      </a:gdLst>
                      <a:ahLst/>
                      <a:rect l="textAreaLeft" t="textAreaTop" r="textAreaRight" b="textAreaBottom"/>
                      <a:pathLst>
                        <a:path w="1176" h="606">
                          <a:moveTo>
                            <a:pt x="1170" y="0"/>
                          </a:moveTo>
                          <a:lnTo>
                            <a:pt x="0" y="597"/>
                          </a:lnTo>
                          <a:lnTo>
                            <a:pt x="30" y="606"/>
                          </a:lnTo>
                          <a:lnTo>
                            <a:pt x="1176" y="18"/>
                          </a:lnTo>
                          <a:lnTo>
                            <a:pt x="1170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2" name="Freeform 1136"/>
                    <p:cNvSpPr/>
                    <p:nvPr/>
                  </p:nvSpPr>
                  <p:spPr>
                    <a:xfrm>
                      <a:off x="5798160" y="3223800"/>
                      <a:ext cx="240840" cy="70920"/>
                    </a:xfrm>
                    <a:custGeom>
                      <a:avLst/>
                      <a:gdLst>
                        <a:gd name="textAreaLeft" fmla="*/ 0 w 240840"/>
                        <a:gd name="textAreaRight" fmla="*/ 241200 w 24084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3" name="Freeform 1137"/>
                    <p:cNvSpPr/>
                    <p:nvPr/>
                  </p:nvSpPr>
                  <p:spPr>
                    <a:xfrm flipV="1">
                      <a:off x="6039000" y="3218760"/>
                      <a:ext cx="98280" cy="73440"/>
                    </a:xfrm>
                    <a:custGeom>
                      <a:avLst/>
                      <a:gdLst>
                        <a:gd name="textAreaLeft" fmla="*/ 0 w 98280"/>
                        <a:gd name="textAreaRight" fmla="*/ 98640 w 98280"/>
                        <a:gd name="textAreaTop" fmla="*/ 360 h 73440"/>
                        <a:gd name="textAreaBottom" fmla="*/ 74160 h 7344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4" name="Group 1139"/>
                  <p:cNvGrpSpPr/>
                  <p:nvPr/>
                </p:nvGrpSpPr>
                <p:grpSpPr>
                  <a:xfrm>
                    <a:off x="6147720" y="3088080"/>
                    <a:ext cx="414360" cy="372960"/>
                    <a:chOff x="6147720" y="3088080"/>
                    <a:chExt cx="414360" cy="372960"/>
                  </a:xfrm>
                </p:grpSpPr>
                <p:pic>
                  <p:nvPicPr>
                    <p:cNvPr id="6185" name="Picture 1140" descr="desktop_computer_stylized_medium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 flipH="1">
                      <a:off x="6147720" y="3088080"/>
                      <a:ext cx="414360" cy="37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86" name="Freeform 1141"/>
                    <p:cNvSpPr/>
                    <p:nvPr/>
                  </p:nvSpPr>
                  <p:spPr>
                    <a:xfrm flipH="1">
                      <a:off x="6324840" y="3123720"/>
                      <a:ext cx="195120" cy="171000"/>
                    </a:xfrm>
                    <a:custGeom>
                      <a:avLst/>
                      <a:gdLst>
                        <a:gd name="textAreaLeft" fmla="*/ 360 w 195120"/>
                        <a:gd name="textAreaRight" fmla="*/ 195840 w 195120"/>
                        <a:gd name="textAreaTop" fmla="*/ 0 h 171000"/>
                        <a:gd name="textAreaBottom" fmla="*/ 171360 h 171000"/>
                      </a:gdLst>
                      <a:ahLst/>
                      <a:rect l="textAreaLeft" t="textAreaTop" r="textAreaRight" b="textAreaBottom"/>
                      <a:pathLst>
                        <a:path w="356" h="368">
                          <a:moveTo>
                            <a:pt x="0" y="0"/>
                          </a:moveTo>
                          <a:lnTo>
                            <a:pt x="300" y="14"/>
                          </a:lnTo>
                          <a:lnTo>
                            <a:pt x="356" y="294"/>
                          </a:lnTo>
                          <a:lnTo>
                            <a:pt x="78" y="36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99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7" name="Group 1142"/>
                  <p:cNvGrpSpPr/>
                  <p:nvPr/>
                </p:nvGrpSpPr>
                <p:grpSpPr>
                  <a:xfrm>
                    <a:off x="7515360" y="5288400"/>
                    <a:ext cx="474120" cy="414000"/>
                    <a:chOff x="7515360" y="5288400"/>
                    <a:chExt cx="474120" cy="414000"/>
                  </a:xfrm>
                </p:grpSpPr>
                <p:pic>
                  <p:nvPicPr>
                    <p:cNvPr id="6188" name="Picture 1143" descr="antenna_stylized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515360" y="5288400"/>
                      <a:ext cx="470880" cy="2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189" name="Picture 1144" descr="laptop_keyboard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 flipH="1" rot="108600">
                      <a:off x="7537680" y="5536440"/>
                      <a:ext cx="38772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90" name="Freeform 1145"/>
                    <p:cNvSpPr/>
                    <p:nvPr/>
                  </p:nvSpPr>
                  <p:spPr>
                    <a:xfrm>
                      <a:off x="7666560" y="5382000"/>
                      <a:ext cx="312120" cy="208080"/>
                    </a:xfrm>
                    <a:custGeom>
                      <a:avLst/>
                      <a:gdLst>
                        <a:gd name="textAreaLeft" fmla="*/ 0 w 312120"/>
                        <a:gd name="textAreaRight" fmla="*/ 312480 w 312120"/>
                        <a:gd name="textAreaTop" fmla="*/ 0 h 208080"/>
                        <a:gd name="textAreaBottom" fmla="*/ 208440 h 208080"/>
                      </a:gdLst>
                      <a:ahLst/>
                      <a:rect l="textAreaLeft" t="textAreaTop" r="textAreaRight" b="textAreaBottom"/>
                      <a:pathLst>
                        <a:path w="2982" h="2442">
                          <a:moveTo>
                            <a:pt x="540" y="0"/>
                          </a:moveTo>
                          <a:lnTo>
                            <a:pt x="0" y="1734"/>
                          </a:lnTo>
                          <a:lnTo>
                            <a:pt x="2394" y="2442"/>
                          </a:lnTo>
                          <a:lnTo>
                            <a:pt x="2982" y="318"/>
                          </a:lnTo>
                          <a:lnTo>
                            <a:pt x="5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6191" name="Picture 1146" descr="screen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682040" y="5387400"/>
                      <a:ext cx="283680" cy="18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192" name="Freeform 1147"/>
                    <p:cNvSpPr/>
                    <p:nvPr/>
                  </p:nvSpPr>
                  <p:spPr>
                    <a:xfrm>
                      <a:off x="7723440" y="5375880"/>
                      <a:ext cx="264600" cy="38520"/>
                    </a:xfrm>
                    <a:custGeom>
                      <a:avLst/>
                      <a:gdLst>
                        <a:gd name="textAreaLeft" fmla="*/ 0 w 264600"/>
                        <a:gd name="textAreaRight" fmla="*/ 264960 w 264600"/>
                        <a:gd name="textAreaTop" fmla="*/ 0 h 38520"/>
                        <a:gd name="textAreaBottom" fmla="*/ 38880 h 38520"/>
                      </a:gdLst>
                      <a:ahLst/>
                      <a:rect l="textAreaLeft" t="textAreaTop" r="textAreaRight" b="textAreaBottom"/>
                      <a:pathLst>
                        <a:path w="2528" h="455">
                          <a:moveTo>
                            <a:pt x="14" y="0"/>
                          </a:moveTo>
                          <a:lnTo>
                            <a:pt x="2528" y="341"/>
                          </a:lnTo>
                          <a:lnTo>
                            <a:pt x="2480" y="455"/>
                          </a:lnTo>
                          <a:lnTo>
                            <a:pt x="0" y="86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3" name="Freeform 1148"/>
                    <p:cNvSpPr/>
                    <p:nvPr/>
                  </p:nvSpPr>
                  <p:spPr>
                    <a:xfrm>
                      <a:off x="7663680" y="5375520"/>
                      <a:ext cx="73440" cy="161280"/>
                    </a:xfrm>
                    <a:custGeom>
                      <a:avLst/>
                      <a:gdLst>
                        <a:gd name="textAreaLeft" fmla="*/ 0 w 73440"/>
                        <a:gd name="textAreaRight" fmla="*/ 73800 w 73440"/>
                        <a:gd name="textAreaTop" fmla="*/ 0 h 161280"/>
                        <a:gd name="textAreaBottom" fmla="*/ 161640 h 161280"/>
                      </a:gdLst>
                      <a:ahLst/>
                      <a:rect l="textAreaLeft" t="textAreaTop" r="textAreaRight" b="textAreaBottom"/>
                      <a:pathLst>
                        <a:path w="702" h="1893">
                          <a:moveTo>
                            <a:pt x="579" y="0"/>
                          </a:moveTo>
                          <a:lnTo>
                            <a:pt x="0" y="1869"/>
                          </a:lnTo>
                          <a:lnTo>
                            <a:pt x="114" y="1893"/>
                          </a:lnTo>
                          <a:lnTo>
                            <a:pt x="702" y="51"/>
                          </a:lnTo>
                          <a:lnTo>
                            <a:pt x="579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4" name="Freeform 1149"/>
                    <p:cNvSpPr/>
                    <p:nvPr/>
                  </p:nvSpPr>
                  <p:spPr>
                    <a:xfrm>
                      <a:off x="7907040" y="5404320"/>
                      <a:ext cx="78840" cy="186120"/>
                    </a:xfrm>
                    <a:custGeom>
                      <a:avLst/>
                      <a:gdLst>
                        <a:gd name="textAreaLeft" fmla="*/ 0 w 78840"/>
                        <a:gd name="textAreaRight" fmla="*/ 79200 w 78840"/>
                        <a:gd name="textAreaTop" fmla="*/ 0 h 186120"/>
                        <a:gd name="textAreaBottom" fmla="*/ 186480 h 186120"/>
                      </a:gdLst>
                      <a:ahLst/>
                      <a:rect l="textAreaLeft" t="textAreaTop" r="textAreaRight" b="textAreaBottom"/>
                      <a:pathLst>
                        <a:path w="756" h="2184">
                          <a:moveTo>
                            <a:pt x="756" y="0"/>
                          </a:moveTo>
                          <a:lnTo>
                            <a:pt x="138" y="2184"/>
                          </a:lnTo>
                          <a:lnTo>
                            <a:pt x="0" y="2148"/>
                          </a:lnTo>
                          <a:lnTo>
                            <a:pt x="606" y="78"/>
                          </a:lnTo>
                          <a:lnTo>
                            <a:pt x="756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5" name="Freeform 1150"/>
                    <p:cNvSpPr/>
                    <p:nvPr/>
                  </p:nvSpPr>
                  <p:spPr>
                    <a:xfrm>
                      <a:off x="7662960" y="5528520"/>
                      <a:ext cx="290160" cy="62640"/>
                    </a:xfrm>
                    <a:custGeom>
                      <a:avLst/>
                      <a:gdLst>
                        <a:gd name="textAreaLeft" fmla="*/ 0 w 290160"/>
                        <a:gd name="textAreaRight" fmla="*/ 290520 w 2901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w="2773" h="738">
                          <a:moveTo>
                            <a:pt x="33" y="0"/>
                          </a:moveTo>
                          <a:lnTo>
                            <a:pt x="0" y="99"/>
                          </a:lnTo>
                          <a:lnTo>
                            <a:pt x="2436" y="738"/>
                          </a:lnTo>
                          <a:cubicBezTo>
                            <a:pt x="2499" y="501"/>
                            <a:pt x="2773" y="727"/>
                            <a:pt x="2373" y="603"/>
                          </a:cubicBezTo>
                          <a:lnTo>
                            <a:pt x="33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0000c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6" name="Freeform 1151"/>
                    <p:cNvSpPr/>
                    <p:nvPr/>
                  </p:nvSpPr>
                  <p:spPr>
                    <a:xfrm>
                      <a:off x="7915680" y="5405760"/>
                      <a:ext cx="73800" cy="186840"/>
                    </a:xfrm>
                    <a:custGeom>
                      <a:avLst/>
                      <a:gdLst>
                        <a:gd name="textAreaLeft" fmla="*/ 0 w 73800"/>
                        <a:gd name="textAreaRight" fmla="*/ 74160 w 73800"/>
                        <a:gd name="textAreaTop" fmla="*/ 0 h 186840"/>
                        <a:gd name="textAreaBottom" fmla="*/ 187200 h 186840"/>
                      </a:gdLst>
                      <a:ahLst/>
                      <a:rect l="textAreaLeft" t="textAreaTop" r="textAreaRight" b="textAreaBottom"/>
                      <a:pathLst>
                        <a:path w="637" h="1659">
                          <a:moveTo>
                            <a:pt x="615" y="0"/>
                          </a:moveTo>
                          <a:lnTo>
                            <a:pt x="637" y="0"/>
                          </a:lnTo>
                          <a:lnTo>
                            <a:pt x="68" y="1659"/>
                          </a:lnTo>
                          <a:lnTo>
                            <a:pt x="0" y="1647"/>
                          </a:lnTo>
                          <a:lnTo>
                            <a:pt x="615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7" name="Freeform 1152"/>
                    <p:cNvSpPr/>
                    <p:nvPr/>
                  </p:nvSpPr>
                  <p:spPr>
                    <a:xfrm>
                      <a:off x="7663320" y="5536800"/>
                      <a:ext cx="258120" cy="61920"/>
                    </a:xfrm>
                    <a:custGeom>
                      <a:avLst/>
                      <a:gdLst>
                        <a:gd name="textAreaLeft" fmla="*/ 0 w 258120"/>
                        <a:gd name="textAreaRight" fmla="*/ 258480 w 25812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216" h="550">
                          <a:moveTo>
                            <a:pt x="0" y="0"/>
                          </a:moveTo>
                          <a:lnTo>
                            <a:pt x="9" y="57"/>
                          </a:lnTo>
                          <a:lnTo>
                            <a:pt x="2164" y="550"/>
                          </a:lnTo>
                          <a:lnTo>
                            <a:pt x="2216" y="49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0000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98" name="Group 1153"/>
                    <p:cNvGrpSpPr/>
                    <p:nvPr/>
                  </p:nvGrpSpPr>
                  <p:grpSpPr>
                    <a:xfrm>
                      <a:off x="7659000" y="5603400"/>
                      <a:ext cx="87480" cy="36720"/>
                      <a:chOff x="7659000" y="5603400"/>
                      <a:chExt cx="87480" cy="36720"/>
                    </a:xfrm>
                  </p:grpSpPr>
                  <p:sp>
                    <p:nvSpPr>
                      <p:cNvPr id="6199" name="Freeform 1154"/>
                      <p:cNvSpPr/>
                      <p:nvPr/>
                    </p:nvSpPr>
                    <p:spPr>
                      <a:xfrm>
                        <a:off x="7659000" y="5603400"/>
                        <a:ext cx="87480" cy="36720"/>
                      </a:xfrm>
                      <a:custGeom>
                        <a:avLst/>
                        <a:gdLst>
                          <a:gd name="textAreaLeft" fmla="*/ 0 w 87480"/>
                          <a:gd name="textAreaRight" fmla="*/ 87840 w 87480"/>
                          <a:gd name="textAreaTop" fmla="*/ 0 h 36720"/>
                          <a:gd name="textAreaBottom" fmla="*/ 37080 h 36720"/>
                        </a:gdLst>
                        <a:ahLst/>
                        <a:rect l="textAreaLeft" t="textAreaTop" r="textAreaRight" b="textAreaBottom"/>
                        <a:pathLst>
                          <a:path w="752" h="327">
                            <a:moveTo>
                              <a:pt x="293" y="0"/>
                            </a:moveTo>
                            <a:lnTo>
                              <a:pt x="752" y="124"/>
                            </a:lnTo>
                            <a:lnTo>
                              <a:pt x="470" y="327"/>
                            </a:lnTo>
                            <a:lnTo>
                              <a:pt x="0" y="183"/>
                            </a:lnTo>
                            <a:lnTo>
                              <a:pt x="293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0" name="Freeform 1155"/>
                      <p:cNvSpPr/>
                      <p:nvPr/>
                    </p:nvSpPr>
                    <p:spPr>
                      <a:xfrm>
                        <a:off x="7660440" y="5604120"/>
                        <a:ext cx="84600" cy="34920"/>
                      </a:xfrm>
                      <a:custGeom>
                        <a:avLst/>
                        <a:gdLst>
                          <a:gd name="textAreaLeft" fmla="*/ 0 w 84600"/>
                          <a:gd name="textAreaRight" fmla="*/ 84960 w 8460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726" h="311">
                            <a:moveTo>
                              <a:pt x="282" y="0"/>
                            </a:moveTo>
                            <a:lnTo>
                              <a:pt x="726" y="119"/>
                            </a:lnTo>
                            <a:lnTo>
                              <a:pt x="457" y="311"/>
                            </a:lnTo>
                            <a:lnTo>
                              <a:pt x="0" y="173"/>
                            </a:lnTo>
                            <a:lnTo>
                              <a:pt x="282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ddddd"/>
                          </a:gs>
                          <a:gs pos="100000">
                            <a:srgbClr val="4d4d4d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1" name="Freeform 1156"/>
                      <p:cNvSpPr/>
                      <p:nvPr/>
                    </p:nvSpPr>
                    <p:spPr>
                      <a:xfrm>
                        <a:off x="7666920" y="5617800"/>
                        <a:ext cx="29880" cy="11160"/>
                      </a:xfrm>
                      <a:custGeom>
                        <a:avLst/>
                        <a:gdLst>
                          <a:gd name="textAreaLeft" fmla="*/ 0 w 29880"/>
                          <a:gd name="textAreaRight" fmla="*/ 30240 w 298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258" h="100">
                            <a:moveTo>
                              <a:pt x="0" y="44"/>
                            </a:moveTo>
                            <a:lnTo>
                              <a:pt x="75" y="0"/>
                            </a:lnTo>
                            <a:lnTo>
                              <a:pt x="258" y="50"/>
                            </a:lnTo>
                            <a:lnTo>
                              <a:pt x="183" y="100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2" name="Freeform 1157"/>
                      <p:cNvSpPr/>
                      <p:nvPr/>
                    </p:nvSpPr>
                    <p:spPr>
                      <a:xfrm>
                        <a:off x="7665840" y="5622840"/>
                        <a:ext cx="22320" cy="68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3" name="Freeform 1158"/>
                      <p:cNvSpPr/>
                      <p:nvPr/>
                    </p:nvSpPr>
                    <p:spPr>
                      <a:xfrm>
                        <a:off x="7691400" y="5625000"/>
                        <a:ext cx="29880" cy="11520"/>
                      </a:xfrm>
                      <a:custGeom>
                        <a:avLst/>
                        <a:gdLst>
                          <a:gd name="textAreaLeft" fmla="*/ 0 w 29880"/>
                          <a:gd name="textAreaRight" fmla="*/ 30240 w 29880"/>
                          <a:gd name="textAreaTop" fmla="*/ 0 h 11520"/>
                          <a:gd name="textAreaBottom" fmla="*/ 11880 h 11520"/>
                        </a:gdLst>
                        <a:ahLst/>
                        <a:rect l="textAreaLeft" t="textAreaTop" r="textAreaRight" b="textAreaBottom"/>
                        <a:pathLst>
                          <a:path w="258" h="102">
                            <a:moveTo>
                              <a:pt x="0" y="46"/>
                            </a:moveTo>
                            <a:lnTo>
                              <a:pt x="71" y="0"/>
                            </a:lnTo>
                            <a:lnTo>
                              <a:pt x="258" y="52"/>
                            </a:lnTo>
                            <a:lnTo>
                              <a:pt x="183" y="102"/>
                            </a:lnTo>
                            <a:lnTo>
                              <a:pt x="0" y="46"/>
                            </a:lnTo>
                            <a:close/>
                          </a:path>
                        </a:pathLst>
                      </a:custGeom>
                      <a:solidFill>
                        <a:srgbClr val="00cc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4" name="Freeform 1159"/>
                      <p:cNvSpPr/>
                      <p:nvPr/>
                    </p:nvSpPr>
                    <p:spPr>
                      <a:xfrm>
                        <a:off x="7690320" y="5630400"/>
                        <a:ext cx="22320" cy="68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194" h="63">
                            <a:moveTo>
                              <a:pt x="12" y="0"/>
                            </a:moveTo>
                            <a:lnTo>
                              <a:pt x="194" y="53"/>
                            </a:lnTo>
                            <a:lnTo>
                              <a:pt x="180" y="63"/>
                            </a:lnTo>
                            <a:lnTo>
                              <a:pt x="0" y="9"/>
                            </a:lnTo>
                            <a:lnTo>
                              <a:pt x="12" y="0"/>
                            </a:lnTo>
                            <a:close/>
                          </a:path>
                        </a:pathLst>
                      </a:custGeom>
                      <a:solidFill>
                        <a:srgbClr val="0000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205" name="Freeform 1160"/>
                    <p:cNvSpPr/>
                    <p:nvPr/>
                  </p:nvSpPr>
                  <p:spPr>
                    <a:xfrm>
                      <a:off x="7809120" y="5608800"/>
                      <a:ext cx="105840" cy="80640"/>
                    </a:xfrm>
                    <a:custGeom>
                      <a:avLst/>
                      <a:gdLst>
                        <a:gd name="textAreaLeft" fmla="*/ 0 w 105840"/>
                        <a:gd name="textAreaRight" fmla="*/ 106200 w 105840"/>
                        <a:gd name="textAreaTop" fmla="*/ 0 h 80640"/>
                        <a:gd name="textAreaBottom" fmla="*/ 81000 h 80640"/>
                      </a:gdLst>
                      <a:ahLst/>
                      <a:rect l="textAreaLeft" t="textAreaTop" r="textAreaRight" b="textAreaBottom"/>
                      <a:pathLst>
                        <a:path w="990" h="792">
                          <a:moveTo>
                            <a:pt x="3" y="738"/>
                          </a:moveTo>
                          <a:lnTo>
                            <a:pt x="990" y="0"/>
                          </a:lnTo>
                          <a:lnTo>
                            <a:pt x="987" y="60"/>
                          </a:lnTo>
                          <a:lnTo>
                            <a:pt x="0" y="792"/>
                          </a:lnTo>
                          <a:lnTo>
                            <a:pt x="3" y="738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6" name="Freeform 1161"/>
                    <p:cNvSpPr/>
                    <p:nvPr/>
                  </p:nvSpPr>
                  <p:spPr>
                    <a:xfrm>
                      <a:off x="7538040" y="5615280"/>
                      <a:ext cx="271440" cy="7380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73800"/>
                        <a:gd name="textAreaBottom" fmla="*/ 74160 h 7380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7" name="Freeform 1162"/>
                    <p:cNvSpPr/>
                    <p:nvPr/>
                  </p:nvSpPr>
                  <p:spPr>
                    <a:xfrm>
                      <a:off x="7538400" y="5601600"/>
                      <a:ext cx="2880" cy="1476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4760"/>
                        <a:gd name="textAreaBottom" fmla="*/ 15120 h 14760"/>
                      </a:gdLst>
                      <a:ahLst/>
                      <a:rect l="textAreaLeft" t="textAreaTop" r="textAreaRight" b="textAreaBottom"/>
                      <a:pathLst>
                        <a:path w="26" h="147">
                          <a:moveTo>
                            <a:pt x="26" y="10"/>
                          </a:moveTo>
                          <a:lnTo>
                            <a:pt x="23" y="147"/>
                          </a:lnTo>
                          <a:lnTo>
                            <a:pt x="0" y="144"/>
                          </a:lnTo>
                          <a:lnTo>
                            <a:pt x="3" y="0"/>
                          </a:lnTo>
                          <a:lnTo>
                            <a:pt x="26" y="1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8" name="Freeform 1163"/>
                    <p:cNvSpPr/>
                    <p:nvPr/>
                  </p:nvSpPr>
                  <p:spPr>
                    <a:xfrm>
                      <a:off x="7538400" y="5540760"/>
                      <a:ext cx="126000" cy="61560"/>
                    </a:xfrm>
                    <a:custGeom>
                      <a:avLst/>
                      <a:gdLst>
                        <a:gd name="textAreaLeft" fmla="*/ 0 w 126000"/>
                        <a:gd name="textAreaRight" fmla="*/ 126360 w 126000"/>
                        <a:gd name="textAreaTop" fmla="*/ 0 h 61560"/>
                        <a:gd name="textAreaBottom" fmla="*/ 61920 h 61560"/>
                      </a:gdLst>
                      <a:ahLst/>
                      <a:rect l="textAreaLeft" t="textAreaTop" r="textAreaRight" b="textAreaBottom"/>
                      <a:pathLst>
                        <a:path w="1176" h="606">
                          <a:moveTo>
                            <a:pt x="1170" y="0"/>
                          </a:moveTo>
                          <a:lnTo>
                            <a:pt x="0" y="597"/>
                          </a:lnTo>
                          <a:lnTo>
                            <a:pt x="30" y="606"/>
                          </a:lnTo>
                          <a:lnTo>
                            <a:pt x="1176" y="18"/>
                          </a:lnTo>
                          <a:lnTo>
                            <a:pt x="1170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9" name="Freeform 1164"/>
                    <p:cNvSpPr/>
                    <p:nvPr/>
                  </p:nvSpPr>
                  <p:spPr>
                    <a:xfrm>
                      <a:off x="7547040" y="5604840"/>
                      <a:ext cx="257400" cy="70920"/>
                    </a:xfrm>
                    <a:custGeom>
                      <a:avLst/>
                      <a:gdLst>
                        <a:gd name="textAreaLeft" fmla="*/ 0 w 257400"/>
                        <a:gd name="textAreaRight" fmla="*/ 257760 w 257400"/>
                        <a:gd name="textAreaTop" fmla="*/ 0 h 70920"/>
                        <a:gd name="textAreaBottom" fmla="*/ 71280 h 7092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0" name="Freeform 1165"/>
                    <p:cNvSpPr/>
                    <p:nvPr/>
                  </p:nvSpPr>
                  <p:spPr>
                    <a:xfrm flipV="1">
                      <a:off x="7804080" y="5599800"/>
                      <a:ext cx="104760" cy="734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360 h 73440"/>
                        <a:gd name="textAreaBottom" fmla="*/ 74160 h 73440"/>
                      </a:gdLst>
                      <a:ahLst/>
                      <a:rect l="textAreaLeft" t="textAreaTop" r="textAreaRight" b="textAreaBottom"/>
                      <a:pathLst>
                        <a:path w="2532" h="723">
                          <a:moveTo>
                            <a:pt x="6" y="0"/>
                          </a:moveTo>
                          <a:cubicBezTo>
                            <a:pt x="16" y="0"/>
                            <a:pt x="26" y="0"/>
                            <a:pt x="36" y="0"/>
                          </a:cubicBezTo>
                          <a:lnTo>
                            <a:pt x="2532" y="678"/>
                          </a:lnTo>
                          <a:lnTo>
                            <a:pt x="2529" y="723"/>
                          </a:lnTo>
                          <a:lnTo>
                            <a:pt x="0" y="24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11" name="Arc 379"/>
                <p:cNvSpPr/>
                <p:nvPr/>
              </p:nvSpPr>
              <p:spPr>
                <a:xfrm flipH="1">
                  <a:off x="5790960" y="1630440"/>
                  <a:ext cx="304560" cy="685800"/>
                </a:xfrm>
                <a:custGeom>
                  <a:avLst/>
                  <a:gdLst/>
                  <a:ahLst/>
                  <a:rect l="l" t="t" r="r" b="b"/>
                  <a:pathLst>
                    <a:path stroke="0" w="304800" h="685867">
                      <a:moveTo>
                        <a:pt x="152400" y="0"/>
                      </a:moveTo>
                      <a:cubicBezTo>
                        <a:pt x="236568" y="0"/>
                        <a:pt x="304800" y="153537"/>
                        <a:pt x="304800" y="342934"/>
                      </a:cubicBezTo>
                      <a:lnTo>
                        <a:pt x="152400" y="342934"/>
                      </a:lnTo>
                      <a:lnTo>
                        <a:pt x="152400" y="0"/>
                      </a:lnTo>
                      <a:close/>
                    </a:path>
                    <a:path fill="none" w="304800" h="685867">
                      <a:moveTo>
                        <a:pt x="152400" y="0"/>
                      </a:moveTo>
                      <a:cubicBezTo>
                        <a:pt x="236568" y="0"/>
                        <a:pt x="304800" y="153537"/>
                        <a:pt x="304800" y="342934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2" name="Arc 380"/>
                <p:cNvSpPr/>
                <p:nvPr/>
              </p:nvSpPr>
              <p:spPr>
                <a:xfrm flipH="1" rot="20304000">
                  <a:off x="5921640" y="2239560"/>
                  <a:ext cx="304560" cy="1600200"/>
                </a:xfrm>
                <a:custGeom>
                  <a:avLst/>
                  <a:gdLst/>
                  <a:ahLst/>
                  <a:rect l="l" t="t" r="r" b="b"/>
                  <a:pathLst>
                    <a:path stroke="0" w="304800" h="1600357">
                      <a:moveTo>
                        <a:pt x="152400" y="0"/>
                      </a:moveTo>
                      <a:cubicBezTo>
                        <a:pt x="236568" y="0"/>
                        <a:pt x="304800" y="358252"/>
                        <a:pt x="304800" y="800179"/>
                      </a:cubicBezTo>
                      <a:lnTo>
                        <a:pt x="152400" y="800179"/>
                      </a:lnTo>
                      <a:lnTo>
                        <a:pt x="152400" y="0"/>
                      </a:lnTo>
                      <a:close/>
                    </a:path>
                    <a:path fill="none" w="304800" h="1600357">
                      <a:moveTo>
                        <a:pt x="152400" y="0"/>
                      </a:moveTo>
                      <a:cubicBezTo>
                        <a:pt x="236568" y="0"/>
                        <a:pt x="304800" y="358252"/>
                        <a:pt x="304800" y="80017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3" name="Straight Connector 384"/>
                <p:cNvSpPr/>
                <p:nvPr/>
              </p:nvSpPr>
              <p:spPr>
                <a:xfrm flipH="1">
                  <a:off x="6019560" y="3229200"/>
                  <a:ext cx="23760" cy="16779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4" name="Arc 388"/>
                <p:cNvSpPr/>
                <p:nvPr/>
              </p:nvSpPr>
              <p:spPr>
                <a:xfrm flipH="1" rot="10233000">
                  <a:off x="6095520" y="685800"/>
                  <a:ext cx="1984320" cy="4769280"/>
                </a:xfrm>
                <a:custGeom>
                  <a:avLst/>
                  <a:gdLst/>
                  <a:ahLst/>
                  <a:rect l="l" t="t" r="r" b="b"/>
                  <a:pathLst>
                    <a:path stroke="0" w="1984374" h="4769319">
                      <a:moveTo>
                        <a:pt x="1023311" y="1174"/>
                      </a:moveTo>
                      <a:cubicBezTo>
                        <a:pt x="1499464" y="37090"/>
                        <a:pt x="1897791" y="881288"/>
                        <a:pt x="1972197" y="2012204"/>
                      </a:cubicBezTo>
                      <a:cubicBezTo>
                        <a:pt x="2002623" y="2474659"/>
                        <a:pt x="1975734" y="2948409"/>
                        <a:pt x="1894883" y="3374381"/>
                      </a:cubicBezTo>
                      <a:cubicBezTo>
                        <a:pt x="1593328" y="4963151"/>
                        <a:pt x="706926" y="5259730"/>
                        <a:pt x="236287" y="3929326"/>
                      </a:cubicBezTo>
                      <a:lnTo>
                        <a:pt x="992187" y="2384660"/>
                      </a:lnTo>
                      <a:lnTo>
                        <a:pt x="1023311" y="1174"/>
                      </a:lnTo>
                      <a:close/>
                    </a:path>
                    <a:path fill="none" w="1984374" h="4769319">
                      <a:moveTo>
                        <a:pt x="1023311" y="1174"/>
                      </a:moveTo>
                      <a:cubicBezTo>
                        <a:pt x="1499464" y="37090"/>
                        <a:pt x="1897791" y="881288"/>
                        <a:pt x="1972197" y="2012204"/>
                      </a:cubicBezTo>
                      <a:cubicBezTo>
                        <a:pt x="2002623" y="2474659"/>
                        <a:pt x="1975734" y="2948409"/>
                        <a:pt x="1894883" y="3374381"/>
                      </a:cubicBezTo>
                      <a:cubicBezTo>
                        <a:pt x="1593328" y="4963151"/>
                        <a:pt x="706926" y="5259730"/>
                        <a:pt x="236287" y="3929326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5" name="Arc 386"/>
              <p:cNvSpPr/>
              <p:nvPr/>
            </p:nvSpPr>
            <p:spPr>
              <a:xfrm flipH="1" flipV="1" rot="20181000">
                <a:off x="6083640" y="4230360"/>
                <a:ext cx="1670040" cy="1582560"/>
              </a:xfrm>
              <a:custGeom>
                <a:avLst/>
                <a:gdLst/>
                <a:ahLst/>
                <a:rect l="l" t="t" r="r" b="b"/>
                <a:pathLst>
                  <a:path stroke="0" w="1670050" h="1582893">
                    <a:moveTo>
                      <a:pt x="835025" y="0"/>
                    </a:moveTo>
                    <a:cubicBezTo>
                      <a:pt x="1082464" y="0"/>
                      <a:pt x="1317161" y="104013"/>
                      <a:pt x="1475814" y="283986"/>
                    </a:cubicBezTo>
                    <a:cubicBezTo>
                      <a:pt x="1646632" y="477758"/>
                      <a:pt x="1709645" y="737155"/>
                      <a:pt x="1645429" y="982218"/>
                    </a:cubicBezTo>
                    <a:lnTo>
                      <a:pt x="835025" y="791447"/>
                    </a:lnTo>
                    <a:lnTo>
                      <a:pt x="835025" y="0"/>
                    </a:lnTo>
                    <a:close/>
                  </a:path>
                  <a:path fill="none" w="1670050" h="1582893">
                    <a:moveTo>
                      <a:pt x="835025" y="0"/>
                    </a:moveTo>
                    <a:cubicBezTo>
                      <a:pt x="1082464" y="0"/>
                      <a:pt x="1317161" y="104013"/>
                      <a:pt x="1475814" y="283986"/>
                    </a:cubicBezTo>
                    <a:cubicBezTo>
                      <a:pt x="1646632" y="477758"/>
                      <a:pt x="1709645" y="737155"/>
                      <a:pt x="1645429" y="982218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6" name="TextBox 391"/>
            <p:cNvSpPr/>
            <p:nvPr/>
          </p:nvSpPr>
          <p:spPr>
            <a:xfrm>
              <a:off x="5581080" y="5943240"/>
              <a:ext cx="329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verlay network</a:t>
              </a:r>
              <a:r>
                <a:rPr b="0" lang="ja-JP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Oval 3"/>
          <p:cNvSpPr/>
          <p:nvPr/>
        </p:nvSpPr>
        <p:spPr>
          <a:xfrm>
            <a:off x="4691160" y="579924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8" name="Oval 4"/>
          <p:cNvSpPr/>
          <p:nvPr/>
        </p:nvSpPr>
        <p:spPr>
          <a:xfrm>
            <a:off x="2925720" y="320508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9" name="Oval 5"/>
          <p:cNvSpPr/>
          <p:nvPr/>
        </p:nvSpPr>
        <p:spPr>
          <a:xfrm>
            <a:off x="2957400" y="468936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0" name="Oval 6"/>
          <p:cNvSpPr/>
          <p:nvPr/>
        </p:nvSpPr>
        <p:spPr>
          <a:xfrm>
            <a:off x="6243480" y="27892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Oval 7"/>
          <p:cNvSpPr/>
          <p:nvPr/>
        </p:nvSpPr>
        <p:spPr>
          <a:xfrm>
            <a:off x="6624720" y="397836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Oval 8"/>
          <p:cNvSpPr/>
          <p:nvPr/>
        </p:nvSpPr>
        <p:spPr>
          <a:xfrm>
            <a:off x="6262560" y="498168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Oval 9"/>
          <p:cNvSpPr/>
          <p:nvPr/>
        </p:nvSpPr>
        <p:spPr>
          <a:xfrm>
            <a:off x="3648240" y="5467320"/>
            <a:ext cx="12528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Oval 10"/>
          <p:cNvSpPr/>
          <p:nvPr/>
        </p:nvSpPr>
        <p:spPr>
          <a:xfrm>
            <a:off x="2849400" y="2058840"/>
            <a:ext cx="3802320" cy="381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Text Box 11"/>
          <p:cNvSpPr/>
          <p:nvPr/>
        </p:nvSpPr>
        <p:spPr>
          <a:xfrm>
            <a:off x="4607640" y="1652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6" name="Rectangle 12"/>
          <p:cNvSpPr/>
          <p:nvPr/>
        </p:nvSpPr>
        <p:spPr>
          <a:xfrm>
            <a:off x="6099120" y="23623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7" name="Rectangle 13"/>
          <p:cNvSpPr/>
          <p:nvPr/>
        </p:nvSpPr>
        <p:spPr>
          <a:xfrm>
            <a:off x="6791400" y="38908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8" name="Rectangle 14"/>
          <p:cNvSpPr/>
          <p:nvPr/>
        </p:nvSpPr>
        <p:spPr>
          <a:xfrm>
            <a:off x="6497640" y="4896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9" name="Rectangle 15"/>
          <p:cNvSpPr/>
          <p:nvPr/>
        </p:nvSpPr>
        <p:spPr>
          <a:xfrm>
            <a:off x="4870440" y="5850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0" name="Rectangle 16"/>
          <p:cNvSpPr/>
          <p:nvPr/>
        </p:nvSpPr>
        <p:spPr>
          <a:xfrm>
            <a:off x="3355920" y="56386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1" name="Rectangle 17"/>
          <p:cNvSpPr/>
          <p:nvPr/>
        </p:nvSpPr>
        <p:spPr>
          <a:xfrm>
            <a:off x="2441520" y="44956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2" name="Rectangle 18"/>
          <p:cNvSpPr/>
          <p:nvPr/>
        </p:nvSpPr>
        <p:spPr>
          <a:xfrm>
            <a:off x="2441520" y="29718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3" name="Group 19"/>
          <p:cNvGrpSpPr/>
          <p:nvPr/>
        </p:nvGrpSpPr>
        <p:grpSpPr>
          <a:xfrm>
            <a:off x="6530040" y="1447920"/>
            <a:ext cx="2693880" cy="1221840"/>
            <a:chOff x="6530040" y="1447920"/>
            <a:chExt cx="2693880" cy="1221840"/>
          </a:xfrm>
        </p:grpSpPr>
        <p:sp>
          <p:nvSpPr>
            <p:cNvPr id="6234" name="AutoShape 20"/>
            <p:cNvSpPr/>
            <p:nvPr/>
          </p:nvSpPr>
          <p:spPr>
            <a:xfrm>
              <a:off x="6616800" y="1447920"/>
              <a:ext cx="2354040" cy="122184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Text Box 21"/>
            <p:cNvSpPr/>
            <p:nvPr/>
          </p:nvSpPr>
          <p:spPr>
            <a:xfrm>
              <a:off x="6530040" y="1700280"/>
              <a:ext cx="269388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alibri"/>
                </a:rPr>
                <a:t>What is the value</a:t>
              </a:r>
              <a:br>
                <a:rPr sz="2000"/>
              </a:br>
              <a:r>
                <a:rPr b="0" lang="en-US" sz="2000" spc="-1" strike="noStrike">
                  <a:solidFill>
                    <a:srgbClr val="cc0000"/>
                  </a:solidFill>
                  <a:latin typeface="Calibri"/>
                </a:rPr>
                <a:t>associated with key 53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6" name="Line 22"/>
          <p:cNvSpPr/>
          <p:nvPr/>
        </p:nvSpPr>
        <p:spPr>
          <a:xfrm>
            <a:off x="6323040" y="3003480"/>
            <a:ext cx="288720" cy="952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7" name="Line 23"/>
          <p:cNvSpPr/>
          <p:nvPr/>
        </p:nvSpPr>
        <p:spPr>
          <a:xfrm flipH="1">
            <a:off x="6303960" y="4164120"/>
            <a:ext cx="301680" cy="79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8" name="Line 24"/>
          <p:cNvSpPr/>
          <p:nvPr/>
        </p:nvSpPr>
        <p:spPr>
          <a:xfrm flipH="1">
            <a:off x="4863600" y="5100480"/>
            <a:ext cx="1282680" cy="669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9" name="Line 25"/>
          <p:cNvSpPr/>
          <p:nvPr/>
        </p:nvSpPr>
        <p:spPr>
          <a:xfrm flipH="1" flipV="1">
            <a:off x="3855960" y="5521320"/>
            <a:ext cx="812880" cy="26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0" name="Line 26"/>
          <p:cNvSpPr/>
          <p:nvPr/>
        </p:nvSpPr>
        <p:spPr>
          <a:xfrm flipH="1" flipV="1">
            <a:off x="3110040" y="4793760"/>
            <a:ext cx="552240" cy="621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1" name="Line 27"/>
          <p:cNvSpPr/>
          <p:nvPr/>
        </p:nvSpPr>
        <p:spPr>
          <a:xfrm flipH="1" flipV="1">
            <a:off x="2960640" y="3422520"/>
            <a:ext cx="52560" cy="1198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2" name="Oval 28"/>
          <p:cNvSpPr/>
          <p:nvPr/>
        </p:nvSpPr>
        <p:spPr>
          <a:xfrm>
            <a:off x="4844880" y="2004840"/>
            <a:ext cx="125640" cy="135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3" name="Group 29"/>
          <p:cNvGrpSpPr/>
          <p:nvPr/>
        </p:nvGrpSpPr>
        <p:grpSpPr>
          <a:xfrm>
            <a:off x="2968560" y="2252520"/>
            <a:ext cx="3049560" cy="933120"/>
            <a:chOff x="2968560" y="2252520"/>
            <a:chExt cx="3049560" cy="933120"/>
          </a:xfrm>
        </p:grpSpPr>
        <p:grpSp>
          <p:nvGrpSpPr>
            <p:cNvPr id="6244" name="Group 30"/>
            <p:cNvGrpSpPr/>
            <p:nvPr/>
          </p:nvGrpSpPr>
          <p:grpSpPr>
            <a:xfrm>
              <a:off x="2968560" y="2252520"/>
              <a:ext cx="3049560" cy="933120"/>
              <a:chOff x="2968560" y="2252520"/>
              <a:chExt cx="3049560" cy="933120"/>
            </a:xfrm>
          </p:grpSpPr>
          <p:sp>
            <p:nvSpPr>
              <p:cNvPr id="6245" name="Line 31"/>
              <p:cNvSpPr/>
              <p:nvPr/>
            </p:nvSpPr>
            <p:spPr>
              <a:xfrm flipV="1">
                <a:off x="3081240" y="2877840"/>
                <a:ext cx="2936880" cy="30780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6" name="AutoShape 32"/>
              <p:cNvSpPr/>
              <p:nvPr/>
            </p:nvSpPr>
            <p:spPr>
              <a:xfrm>
                <a:off x="2968560" y="2252520"/>
                <a:ext cx="1096920" cy="609840"/>
              </a:xfrm>
              <a:prstGeom prst="wedgeRoundRectCallout">
                <a:avLst>
                  <a:gd name="adj1" fmla="val 17439"/>
                  <a:gd name="adj2" fmla="val 87759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7" name="Text Box 33"/>
            <p:cNvSpPr/>
            <p:nvPr/>
          </p:nvSpPr>
          <p:spPr>
            <a:xfrm>
              <a:off x="3029040" y="227160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Calibri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8" name="Text Box 34"/>
          <p:cNvSpPr/>
          <p:nvPr/>
        </p:nvSpPr>
        <p:spPr>
          <a:xfrm>
            <a:off x="-450360" y="5029200"/>
            <a:ext cx="4204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avgerage to re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ery, when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esolving a que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6250" name="Picture 23" descr="underline_base"/>
          <p:cNvPicPr/>
          <p:nvPr/>
        </p:nvPicPr>
        <p:blipFill>
          <a:blip r:embed="rId1"/>
          <a:stretch/>
        </p:blipFill>
        <p:spPr>
          <a:xfrm>
            <a:off x="558720" y="876240"/>
            <a:ext cx="4113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ircular DHT with shortcu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2" name=""/>
          <p:cNvSpPr txBox="1"/>
          <p:nvPr/>
        </p:nvSpPr>
        <p:spPr>
          <a:xfrm>
            <a:off x="647640" y="466740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eeps track of IP addresses of predecessor, successor, short cu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uced from 6 to 3 messag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sible to design shortcuts with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(log N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s in qu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53" name="Group 66"/>
          <p:cNvGrpSpPr/>
          <p:nvPr/>
        </p:nvGrpSpPr>
        <p:grpSpPr>
          <a:xfrm>
            <a:off x="2246400" y="914400"/>
            <a:ext cx="3884040" cy="3660480"/>
            <a:chOff x="2246400" y="914400"/>
            <a:chExt cx="3884040" cy="3660480"/>
          </a:xfrm>
        </p:grpSpPr>
        <p:grpSp>
          <p:nvGrpSpPr>
            <p:cNvPr id="6254" name="Group 43"/>
            <p:cNvGrpSpPr/>
            <p:nvPr/>
          </p:nvGrpSpPr>
          <p:grpSpPr>
            <a:xfrm>
              <a:off x="2246400" y="914400"/>
              <a:ext cx="3884040" cy="3660480"/>
              <a:chOff x="2246400" y="914400"/>
              <a:chExt cx="3884040" cy="3660480"/>
            </a:xfrm>
          </p:grpSpPr>
          <p:sp>
            <p:nvSpPr>
              <p:cNvPr id="6255" name="Oval 3"/>
              <p:cNvSpPr/>
              <p:nvPr/>
            </p:nvSpPr>
            <p:spPr>
              <a:xfrm>
                <a:off x="4089960" y="4029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6" name="Oval 4"/>
              <p:cNvSpPr/>
              <p:nvPr/>
            </p:nvSpPr>
            <p:spPr>
              <a:xfrm>
                <a:off x="2730960" y="2128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Oval 5"/>
              <p:cNvSpPr/>
              <p:nvPr/>
            </p:nvSpPr>
            <p:spPr>
              <a:xfrm>
                <a:off x="2755440" y="321660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Oval 6"/>
              <p:cNvSpPr/>
              <p:nvPr/>
            </p:nvSpPr>
            <p:spPr>
              <a:xfrm>
                <a:off x="5285160" y="182376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7"/>
              <p:cNvSpPr/>
              <p:nvPr/>
            </p:nvSpPr>
            <p:spPr>
              <a:xfrm>
                <a:off x="5578200" y="269532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Oval 8"/>
              <p:cNvSpPr/>
              <p:nvPr/>
            </p:nvSpPr>
            <p:spPr>
              <a:xfrm>
                <a:off x="5299560" y="34304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Oval 9"/>
              <p:cNvSpPr/>
              <p:nvPr/>
            </p:nvSpPr>
            <p:spPr>
              <a:xfrm>
                <a:off x="3287160" y="378648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Oval 10"/>
              <p:cNvSpPr/>
              <p:nvPr/>
            </p:nvSpPr>
            <p:spPr>
              <a:xfrm>
                <a:off x="2672280" y="1288440"/>
                <a:ext cx="2926440" cy="2793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Text Box 11"/>
              <p:cNvSpPr/>
              <p:nvPr/>
            </p:nvSpPr>
            <p:spPr>
              <a:xfrm>
                <a:off x="4201560" y="91440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Rectangle 12"/>
              <p:cNvSpPr/>
              <p:nvPr/>
            </p:nvSpPr>
            <p:spPr>
              <a:xfrm>
                <a:off x="5320800" y="152388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Rectangle 13"/>
              <p:cNvSpPr/>
              <p:nvPr/>
            </p:nvSpPr>
            <p:spPr>
              <a:xfrm>
                <a:off x="5641920" y="259092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14"/>
              <p:cNvSpPr/>
              <p:nvPr/>
            </p:nvSpPr>
            <p:spPr>
              <a:xfrm>
                <a:off x="5413320" y="335304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7" name="Rectangle 15"/>
              <p:cNvSpPr/>
              <p:nvPr/>
            </p:nvSpPr>
            <p:spPr>
              <a:xfrm>
                <a:off x="4042080" y="411516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8" name="Rectangle 16"/>
              <p:cNvSpPr/>
              <p:nvPr/>
            </p:nvSpPr>
            <p:spPr>
              <a:xfrm>
                <a:off x="2975400" y="388656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9" name="Rectangle 17"/>
              <p:cNvSpPr/>
              <p:nvPr/>
            </p:nvSpPr>
            <p:spPr>
              <a:xfrm>
                <a:off x="2282040" y="312444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0" name="Rectangle 18"/>
              <p:cNvSpPr/>
              <p:nvPr/>
            </p:nvSpPr>
            <p:spPr>
              <a:xfrm>
                <a:off x="2246400" y="1905120"/>
                <a:ext cx="48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Oval 28"/>
              <p:cNvSpPr/>
              <p:nvPr/>
            </p:nvSpPr>
            <p:spPr>
              <a:xfrm>
                <a:off x="4208400" y="1248840"/>
                <a:ext cx="96480" cy="98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272" name="Straight Arrow Connector 79"/>
            <p:cNvCxnSpPr>
              <a:endCxn id="6261" idx="7"/>
            </p:cNvCxnSpPr>
            <p:nvPr/>
          </p:nvCxnSpPr>
          <p:spPr>
            <a:xfrm flipH="1">
              <a:off x="3368160" y="2742120"/>
              <a:ext cx="2255040" cy="10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3" name="Straight Arrow Connector 86"/>
            <p:cNvCxnSpPr>
              <a:stCxn id="6260" idx="1"/>
              <a:endCxn id="6257" idx="6"/>
            </p:cNvCxnSpPr>
            <p:nvPr/>
          </p:nvCxnSpPr>
          <p:spPr>
            <a:xfrm flipH="1" flipV="1">
              <a:off x="2850480" y="3265200"/>
              <a:ext cx="2462760" cy="1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4" name="Straight Arrow Connector 89"/>
            <p:cNvCxnSpPr>
              <a:stCxn id="6255" idx="0"/>
              <a:endCxn id="6257" idx="6"/>
            </p:cNvCxnSpPr>
            <p:nvPr/>
          </p:nvCxnSpPr>
          <p:spPr>
            <a:xfrm flipH="1" flipV="1">
              <a:off x="2852280" y="3264840"/>
              <a:ext cx="1286640" cy="76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5" name="Straight Arrow Connector 92"/>
            <p:cNvCxnSpPr/>
            <p:nvPr/>
          </p:nvCxnSpPr>
          <p:spPr>
            <a:xfrm flipV="1">
              <a:off x="3351600" y="1294560"/>
              <a:ext cx="888120" cy="245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6" name="Straight Arrow Connector 95"/>
            <p:cNvCxnSpPr>
              <a:stCxn id="6257" idx="7"/>
            </p:cNvCxnSpPr>
            <p:nvPr/>
          </p:nvCxnSpPr>
          <p:spPr>
            <a:xfrm flipV="1">
              <a:off x="2836800" y="1904400"/>
              <a:ext cx="2497680" cy="13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7" name="Straight Arrow Connector 100"/>
            <p:cNvCxnSpPr>
              <a:endCxn id="6262" idx="6"/>
            </p:cNvCxnSpPr>
            <p:nvPr/>
          </p:nvCxnSpPr>
          <p:spPr>
            <a:xfrm>
              <a:off x="2818800" y="2177640"/>
              <a:ext cx="2780280" cy="50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8" name="Straight Arrow Connector 103"/>
            <p:cNvCxnSpPr>
              <a:stCxn id="6271" idx="5"/>
            </p:cNvCxnSpPr>
            <p:nvPr/>
          </p:nvCxnSpPr>
          <p:spPr>
            <a:xfrm>
              <a:off x="4289760" y="1333080"/>
              <a:ext cx="1043640" cy="209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79" name="Straight Arrow Connector 107"/>
            <p:cNvCxnSpPr/>
            <p:nvPr/>
          </p:nvCxnSpPr>
          <p:spPr>
            <a:xfrm flipH="1">
              <a:off x="4190400" y="1904760"/>
              <a:ext cx="1199160" cy="217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280" name="Straight Arrow Connector 33"/>
          <p:cNvCxnSpPr>
            <a:endCxn id="6262" idx="4"/>
          </p:cNvCxnSpPr>
          <p:nvPr/>
        </p:nvCxnSpPr>
        <p:spPr>
          <a:xfrm flipH="1">
            <a:off x="4135320" y="1904760"/>
            <a:ext cx="1122840" cy="217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281" name="Straight Arrow Connector 35"/>
          <p:cNvCxnSpPr>
            <a:stCxn id="6262" idx="4"/>
          </p:cNvCxnSpPr>
          <p:nvPr/>
        </p:nvCxnSpPr>
        <p:spPr>
          <a:xfrm flipH="1" flipV="1">
            <a:off x="2819160" y="3276000"/>
            <a:ext cx="1316160" cy="805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grpSp>
        <p:nvGrpSpPr>
          <p:cNvPr id="6282" name="Group 19"/>
          <p:cNvGrpSpPr/>
          <p:nvPr/>
        </p:nvGrpSpPr>
        <p:grpSpPr>
          <a:xfrm>
            <a:off x="5694480" y="1030320"/>
            <a:ext cx="2486880" cy="860400"/>
            <a:chOff x="5694480" y="1030320"/>
            <a:chExt cx="2486880" cy="860400"/>
          </a:xfrm>
        </p:grpSpPr>
        <p:sp>
          <p:nvSpPr>
            <p:cNvPr id="6283" name="AutoShape 20"/>
            <p:cNvSpPr/>
            <p:nvPr/>
          </p:nvSpPr>
          <p:spPr>
            <a:xfrm>
              <a:off x="5694480" y="1030320"/>
              <a:ext cx="2392920" cy="860400"/>
            </a:xfrm>
            <a:prstGeom prst="wedgeRoundRectCallout">
              <a:avLst>
                <a:gd name="adj1" fmla="val -59592"/>
                <a:gd name="adj2" fmla="val 68555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Text Box 21"/>
            <p:cNvSpPr/>
            <p:nvPr/>
          </p:nvSpPr>
          <p:spPr>
            <a:xfrm>
              <a:off x="5806080" y="1104840"/>
              <a:ext cx="237528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alibri"/>
                </a:rPr>
                <a:t>What is the value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Calibri"/>
                </a:rPr>
                <a:t>key 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5" name="Picture 19" descr="underline_base"/>
          <p:cNvPicPr/>
          <p:nvPr/>
        </p:nvPicPr>
        <p:blipFill>
          <a:blip r:embed="rId1"/>
          <a:stretch/>
        </p:blipFill>
        <p:spPr>
          <a:xfrm>
            <a:off x="312840" y="762120"/>
            <a:ext cx="6850080" cy="152280"/>
          </a:xfrm>
          <a:prstGeom prst="rect">
            <a:avLst/>
          </a:prstGeom>
          <a:ln w="0">
            <a:noFill/>
          </a:ln>
        </p:spPr>
      </p:pic>
      <p:sp>
        <p:nvSpPr>
          <p:cNvPr id="6286" name="AutoShape 32"/>
          <p:cNvSpPr/>
          <p:nvPr/>
        </p:nvSpPr>
        <p:spPr>
          <a:xfrm>
            <a:off x="3200400" y="1143000"/>
            <a:ext cx="1096920" cy="609480"/>
          </a:xfrm>
          <a:prstGeom prst="wedgeRoundRectCallout">
            <a:avLst>
              <a:gd name="adj1" fmla="val 17439"/>
              <a:gd name="adj2" fmla="val 877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7" name="Straight Arrow Connector 40"/>
          <p:cNvCxnSpPr/>
          <p:nvPr/>
        </p:nvCxnSpPr>
        <p:spPr>
          <a:xfrm flipV="1">
            <a:off x="2971440" y="1904760"/>
            <a:ext cx="2134440" cy="305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288" name="Straight Arrow Connector 45"/>
          <p:cNvCxnSpPr/>
          <p:nvPr/>
        </p:nvCxnSpPr>
        <p:spPr>
          <a:xfrm flipV="1">
            <a:off x="2819160" y="2285640"/>
            <a:ext cx="1080" cy="8388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6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6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6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6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6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eer chur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90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Gill Sans MT"/>
              </a:rPr>
              <a:t>example: peer 5 abruptly leav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91" name="Group 42"/>
          <p:cNvGrpSpPr/>
          <p:nvPr/>
        </p:nvGrpSpPr>
        <p:grpSpPr>
          <a:xfrm>
            <a:off x="277920" y="814320"/>
            <a:ext cx="3721680" cy="3660480"/>
            <a:chOff x="277920" y="814320"/>
            <a:chExt cx="3721680" cy="3660480"/>
          </a:xfrm>
        </p:grpSpPr>
        <p:sp>
          <p:nvSpPr>
            <p:cNvPr id="6292" name="Oval 3"/>
            <p:cNvSpPr/>
            <p:nvPr/>
          </p:nvSpPr>
          <p:spPr>
            <a:xfrm>
              <a:off x="2105640" y="3929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Oval 4"/>
            <p:cNvSpPr/>
            <p:nvPr/>
          </p:nvSpPr>
          <p:spPr>
            <a:xfrm>
              <a:off x="746640" y="2028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5"/>
            <p:cNvSpPr/>
            <p:nvPr/>
          </p:nvSpPr>
          <p:spPr>
            <a:xfrm>
              <a:off x="771120" y="311652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Oval 6"/>
            <p:cNvSpPr/>
            <p:nvPr/>
          </p:nvSpPr>
          <p:spPr>
            <a:xfrm>
              <a:off x="3300840" y="172368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Oval 7"/>
            <p:cNvSpPr/>
            <p:nvPr/>
          </p:nvSpPr>
          <p:spPr>
            <a:xfrm>
              <a:off x="3594240" y="259524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Oval 8"/>
            <p:cNvSpPr/>
            <p:nvPr/>
          </p:nvSpPr>
          <p:spPr>
            <a:xfrm>
              <a:off x="3315600" y="33303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Oval 9"/>
            <p:cNvSpPr/>
            <p:nvPr/>
          </p:nvSpPr>
          <p:spPr>
            <a:xfrm>
              <a:off x="1302840" y="368640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Oval 10"/>
            <p:cNvSpPr/>
            <p:nvPr/>
          </p:nvSpPr>
          <p:spPr>
            <a:xfrm>
              <a:off x="687960" y="1188360"/>
              <a:ext cx="2926800" cy="279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Text Box 11"/>
            <p:cNvSpPr/>
            <p:nvPr/>
          </p:nvSpPr>
          <p:spPr>
            <a:xfrm>
              <a:off x="2217240" y="814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Rectangle 12"/>
            <p:cNvSpPr/>
            <p:nvPr/>
          </p:nvSpPr>
          <p:spPr>
            <a:xfrm>
              <a:off x="3436200" y="1652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Rectangle 13"/>
            <p:cNvSpPr/>
            <p:nvPr/>
          </p:nvSpPr>
          <p:spPr>
            <a:xfrm>
              <a:off x="3664800" y="2490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Rectangle 14"/>
            <p:cNvSpPr/>
            <p:nvPr/>
          </p:nvSpPr>
          <p:spPr>
            <a:xfrm>
              <a:off x="3436200" y="32529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Rectangle 15"/>
            <p:cNvSpPr/>
            <p:nvPr/>
          </p:nvSpPr>
          <p:spPr>
            <a:xfrm>
              <a:off x="2064960" y="40150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Rectangle 16"/>
            <p:cNvSpPr/>
            <p:nvPr/>
          </p:nvSpPr>
          <p:spPr>
            <a:xfrm>
              <a:off x="1006920" y="378648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Rectangle 17"/>
            <p:cNvSpPr/>
            <p:nvPr/>
          </p:nvSpPr>
          <p:spPr>
            <a:xfrm>
              <a:off x="301680" y="302436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Rectangle 18"/>
            <p:cNvSpPr/>
            <p:nvPr/>
          </p:nvSpPr>
          <p:spPr>
            <a:xfrm>
              <a:off x="277920" y="1805040"/>
              <a:ext cx="48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Oval 28"/>
            <p:cNvSpPr/>
            <p:nvPr/>
          </p:nvSpPr>
          <p:spPr>
            <a:xfrm>
              <a:off x="2224080" y="1148760"/>
              <a:ext cx="96480" cy="98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9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Straight Connector 24"/>
          <p:cNvSpPr/>
          <p:nvPr/>
        </p:nvSpPr>
        <p:spPr>
          <a:xfrm>
            <a:off x="3273480" y="3252960"/>
            <a:ext cx="228600" cy="18396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Straight Connector 26"/>
          <p:cNvSpPr/>
          <p:nvPr/>
        </p:nvSpPr>
        <p:spPr>
          <a:xfrm flipH="1">
            <a:off x="3196800" y="3252960"/>
            <a:ext cx="406440" cy="228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TextBox 28"/>
          <p:cNvSpPr/>
          <p:nvPr/>
        </p:nvSpPr>
        <p:spPr>
          <a:xfrm>
            <a:off x="4491000" y="544680"/>
            <a:ext cx="4427640" cy="63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ndling peer chu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may come and go (ch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nows address of its two succes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periodically ping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successors to check al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mmediate successor leaves, choose next successor as new immediat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4" name="Straight Arrow Connector 30"/>
          <p:cNvCxnSpPr>
            <a:stCxn id="6302" idx="1"/>
          </p:cNvCxnSpPr>
          <p:nvPr/>
        </p:nvCxnSpPr>
        <p:spPr>
          <a:xfrm flipH="1">
            <a:off x="3206160" y="2722680"/>
            <a:ext cx="448200" cy="265680"/>
          </a:xfrm>
          <a:prstGeom prst="straightConnector1">
            <a:avLst/>
          </a:prstGeom>
          <a:ln w="0">
            <a:noFill/>
          </a:ln>
        </p:spPr>
      </p:cxnSp>
      <p:pic>
        <p:nvPicPr>
          <p:cNvPr id="6315" name="Picture 24" descr="underline_base"/>
          <p:cNvPicPr/>
          <p:nvPr/>
        </p:nvPicPr>
        <p:blipFill>
          <a:blip r:embed="rId1"/>
          <a:stretch/>
        </p:blipFill>
        <p:spPr>
          <a:xfrm>
            <a:off x="438120" y="797040"/>
            <a:ext cx="26845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6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6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6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eer chur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17" name=""/>
          <p:cNvSpPr txBox="1"/>
          <p:nvPr/>
        </p:nvSpPr>
        <p:spPr>
          <a:xfrm>
            <a:off x="457200" y="4370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Gill Sans MT"/>
              </a:rPr>
              <a:t>example: peer 5 abruptly leav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er 4 detects peer 5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departure; makes 8 its immediate success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 asks 8 who its immediate successor is; makes 8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 immediate successor its second successo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8" name="Oval 3"/>
          <p:cNvSpPr/>
          <p:nvPr/>
        </p:nvSpPr>
        <p:spPr>
          <a:xfrm>
            <a:off x="2104920" y="3929040"/>
            <a:ext cx="96840" cy="100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Oval 4"/>
          <p:cNvSpPr/>
          <p:nvPr/>
        </p:nvSpPr>
        <p:spPr>
          <a:xfrm>
            <a:off x="746280" y="2028960"/>
            <a:ext cx="96840" cy="9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Oval 5"/>
          <p:cNvSpPr/>
          <p:nvPr/>
        </p:nvSpPr>
        <p:spPr>
          <a:xfrm>
            <a:off x="771480" y="3116160"/>
            <a:ext cx="96840" cy="9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Oval 6"/>
          <p:cNvSpPr/>
          <p:nvPr/>
        </p:nvSpPr>
        <p:spPr>
          <a:xfrm>
            <a:off x="3300480" y="1724040"/>
            <a:ext cx="96840" cy="9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Oval 7"/>
          <p:cNvSpPr/>
          <p:nvPr/>
        </p:nvSpPr>
        <p:spPr>
          <a:xfrm>
            <a:off x="3594240" y="2595600"/>
            <a:ext cx="96840" cy="9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Oval 9"/>
          <p:cNvSpPr/>
          <p:nvPr/>
        </p:nvSpPr>
        <p:spPr>
          <a:xfrm>
            <a:off x="1303200" y="3686040"/>
            <a:ext cx="95400" cy="100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Oval 10"/>
          <p:cNvSpPr/>
          <p:nvPr/>
        </p:nvSpPr>
        <p:spPr>
          <a:xfrm>
            <a:off x="687240" y="1189080"/>
            <a:ext cx="2927520" cy="279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Text Box 11"/>
          <p:cNvSpPr/>
          <p:nvPr/>
        </p:nvSpPr>
        <p:spPr>
          <a:xfrm>
            <a:off x="2216880" y="814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Rectangle 12"/>
          <p:cNvSpPr/>
          <p:nvPr/>
        </p:nvSpPr>
        <p:spPr>
          <a:xfrm>
            <a:off x="3436200" y="16527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Rectangle 13"/>
          <p:cNvSpPr/>
          <p:nvPr/>
        </p:nvSpPr>
        <p:spPr>
          <a:xfrm>
            <a:off x="3664800" y="24908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Rectangle 15"/>
          <p:cNvSpPr/>
          <p:nvPr/>
        </p:nvSpPr>
        <p:spPr>
          <a:xfrm>
            <a:off x="2064600" y="40147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Rectangle 16"/>
          <p:cNvSpPr/>
          <p:nvPr/>
        </p:nvSpPr>
        <p:spPr>
          <a:xfrm>
            <a:off x="1006560" y="37861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Rectangle 17"/>
          <p:cNvSpPr/>
          <p:nvPr/>
        </p:nvSpPr>
        <p:spPr>
          <a:xfrm>
            <a:off x="301680" y="30243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Rectangle 18"/>
          <p:cNvSpPr/>
          <p:nvPr/>
        </p:nvSpPr>
        <p:spPr>
          <a:xfrm>
            <a:off x="277920" y="18050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Oval 28"/>
          <p:cNvSpPr/>
          <p:nvPr/>
        </p:nvSpPr>
        <p:spPr>
          <a:xfrm>
            <a:off x="2224080" y="1149480"/>
            <a:ext cx="96840" cy="9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Straight Connector 63"/>
          <p:cNvSpPr/>
          <p:nvPr/>
        </p:nvSpPr>
        <p:spPr>
          <a:xfrm>
            <a:off x="2054160" y="111924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Straight Connector 65"/>
          <p:cNvSpPr/>
          <p:nvPr/>
        </p:nvSpPr>
        <p:spPr>
          <a:xfrm flipH="1">
            <a:off x="2130480" y="1194840"/>
            <a:ext cx="169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TextBox 28"/>
          <p:cNvSpPr/>
          <p:nvPr/>
        </p:nvSpPr>
        <p:spPr>
          <a:xfrm>
            <a:off x="4491000" y="544680"/>
            <a:ext cx="4427640" cy="63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andling peer chu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may come and go (ch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knows address of its two success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eer periodically ping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successors to check al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immediate successor leaves, choose next successor as new immediat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6" name="Straight Arrow Connector 30"/>
          <p:cNvCxnSpPr>
            <a:stCxn id="6327" idx="1"/>
          </p:cNvCxnSpPr>
          <p:nvPr/>
        </p:nvCxnSpPr>
        <p:spPr>
          <a:xfrm flipH="1">
            <a:off x="3206160" y="2722680"/>
            <a:ext cx="448200" cy="265680"/>
          </a:xfrm>
          <a:prstGeom prst="straightConnector1">
            <a:avLst/>
          </a:prstGeom>
          <a:ln w="0">
            <a:noFill/>
          </a:ln>
        </p:spPr>
      </p:cxnSp>
      <p:pic>
        <p:nvPicPr>
          <p:cNvPr id="6337" name="Picture 24" descr="underline_base"/>
          <p:cNvPicPr/>
          <p:nvPr/>
        </p:nvPicPr>
        <p:blipFill>
          <a:blip r:embed="rId1"/>
          <a:stretch/>
        </p:blipFill>
        <p:spPr>
          <a:xfrm>
            <a:off x="438120" y="797040"/>
            <a:ext cx="268452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6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642157-B459-476A-83C8-2532D72ED7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FT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5788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2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4673160" y="163656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43" name="Picture 5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2D8C21F-13ED-4A2D-A987-6AA2B95E7F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7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34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634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Text Box 26"/>
            <p:cNvSpPr/>
            <p:nvPr/>
          </p:nvSpPr>
          <p:spPr>
            <a:xfrm>
              <a:off x="1619280" y="3408120"/>
              <a:ext cx="1317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636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Text Box 26"/>
            <p:cNvSpPr/>
            <p:nvPr/>
          </p:nvSpPr>
          <p:spPr>
            <a:xfrm>
              <a:off x="5281560" y="3379680"/>
              <a:ext cx="1317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638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639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640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0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1516D1-80EE-4426-9F3D-6FC2289CF2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0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640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the data to th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erver receives the data and converts characters to upper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erver sends the modified data to the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client receives the modified data and displays the line on its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342E187-860B-407B-BC3C-040831AC62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1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6412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13" name="PlaceHolder 2"/>
          <p:cNvSpPr>
            <a:spLocks noGrp="1"/>
          </p:cNvSpPr>
          <p:nvPr>
            <p:ph/>
          </p:nvPr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ts val="2798"/>
              </a:lnSpc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641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641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641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642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642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643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643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74E4CA02-92EB-4193-9685-CB0F80B0F3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6441" name="Text Box 22"/>
          <p:cNvSpPr/>
          <p:nvPr/>
        </p:nvSpPr>
        <p:spPr>
          <a:xfrm>
            <a:off x="360" y="130572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Text Box 23"/>
          <p:cNvSpPr/>
          <p:nvPr/>
        </p:nvSpPr>
        <p:spPr>
          <a:xfrm>
            <a:off x="5162400" y="1301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6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6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2-08-27T10:46:00Z</dcterms:modified>
  <cp:revision>309</cp:revision>
  <dc:subject/>
  <dc:title>3rd Edition: Chapter 2</dc:title>
</cp:coreProperties>
</file>